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EA5735-2131-443A-ACD1-037941E6B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0BDB7-7401-40E3-A5B4-D4230C3B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87867-9488-46D0-AE3F-FBDCDE73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B144A-1185-4B4A-AA9F-C1C24D71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0F065-6F10-4966-BA2F-2389FA79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440" y="22860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78EF5-2073-4217-944A-3ED647F0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692E2-F33D-429F-8684-9D06C202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5EC34-11D8-481B-8C73-71581F86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C4664-E422-4425-908B-AAAF6D48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4F767-B8DA-4DCC-9D47-7E4AE507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8D60F6-5B1E-4C24-B75A-DC543153F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4DAE52-A86E-4267-A984-20877CD62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440" y="22860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3880" y="1752120"/>
            <a:ext cx="6934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AC6B-683D-4249-915E-596BE084BAF5}" type="slidenum"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image" Target="../media/image6.png"/><Relationship Id="rId4" Type="http://schemas.openxmlformats.org/officeDocument/2006/relationships/slide" Target="slide2.xml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image" Target="../media/image5.png"/><Relationship Id="rId4" Type="http://schemas.openxmlformats.org/officeDocument/2006/relationships/slide" Target="slide10.xml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120" y="1523520"/>
            <a:ext cx="5715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33"/>
                </a:solidFill>
                <a:latin typeface="隶书"/>
                <a:ea typeface="隶书"/>
              </a:rPr>
              <a:t>绿色蝈蝈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4792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隶书"/>
              </a:rPr>
              <a:t>法布尔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339840"/>
            <a:ext cx="8153280" cy="6041880"/>
          </a:xfrm>
          <a:prstGeom prst="rect">
            <a:avLst/>
          </a:prstGeom>
          <a:ln w="0">
            <a:noFill/>
          </a:ln>
        </p:spPr>
      </p:pic>
      <p:pic>
        <p:nvPicPr>
          <p:cNvPr id="120" name="back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772400" y="6421320"/>
            <a:ext cx="838080" cy="3081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522440" y="380880"/>
            <a:ext cx="4573440" cy="6248520"/>
          </a:xfrm>
          <a:prstGeom prst="rect">
            <a:avLst/>
          </a:prstGeom>
          <a:ln w="0">
            <a:noFill/>
          </a:ln>
        </p:spPr>
      </p:pic>
      <p:pic>
        <p:nvPicPr>
          <p:cNvPr id="122" name="back" descr=""/>
          <p:cNvPicPr/>
          <p:nvPr/>
        </p:nvPicPr>
        <p:blipFill>
          <a:blip r:embed="rId3"/>
          <a:stretch/>
        </p:blipFill>
        <p:spPr>
          <a:xfrm>
            <a:off x="7543800" y="5867280"/>
            <a:ext cx="838080" cy="3081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371600" y="380880"/>
            <a:ext cx="4191120" cy="6248520"/>
          </a:xfrm>
          <a:prstGeom prst="rect">
            <a:avLst/>
          </a:prstGeom>
          <a:ln w="0">
            <a:noFill/>
          </a:ln>
        </p:spPr>
      </p:pic>
      <p:pic>
        <p:nvPicPr>
          <p:cNvPr id="124" name="back" descr=""/>
          <p:cNvPicPr/>
          <p:nvPr/>
        </p:nvPicPr>
        <p:blipFill>
          <a:blip r:embed="rId3"/>
          <a:stretch/>
        </p:blipFill>
        <p:spPr>
          <a:xfrm>
            <a:off x="7315200" y="6019920"/>
            <a:ext cx="838080" cy="307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946840" y="457200"/>
            <a:ext cx="5461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黑体"/>
              </a:rPr>
              <a:t>齐白石《蝈蝈》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8076960" cy="6070320"/>
          </a:xfrm>
          <a:prstGeom prst="rect">
            <a:avLst/>
          </a:prstGeom>
          <a:ln w="0">
            <a:noFill/>
          </a:ln>
        </p:spPr>
      </p:pic>
      <p:pic>
        <p:nvPicPr>
          <p:cNvPr id="127" name="back" descr=""/>
          <p:cNvPicPr/>
          <p:nvPr/>
        </p:nvPicPr>
        <p:blipFill>
          <a:blip r:embed="rId3"/>
          <a:stretch/>
        </p:blipFill>
        <p:spPr>
          <a:xfrm>
            <a:off x="7696080" y="6400800"/>
            <a:ext cx="838440" cy="307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2120" y="3200400"/>
            <a:ext cx="1904760" cy="1447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62120" y="4876920"/>
            <a:ext cx="1904760" cy="1447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85800" y="990720"/>
            <a:ext cx="1676520" cy="609480"/>
          </a:xfrm>
          <a:prstGeom prst="bevel">
            <a:avLst>
              <a:gd name="adj" fmla="val 12500"/>
            </a:avLst>
          </a:prstGeom>
          <a:solidFill>
            <a:srgbClr val="d2a01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隶书"/>
              </a:rPr>
              <a:t>作者简介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19520" y="990720"/>
            <a:ext cx="1600200" cy="609480"/>
          </a:xfrm>
          <a:prstGeom prst="bevel">
            <a:avLst>
              <a:gd name="adj" fmla="val 12500"/>
            </a:avLst>
          </a:prstGeom>
          <a:solidFill>
            <a:srgbClr val="d2a01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隶书"/>
              </a:rPr>
              <a:t>整体感知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990720"/>
            <a:ext cx="1600200" cy="609480"/>
          </a:xfrm>
          <a:prstGeom prst="bevel">
            <a:avLst>
              <a:gd name="adj" fmla="val 12500"/>
            </a:avLst>
          </a:prstGeom>
          <a:solidFill>
            <a:srgbClr val="d2a01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隶书"/>
              </a:rPr>
              <a:t>探究思考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81680" y="990720"/>
            <a:ext cx="1676520" cy="609480"/>
          </a:xfrm>
          <a:prstGeom prst="bevel">
            <a:avLst>
              <a:gd name="adj" fmla="val 12500"/>
            </a:avLst>
          </a:prstGeom>
          <a:solidFill>
            <a:srgbClr val="d2a01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隶书"/>
              </a:rPr>
              <a:t>拓展练习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6553080" y="3200400"/>
            <a:ext cx="2041560" cy="3124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3505320" y="3200400"/>
            <a:ext cx="2286000" cy="3124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3855960" cy="5257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419720" y="1828800"/>
            <a:ext cx="4267080" cy="1747440"/>
          </a:xfrm>
          <a:prstGeom prst="rect">
            <a:avLst/>
          </a:prstGeom>
          <a:noFill/>
          <a:ln cap="rnd" w="38160">
            <a:solidFill>
              <a:srgbClr val="ffdf8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亨利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·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法布尔（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1823—1915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），法国著名科学家、科普作家。生于农民家庭，从小生活极其穷困，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岁考入师范学校，毕业后谋得初中数学教师的职位。一次带学生上户外几何课，忽然在石块上发现了垒筑蜂和蜂窝，从此“虫心”焕发，立志做一个为虫子写历史的人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著作：《昆虫记》。　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838080"/>
            <a:ext cx="2438280" cy="581400"/>
          </a:xfrm>
          <a:prstGeom prst="rect">
            <a:avLst/>
          </a:prstGeom>
          <a:noFill/>
          <a:ln w="28440">
            <a:solidFill>
              <a:srgbClr val="e4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4a800"/>
                </a:solidFill>
                <a:latin typeface="黑体"/>
                <a:ea typeface="黑体"/>
              </a:rPr>
              <a:t>亨利</a:t>
            </a:r>
            <a:r>
              <a:rPr b="0" lang="zh-CN" sz="3200" spc="-1" strike="noStrike">
                <a:solidFill>
                  <a:srgbClr val="e4a800"/>
                </a:solidFill>
                <a:latin typeface="黑体"/>
                <a:ea typeface="黑体"/>
              </a:rPr>
              <a:t>·</a:t>
            </a:r>
            <a:r>
              <a:rPr b="0" lang="zh-CN" sz="3200" spc="-1" strike="noStrike">
                <a:solidFill>
                  <a:srgbClr val="e4a800"/>
                </a:solidFill>
                <a:latin typeface="黑体"/>
                <a:ea typeface="黑体"/>
              </a:rPr>
              <a:t>法布尔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09480" y="1904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《昆虫记》是法布尔以毕生的时间与精力，详细观察了昆虫的生活和它们为了生活以及繁衍种族所进行的斗争，然后以其观察所得写成详细确切的笔记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《昆虫记》共十册，每册包含若干章，每章详细、深刻地描绘一种或几种昆虫的生活：蜘蛛、蜜蜂、螳螂、蝎子、蝉、甲虫、蟋蟀等等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《昆虫记》不仅充满着对生命的敬畏之情，更蕴含着探求真相、追求真理的精神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《昆虫记》第一册于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1879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年问世。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1910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年，当《昆虫记》第十册问世时，法布尔已经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86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岁了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762120"/>
            <a:ext cx="2438640" cy="581400"/>
          </a:xfrm>
          <a:prstGeom prst="rect">
            <a:avLst/>
          </a:prstGeom>
          <a:noFill/>
          <a:ln w="28440">
            <a:solidFill>
              <a:srgbClr val="e4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4a800"/>
                </a:solidFill>
                <a:latin typeface="黑体"/>
                <a:ea typeface="黑体"/>
              </a:rPr>
              <a:t>《昆虫记》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6" name="back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21400" y="5943600"/>
            <a:ext cx="960480" cy="353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23880" y="1371600"/>
            <a:ext cx="647712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绿色蝈蝈外表有哪些</a:t>
            </a:r>
            <a:r>
              <a:rPr b="0" lang="zh-CN" sz="2400" spc="-1" strike="noStrike" u="sng">
                <a:solidFill>
                  <a:srgbClr val="cc3300"/>
                </a:solidFill>
                <a:uFillTx/>
                <a:latin typeface="黑体"/>
                <a:ea typeface="黑体"/>
              </a:rPr>
              <a:t>特征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? </a:t>
            </a:r>
            <a:br>
              <a:rPr sz="2400"/>
            </a:b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作者主要写了绿色蝈蝈的哪些</a:t>
            </a:r>
            <a:r>
              <a:rPr b="0" lang="zh-CN" sz="2400" spc="-1" strike="noStrike" u="sng">
                <a:solidFill>
                  <a:srgbClr val="cc3300"/>
                </a:solidFill>
                <a:uFillTx/>
                <a:latin typeface="黑体"/>
                <a:ea typeface="黑体"/>
              </a:rPr>
              <a:t>习性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?  </a:t>
            </a:r>
            <a:br>
              <a:rPr sz="2400"/>
            </a:b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69240" y="91440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9b113"/>
                </a:solidFill>
                <a:latin typeface="黑体"/>
                <a:ea typeface="黑体"/>
              </a:rPr>
              <a:t>朗读课文，感知课文内容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66680" y="548640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蝈蝈的习性：写了蝈蝈的叫声和食性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25146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蝈蝈的外形特征：这种昆虫非常漂亮，浑身嫩绿，侧面有两条淡白色的丝带，身材优美，苗条匀称，两片大翼轻盈如纱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4038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观察蝈蝈：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809880" y="3846600"/>
            <a:ext cx="1295640" cy="973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905120" y="259092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特征：漂亮、嫩绿、苗条、匀称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42670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习性：叫声—柔和，捕蝉—为食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819520"/>
            <a:ext cx="533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绿色蝈蝈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162920" y="274320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2743200"/>
            <a:ext cx="152280" cy="1905120"/>
          </a:xfrm>
          <a:custGeom>
            <a:avLst/>
            <a:gdLst>
              <a:gd name="textAreaLeft" fmla="*/ 97200 w 152280"/>
              <a:gd name="textAreaRight" fmla="*/ 15264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43760" y="2743200"/>
            <a:ext cx="10335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黑体"/>
              </a:rPr>
              <a:t>拟人，生动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1068480"/>
            <a:ext cx="1523880" cy="581400"/>
          </a:xfrm>
          <a:prstGeom prst="rect">
            <a:avLst/>
          </a:prstGeom>
          <a:noFill/>
          <a:ln w="28440">
            <a:solidFill>
              <a:srgbClr val="e4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4a800"/>
                </a:solidFill>
                <a:latin typeface="黑体"/>
                <a:ea typeface="黑体"/>
              </a:rPr>
              <a:t>板  书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0" name="back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21400" y="5943600"/>
            <a:ext cx="960480" cy="3538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62120" y="9144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9b113"/>
                </a:solidFill>
                <a:latin typeface="宋体"/>
                <a:ea typeface="黑体"/>
              </a:rPr>
              <a:t>1.</a:t>
            </a:r>
            <a:r>
              <a:rPr b="0" lang="zh-CN" sz="3200" spc="-1" strike="noStrike">
                <a:solidFill>
                  <a:srgbClr val="e9b113"/>
                </a:solidFill>
                <a:latin typeface="宋体"/>
                <a:ea typeface="黑体"/>
              </a:rPr>
              <a:t>再读课文，对课文内容提出见解或疑问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4000680"/>
            <a:ext cx="76960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9b113"/>
                </a:solidFill>
                <a:latin typeface="黑体"/>
                <a:ea typeface="黑体"/>
              </a:rPr>
              <a:t>3.</a:t>
            </a:r>
            <a:r>
              <a:rPr b="0" lang="zh-CN" sz="3200" spc="-1" strike="noStrike">
                <a:solidFill>
                  <a:srgbClr val="e9b113"/>
                </a:solidFill>
                <a:latin typeface="黑体"/>
                <a:ea typeface="黑体"/>
              </a:rPr>
              <a:t>探究思考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(1) 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蝈蝈的叫声非常的优美，但是蝈蝈的发生器官与人的发生器官有何不同？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(2) 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如何看待动物中的同类相食这种现象？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09360" y="1714680"/>
            <a:ext cx="43376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9b113"/>
                </a:solidFill>
                <a:latin typeface="宋体"/>
                <a:ea typeface="黑体"/>
              </a:rPr>
              <a:t>2.</a:t>
            </a:r>
            <a:r>
              <a:rPr b="0" lang="zh-CN" sz="3200" spc="-1" strike="noStrike">
                <a:solidFill>
                  <a:srgbClr val="e9b113"/>
                </a:solidFill>
                <a:latin typeface="宋体"/>
                <a:ea typeface="黑体"/>
              </a:rPr>
              <a:t>品味语言，说一说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(1)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你最喜欢文章中哪个段落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?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为什么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?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(2)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你最喜欢哪个词语或哪个句子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?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为什么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?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4" name="back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21400" y="5943600"/>
            <a:ext cx="960480" cy="353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14400" y="2743200"/>
            <a:ext cx="73915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请同学们用生动的语言说说自己喜欢的一种  </a:t>
            </a:r>
            <a:br>
              <a:rPr sz="2800"/>
            </a:b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  小动物。 </a:t>
            </a: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可运用拟人或比喻等方法</a:t>
            </a: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) </a:t>
            </a:r>
            <a:br>
              <a:rPr sz="2800"/>
            </a:b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读读法布尔的《昆虫记》节选本。 </a:t>
            </a:r>
            <a:br>
              <a:rPr sz="2800"/>
            </a:b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1068480"/>
            <a:ext cx="1905120" cy="581400"/>
          </a:xfrm>
          <a:prstGeom prst="rect">
            <a:avLst/>
          </a:prstGeom>
          <a:noFill/>
          <a:ln w="28440">
            <a:solidFill>
              <a:srgbClr val="e4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4a800"/>
                </a:solidFill>
                <a:latin typeface="黑体"/>
                <a:ea typeface="黑体"/>
              </a:rPr>
              <a:t>拓展练习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09480" y="376200"/>
            <a:ext cx="8001000" cy="6024600"/>
          </a:xfrm>
          <a:prstGeom prst="rect">
            <a:avLst/>
          </a:prstGeom>
          <a:ln w="0">
            <a:noFill/>
          </a:ln>
        </p:spPr>
      </p:pic>
      <p:pic>
        <p:nvPicPr>
          <p:cNvPr id="118" name="back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772400" y="6421320"/>
            <a:ext cx="838080" cy="308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9T01:43:05Z</dcterms:created>
  <dc:creator>wutao</dc:creator>
  <dc:description/>
  <dc:language>en-US</dc:language>
  <cp:lastModifiedBy>ymr</cp:lastModifiedBy>
  <dcterms:modified xsi:type="dcterms:W3CDTF">2006-09-06T01:23:14Z</dcterms:modified>
  <cp:revision>101</cp:revision>
  <dc:subject/>
  <dc:title>绿 色 蝈 蝈</dc:title>
</cp:coreProperties>
</file>