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9.jpeg" ContentType="image/jpeg"/>
  <Override PartName="/ppt/media/image8.png" ContentType="image/png"/>
  <Override PartName="/ppt/media/image6.jpeg" ContentType="image/jpeg"/>
  <Override PartName="/ppt/media/image11.gif" ContentType="image/gif"/>
  <Override PartName="/ppt/media/image19.png" ContentType="image/png"/>
  <Override PartName="/ppt/media/image16.gif" ContentType="image/gif"/>
  <Override PartName="/ppt/media/image4.jpeg" ContentType="image/jpeg"/>
  <Override PartName="/ppt/media/image17.png" ContentType="image/png"/>
  <Override PartName="/ppt/media/image14.gif" ContentType="image/gif"/>
  <Override PartName="/ppt/media/image1.jpeg" ContentType="image/jpeg"/>
  <Override PartName="/ppt/media/image20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2.gif" ContentType="image/gif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9FD-8AFB-483C-B872-8C898B56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35E-1C3B-46B2-902F-9F41F5AA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5B3-93A3-492C-8F54-5F0B47C8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E31-CF5B-4FF9-B0D5-36B25CE3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68B-BE4E-47D6-833B-757670DF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40A-C402-47F7-A27F-E9426671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408-0E91-4EB6-A3E4-8A1706C3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83A-0C49-4958-BF29-DD6FAB49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F0D-A92F-4A44-B8A5-B39AB9A7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8D3-880A-40CA-91D6-85EE6757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2F8-E6B5-46E3-9982-C6CE9445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485-33AF-4E8C-BB1E-7BBAFD0A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4EDC-6233-427F-80A9-034678B27C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914400"/>
            <a:ext cx="5257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绿色蝈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2" name="00001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218124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这种昆虫非常漂亮，浑身嫩绿，侧面有两条淡白色的丝带，身材优美，苗条匀称，两片大翼轻盈如纱。</a:t>
            </a:r>
            <a:br>
              <a:rPr sz="4400"/>
            </a:b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讲讲你最喜爱的小动物，看谁抓住特点讲得又具体又生动，富有吸引力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yts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411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733920" y="457200"/>
            <a:ext cx="4495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联系生活，自主表达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果然，一大群口干舌燥的家伙在东张西望地转悠着。它们发现了这口井，井边渗出来的汁液把它暴露了。这群家伙一拥而上，开始还有一点儿小心翼翼，只是舔舔渗出来的汁液。我看到匆忙赶到甜蜜的井口边，有胡蜂、苍蝇、球螋、泥蜂、蛛蜂、金匠花金龟，最多的是蚂蚁。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那些个子小的为了走近清泉，便钻到蝉的肚子下，蝉宽厚地抬起爪子，让这些不速之客自由通过；那些大一点儿的昆虫，不耐烦地跺着脚，迅速地吸一口就退开，到旁边的树枝上去兜一圈，然后更大胆地回来。它们越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贪婪了，刚才还有所收敛，现在已经变成一群乱哄哄的侵略者，一心要把开源引水的凿井人从泉水边赶走。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   在这群强盗中，最不罢休的是蚂蚁。我曾看见过它们一点一点儿地乱咬蝉的爪尖，逮着正被它们拉扯的蝉的翅尖儿，爬到蝉背上，挠着蝉的触角。一只大胆的蚂蚁就在我的眼皮下，竟然抓住蝉的吸管，拼命想把它拔出来。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这个巨人给这些小矮子烦得没了耐心，终于放弃了水井。它朝这群拦路抢劫的家伙撒了一泡尿逃走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 rot="5400000">
            <a:off x="-990360" y="198108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积累掌握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1295280"/>
            <a:ext cx="7010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篝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火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gōu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  喧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嚣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xiāo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 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静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谧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mì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   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篡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夺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cuàn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贪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婪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lán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  和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睦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mù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</a:t>
            </a:r>
            <a:br>
              <a:rPr sz="4400"/>
            </a:br>
            <a:br>
              <a:rPr sz="4400"/>
            </a:b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妒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忌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dù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   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劫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掠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jié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蝈蝈_4~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38080" y="4648320"/>
            <a:ext cx="32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知道吗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81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</a:rPr>
              <a:t>用你自己喜欢的方式读课文，看看通过阅读你都知道了关于蝈蝈的哪些内容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994p63-5" descr=""/>
          <p:cNvPicPr/>
          <p:nvPr/>
        </p:nvPicPr>
        <p:blipFill>
          <a:blip r:embed="rId2"/>
          <a:stretch/>
        </p:blipFill>
        <p:spPr>
          <a:xfrm>
            <a:off x="5410080" y="4146480"/>
            <a:ext cx="3124440" cy="252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蝈蝈：体长在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40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毫米左右，触角丝状，通常超过体长。覆翅膜质，较脆弱，前缘向下方倾斜，一般以左翅覆于右翅之上。栖息于树上的种类为绿色，无翅的地栖种类通常色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62520" y="4495680"/>
            <a:ext cx="4114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小小资料库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2" name="01" descr=""/>
          <p:cNvPicPr/>
          <p:nvPr/>
        </p:nvPicPr>
        <p:blipFill>
          <a:blip r:embed="rId2"/>
          <a:stretch/>
        </p:blipFill>
        <p:spPr>
          <a:xfrm>
            <a:off x="838080" y="5105520"/>
            <a:ext cx="1752840" cy="13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114800" y="1371600"/>
            <a:ext cx="358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合作交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8120" y="2743200"/>
            <a:ext cx="5410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再读课文，看看文中的哪些语句最吸引你？并谈谈你喜欢这些语句的原因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1" descr=""/>
          <p:cNvPicPr/>
          <p:nvPr/>
        </p:nvPicPr>
        <p:blipFill>
          <a:blip r:embed="rId4"/>
          <a:stretch/>
        </p:blipFill>
        <p:spPr>
          <a:xfrm>
            <a:off x="2895480" y="4952880"/>
            <a:ext cx="1067040" cy="87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523880" y="53352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合作交流，共同探究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</a:rPr>
              <a:t>品味语言：用——在文中画出拟人句，说一说它抓住了蝈蝈的什么特征？这样写有什么好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q4" descr=""/>
          <p:cNvPicPr/>
          <p:nvPr/>
        </p:nvPicPr>
        <p:blipFill>
          <a:blip r:embed="rId2"/>
          <a:stretch/>
        </p:blipFill>
        <p:spPr>
          <a:xfrm>
            <a:off x="6858000" y="5638680"/>
            <a:ext cx="1981080" cy="914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0:51:34Z</dcterms:created>
  <dc:creator>wutao</dc:creator>
  <dc:description/>
  <dc:language>en-US</dc:language>
  <cp:lastModifiedBy>ymr</cp:lastModifiedBy>
  <dcterms:modified xsi:type="dcterms:W3CDTF">2006-09-06T01:24:20Z</dcterms:modified>
  <cp:revision>101</cp:revision>
  <dc:subject/>
  <dc:title>PowerPoint 演示文稿</dc:title>
</cp:coreProperties>
</file>