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307-1A88-4FA2-B1F0-FFE66F5F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84C-37A0-400A-ABE2-14553E9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90F-CCB0-4FAB-A20E-566D523B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50C-2BC4-415D-BFA3-9FAB8771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F0E6-C86E-4A0C-AA9F-E16EBAFE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E1B6-7E4C-4CE2-99FA-C8883E1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C155-57EF-40A4-BA28-7F2F415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DCDD-04C0-4940-A7B9-172D6D2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B2D-D277-4BFE-A472-95307353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F00-E776-4F4F-9FC3-6F1EDF1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1FA-B793-46D4-9230-72489F0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1F9-0E34-41DD-9E1B-9F66DA3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A3AE-F61F-40E5-AFDA-C1BD984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9EC-99C1-43FD-95C4-9FA6E6A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802-C839-4B3C-A554-DD149B6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2C59-52A3-4C49-8874-E24B504C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693F-5C3B-4E3E-A3D9-16A29886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288-9E93-4ED6-BD89-DE62499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385-82D1-4189-8AA8-1206341C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CB0-BA64-4EED-B9A4-0DAE13B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74B-8F5F-41C5-89A7-E73D54D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3F0-012B-4DEB-86F6-311FDF8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2D2-75AB-4888-AE8B-75B7138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A63-4126-4817-9D27-F4C8CEF9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FC2-BE9F-486D-B9BB-4D947270FFF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940C-A0DC-49D3-89A9-50DBD2CF838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3371" t="0" r="9051" b="124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2895480"/>
            <a:ext cx="4343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8 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152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[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国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]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布尔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95640" y="1989000"/>
            <a:ext cx="576108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再见</a:t>
            </a:r>
            <a:endParaRPr b="0" lang="en-US" sz="44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昆虫记" descr=""/>
          <p:cNvPicPr/>
          <p:nvPr/>
        </p:nvPicPr>
        <p:blipFill>
          <a:blip r:embed="rId1"/>
          <a:srcRect l="0" t="0" r="0" b="33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04920"/>
            <a:ext cx="86868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一、法布尔与《昆虫记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——荒石园。年复一年，他守着心爱的荒园，开足生命的马力，不知疲倦地从事独具特色的昆虫学研究，把劳动成果写进一卷又一卷的《昆虫记》。他就是这样，孤独、欢欣、清苦、平静地度过了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《昆虫记》主体内容集中在昆虫学问题上，同时收入一些讲述经历、回忆往事的传记性文章，若干解决理论问题的议论，以及少量带科普知识性的文字。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法布尔在全十卷精装本《昆虫记》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月的一天，这位以昆虫为琴拨响人类命运颤音的巨人逝世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蝈蝈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0948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蝈蝈图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蝗虫2" descr="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蝗虫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蝈蝈" descr=""/>
          <p:cNvPicPr/>
          <p:nvPr/>
        </p:nvPicPr>
        <p:blipFill>
          <a:blip r:embed="rId1"/>
          <a:srcRect l="7890" t="0" r="12576" b="204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蝈蝈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——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8098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——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9079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五、写一篇观察昆虫的日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>wutao</dc:creator>
  <dc:description/>
  <dc:language>en-US</dc:language>
  <cp:lastModifiedBy>a</cp:lastModifiedBy>
  <dcterms:modified xsi:type="dcterms:W3CDTF">2004-12-16T05:35:30Z</dcterms:modified>
  <cp:revision>100</cp:revision>
  <dc:subject/>
  <dc:title>PowerPoint 演示文稿</dc:title>
</cp:coreProperties>
</file>