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D07-45D7-4454-9A41-FECE3260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BBE-B9E4-427C-BCC9-F12D56D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DC6-0B7A-4C5B-9F25-1ACA8E43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CE3-55EE-4ADB-A42C-DE9A864E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3544-F452-4896-B50A-F4BFE7B9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3E33E-2B00-455E-95D7-B5B61D95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5F122-2CEA-431D-9930-A3067459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921A-F5C3-4514-84B9-0B3CA1D3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37C36-3D99-4727-A7CF-13688ABA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2C5D6-EB71-46D9-B2AA-018677C7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F4AAC-25CD-4559-9463-943C0E94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724-C559-4B1C-A1C5-0254E01D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A6830-F4BF-444E-847D-418DA23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35AE9-FF1D-47BA-9118-1B4C74C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5DC6D-6873-4DD8-A070-885F0E5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73B5-5689-4270-B292-4F9A5678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C1351-3399-4980-AA7A-4B77C617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B38-24E8-456F-98F3-0290F02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A20-7C66-4F31-B464-744EAE5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8A7-883B-4EE8-8A21-91631A6C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F84-1B17-4722-BB72-6D106022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2B1-97DF-4444-91BE-89DAB33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F5D-E9D6-4267-8C9C-0CA8CD09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F94-19A3-4CA6-9AC6-9F00E618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229-6446-470C-8A01-85E262790D0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AA3C-E25C-410A-9604-B79C47D6AA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640" y="765000"/>
            <a:ext cx="446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绿色蝈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160720" cy="38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32000" y="1484280"/>
            <a:ext cx="26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作者介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57720"/>
            <a:ext cx="62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56536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亨利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法布尔（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823—1915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法国著名科学家，科普作家。出生于农民家庭，从小生活极其穷困，作过中学教师，靠业余自学，花十二年的时间，先后取得业士、双学士和博士学位，中学教书二十余年兢兢业业，同时业余观察研究昆虫及植物，发表过非常出色的论文，得到达尔文的肯定，帝国教育部奖励他，但他想“登上大学讲台”的梦始终没有实现，开辟独立的昆虫学实验室的愿望始终得不到支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法布尔是第一位在自然环境中研究昆虫的科学家，他穷毕生之力深入昆虫世界，在自然环境中对昆虫进行观察与实验，真实地记录下昆虫的本能与习性，著成了《昆虫记》这部昆虫学巨著。这部巨著在法国自然科学史与文学史上都有它的地位。《昆虫记》作者被当时法国与国际学术界誉为“动物心理学的创导人”。在晚年法布尔出版了《昆虫记》最后几卷，使他不但在法国赢得众多读者，即使在欧洲各国，在全世界《昆虫记》作者的大名也已为广大读者所熟悉。文学界尊称他为“昆虫世界的维吉尔”，法国学术界和文学界推荐法布尔为诺贝尔文学奖的候选人。可惜没有等到诺贝尔委员会下决心授予他这仪大奖，这位歌颂昆虫的大诗人已经瞑目长逝了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487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《昆虫记》被译成许多种文字出版。他被誉为“昆虫诗人”，我国也翻译出版了他的大量作品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《昆虫记》是法布尔以毕生的时间与精力，详细观察了昆虫的生活和为生活以及繁衍种族所进行的斗争，然后以其观察所得记入详细确切的笔记，最后编写成书。《昆虫记》十大册，每册包含若干章，每章详细、深刻地描绘一种或几种昆虫的生活：蜘蛛、蜜蜂、螳螂、蝎子、蝉、甲虫、蟋蟀等等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7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二、观看蝈蝈图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1981080"/>
            <a:ext cx="76327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2619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029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99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0372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三、自读课文，思考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本文的说明对象是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060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文章着重从哪几方面来介绍该说明对象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557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蝈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7082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从蝈蝈的叫声和食物特性两方面来介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284640"/>
            <a:ext cx="103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作者用什么方法引出说明对象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400536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第一段并没有写蝈蝈，而是写在别人欢度国庆的日子里，自己独自一人去观察昆虫。“独自一人”说明作者对他所从事的事业是非常执著的。第二段写蝉在夜晚休息，它的一声哀号引出了本文的主人公——蝈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四、探究课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83664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找出文中描写蝈蝈声音的关键语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365720"/>
            <a:ext cx="78897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找出文中能体现蝈蝈外形特征的语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205000"/>
            <a:ext cx="79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997360"/>
            <a:ext cx="684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56536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1700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蝈蝈的声音是“窃窃自语”，“像是滑轮的响声”，“又像是干皱的薄膜隐隐约约的作响”，声音“喑哑”“尖锐”“短促”“清脆”。当四周的蛙声和其他虫鸣沉寂时，蝈蝈的声音则显得“非常柔和”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515772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这种昆虫非常漂亮，浑身嫩绿，侧面有两条淡白色的丝带，身材优美，苗条匀称，两片大翼轻盈如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61136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找出文中运用拟人手法的语句，并说说其作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52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如：“蝈蝈在窃窃自语”　“蝈蝈酷爱甜食”　“蝈蝈是彼此十分和睦地共处在一起的”等都运用了拟人手法。拟人手法的运用，使得文章自然、亲切，增强了可读性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68640"/>
            <a:ext cx="1238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文中多处通过比较来写蝈蝈，请找出这样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语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221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比如在写蝈蝈的叫声时，拿蝉的叫声来作比较；写它追捕蝉时，拿鹰来作比较；写它同类相食时，拿螳螂来作比较。这些比较，既突出了蝈蝈的习性，又说明了作者对各种昆虫的习性了如指掌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3:22:31Z</dcterms:created>
  <dc:creator>wutao</dc:creator>
  <dc:description/>
  <dc:language>en-US</dc:language>
  <cp:lastModifiedBy>a</cp:lastModifiedBy>
  <dcterms:modified xsi:type="dcterms:W3CDTF">2004-12-16T05:36:07Z</dcterms:modified>
  <cp:revision>100</cp:revision>
  <dc:subject/>
  <dc:title>一、作者介绍</dc:title>
</cp:coreProperties>
</file>