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990-812D-4BFB-BDE4-118A1A1E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8E1-00CC-4AAB-B26C-F0C8B5C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535-F225-41C4-A18F-700BFFCC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214-485F-4DF0-8253-47D302BC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7BE-D308-46BB-AC02-8723E45A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6B5-980E-48E1-95F8-E2E6310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504-238C-4B7D-8433-54CF4CE8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487-A14B-465F-B881-64A3F4DA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AE8-FA6A-4956-A7D4-8F45040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F7B-E230-4DA8-9260-3A39EAA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808-C94B-4522-A800-B0A47512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6B2-5080-4AF2-AF02-47FE11EA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FFC1-7DBE-4974-B814-61B2F6A6D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0880"/>
            <a:ext cx="449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 Black"/>
                <a:ea typeface="隶书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8142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用快速阅读，理解课文内容并简洁概括要点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抓住事物特点去观察、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体会生动传神的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1840" y="566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“读一读，写一写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“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“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5989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7752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40" name="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—— 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—— 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——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9720" y="1739880"/>
            <a:ext cx="1707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《辞海》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“哥哥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594360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565452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75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《昆虫记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7920"/>
            <a:ext cx="86868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《昆虫记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昆虫记》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《昆虫记》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wutao</dc:creator>
  <dc:description/>
  <dc:language>en-US</dc:language>
  <cp:lastModifiedBy>a</cp:lastModifiedBy>
  <dcterms:modified xsi:type="dcterms:W3CDTF">2004-12-16T05:36:40Z</dcterms:modified>
  <cp:revision>100</cp:revision>
  <dc:subject/>
  <dc:title>幻灯片 1</dc:title>
</cp:coreProperties>
</file>