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45F-2F33-4BEA-844C-AAAFB50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812-7F3A-4A4C-B30E-E68617F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B3D-7114-44BC-8FC4-1C2B5201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F26-21ED-4757-9069-AE854683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A498-D9A2-4310-8274-FF9368B9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624C-4D44-42B0-AA6C-59A089C8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E9D8-82B6-48CE-B877-E945503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D2E2-AE56-48B4-8CC2-4BA97BA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889-9733-47ED-B9AE-BDA1CBB7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05E-8095-4349-87B3-C720F4D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E71-EE6D-46C1-93F6-E38AFCB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950-DCFC-4949-A876-B4843D16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978A-84F0-43B0-AE83-78B882D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370D-5B19-4FEA-9705-D078CB3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4FA0-1787-41EE-A50B-2176B5FF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9BC7-7218-4286-964F-0EA5B48A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145-11DC-4A78-9C74-EE0BFCC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186-0244-45F7-B8DA-DB1DE72B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436-D70F-4838-AEBE-49F99F8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43F-F94E-4076-9601-238BBB72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352-3413-4767-8748-9AB5C126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421-B044-4619-966C-374A48E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D01-3EF7-4E0A-8B8F-A374F86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AC-1F35-4569-8162-6C69D2E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55D3-A382-4F85-B1D9-CB57C3708C4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D414-A0CB-4264-9FD9-EB4F72F58F4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72640" y="476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绿色蝈蝈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86360" y="1998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法布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454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17160" y="17002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，并找出自己认为最精彩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句子或段落做简要分析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620640"/>
            <a:ext cx="841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速阅读课文，筛选关键信息，理解课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１）绿色蝈蝈的外表有什么特征？绿色蝈蝈有哪些习性？作者主要写了哪个方面的习性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２）作者不断变换对绿色蝈蝈的称呼，找出这些称呼，说说作者在什么情况下用什么称呼，这样写有什么效果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25840" y="-57240"/>
            <a:ext cx="5708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生合作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作者用什么方法引出蝈蝈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作者是如何知道蝈蝈喜欢吃什么事物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３）文中多处运用拟人手法，试结合具体例子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这样写的好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４）研读课文第９段，归纳这段文字说明了蝈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哪方面的习性，说明蝈蝈属于（Ａ食肉　Ｂ食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杂食）性昆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５）第９段运用了什么说明方法，有何好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６）《辞海》中有关蝈蝈的条目是这样的：“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，昆虫。螽斯发一种。短翅，腹大，雄的前翅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可摩擦发声。吃植物的嫩叶和花，危害农作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有称之为”哥哥“。就这段文字与课文比较，你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本文的笔法有何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280" y="26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猜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184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3400" y="98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飞贼，武器是针，抽别人血，养自己身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66640" y="8380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蚊子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6120" y="177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诸葛亮，独坐军中帐，摆成八卦阵，专抓飞来将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66640" y="17017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蜘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77400" y="2565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他是条牛，无法拉车走，说他力气小，却能背屋跑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65920" y="240192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蜗牛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51320" y="32130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条小小虫，自己做灯笼，躲在灯笼里，变个飞仙女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4640" y="304956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7400" y="4149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天草里住，晚上空中游，金光闪闪动，见尾不见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37200" y="398628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02160" y="50846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长身体两排脚，阴湿暗地是家窝，剧毒咬人难忍痛，治病倒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中药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6640" y="55911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蜈蚣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47628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法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823—19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国近代杰出的昆虫学家，著名科普读物作家。早年家境贫困，曾给人家打短工放鸭子；以后又先后卖过柠檬，当过小学教员，研究过数学，但他的兴趣始终在生物学方面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他在埃维诺中学当教师时，几乎把休息日的时间，完全用在对生物的研究上。当时的法国教育部长曾邀他到巴黎，授予他“荣誉勋章”，还引他去见法国皇帝。他过不惯那种生活，又回到乡村，继续研究工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法布尔定居塞利诺，悉心研究昆虫学。由于宗教势力的影响，他的著作一直不被人重视。直到晚年，名声才大起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他的朋友为他开了庆祝会，各国贺电贺信也纷至沓来。不久，法国学士院把最大的奖金送给他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法布尔逝世，享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。他用大半生的时间和精力写成十大卷《昆虫记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作《昆虫的故事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这是一部介绍昆虫生活情态的书。在书中，作者以诗一般的语言，向人们展示了昆虫世界的秘密。因此，他被人们誉为“昆虫世界的荷马”，赞美“他的额上理应戴上一顶双层灿烂的皇冠”。现在，他的故居和实验室已建成法布尔纪念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266544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5544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8520" y="620388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　　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99040" y="62784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蝈　　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67120" y="617076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螽　　　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出下列词语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8520" y="79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喧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8082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xuān  xiāo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96560" y="76500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        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83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4240" y="808200"/>
            <a:ext cx="20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9080" y="735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mì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08520" y="15177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酷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484280"/>
            <a:ext cx="14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k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3600" y="151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吮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5920" y="1527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ǔn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7680" y="150336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152712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ēn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3040" y="202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载而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8720" y="2031840"/>
            <a:ext cx="8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zài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喑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30200" y="1989000"/>
            <a:ext cx="159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īn  yǎ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58000" y="299736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拼音写出相应的汉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0560" y="3789360"/>
            <a:ext cx="790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hò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猎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u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夺            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rǎ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胜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hóu)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gō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zhōng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wō) (jù)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xī)(s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240" y="386064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386064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7160" y="375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47880" y="425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644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080" y="475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360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莴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3724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窸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73440" y="663480"/>
            <a:ext cx="558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将化线出的文字表述换成成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耳朵灵敏 的人，能听到动物中弱者被强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掉出四周的绿叶丛中，蝈蝈在窃窃私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蝉则惊慌、害怕得不知如何是好地飞起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３）它们对这道菜吃得特别有兴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7760" y="2309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弱肉强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212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惊慌失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5040" y="5838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津津有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3:44:04Z</dcterms:created>
  <dc:creator>wutao</dc:creator>
  <dc:description/>
  <dc:language>en-US</dc:language>
  <cp:lastModifiedBy>a</cp:lastModifiedBy>
  <dcterms:modified xsi:type="dcterms:W3CDTF">2004-12-16T05:38:20Z</dcterms:modified>
  <cp:revision>100</cp:revision>
  <dc:subject/>
  <dc:title>幻灯片 1</dc:title>
</cp:coreProperties>
</file>