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757-1ED5-492A-8984-0721BC92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492-8014-4E99-A630-748FF55E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5A2-B3A9-4DDB-B27B-A2D05E8E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F8D-FA7E-429C-BA9B-79B7A8AF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895-0F83-4D15-B88B-142E74FD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279D-C540-4F15-AEC3-90B0A968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7E7D-34E9-4C06-8401-7D2D98D7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01F-2A0F-45BD-975D-D68207CD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BFF0-1927-4490-A7A7-D8387A7E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F672-DB13-4324-B874-48FA3491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0EC3-411A-4007-8EA0-F2A1198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C66-2F89-44CB-929B-EC592C0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BBEB-3E05-4441-8B3D-1C2DC15A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6B9C-D082-4695-947B-52EB4D6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472C-109C-43A9-A1E8-5392402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DFC-953F-4EB3-9F73-863A40F5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8B89-ABD8-4E48-B409-F45CDFC9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50B-8FC6-4436-BC21-643FCC7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6CE-6AF9-44D8-BBF4-5BD9150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CBF-A6E9-4E8A-A81C-0E8BD4C5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FA7-55ED-4DF2-A03D-4F184901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C74-1484-421E-A2AB-20D1876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16A-6917-4203-9901-93FED527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5AA-69F6-4FC4-9DDA-E608758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5912-C628-400D-A825-DDFB62900DA6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1F1-0F63-4AAE-BDC1-A7E154E7DF49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304920"/>
            <a:ext cx="8229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绿色蝈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71800" y="3276720"/>
            <a:ext cx="3809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（法）法布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49528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昆虫学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5165640" y="2459160"/>
            <a:ext cx="344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22840" y="23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419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5" name="法布儿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教学目标</a:t>
            </a: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、速读课文，能用简洁的语言概述文章内容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、能体味文中的美词佳句，并说出其作用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、培养学生的阅读能力，激发学生探索科学奥秘的兴趣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教学重点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培养学生阅读文章、概述内容的能力，体会文章的语言特色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宋体"/>
              </a:rPr>
              <a:t>初读课文，感知内容，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这是一篇妙趣横生的小品文。作者采用生动活泼的笔法，把蝈蝈写得活灵活现，具有很强的可读性。这也是法布尔《昆虫记》整部书的特色。鲁迅曾把《昆虫记》称为“讲昆虫故事”“讲昆虫生活”的楷模。周作人说：“比看那些无聊的小说戏剧更有趣味，更有意义。”的确如此，法布尔笔下的蝈蝈是鲜活的，字里行间洋溢着作者本人对生命的尊重与热爱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认真地把课文读一遍，画出生字词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然后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给下列红字注音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篝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火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狩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猎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喧嚣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弱肉强食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颚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、钳子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喑哑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静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谧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（   ）沉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寂（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更胜一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筹（  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螽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斯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莴苣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悬殊、踢蹬、津津有味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嗉囊（     ）喙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（   ）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吮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取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酷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爱、螳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螂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贪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婪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（   ）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唾（ 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液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对蝈蝈的称呼有：狂热的狩猎者、我笼里的囚犯、蝉的屠夫等。当蝈蝈捕杀蝉时作者用“狂热的狩猎者”；当蝈蝈成为作者笼中观察和实验的对象时，作者就用“笼里的囚犯”；当蝈蝈吃蝉肉时作者称之为“蝉的屠夫”。作者不断变换称呼，使行文更生动，描写更形象，给人更深刻的印象。 </a:t>
            </a:r>
            <a:br>
              <a:rPr sz="3200"/>
            </a:b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“窃窃自语”“津津有味”“酷爱甜食”“毫不犹豫地都接受”是拟人。这样写亲切自然，形象生动。 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762120"/>
            <a:ext cx="815328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第二遍，画出自己认为最精彩的段落或句子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、作者用什么方法引出蝈蝈呢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（第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段并没有写蝈蝈，是写在别人欢度国庆的日子里，自己还没有忘记去观察昆虫。“我独自一人”说明作者对他所热爱的事业是多么执著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搞科学研究需要这样的精神。第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段写蝉在夜晚不再鸣叫，它要休息了。突然，蝉的一声哀号引出了本文的“主人公”蝈蝈。这是多么富有匠心的写作思路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）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．绿色蝈蝈外表有哪些特征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?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．作者主要写了绿色蝈蝈的哪些习性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、作者不断变换对绿色蝈蝈的称呼，找出这些称呼，说说作者在什么情况下用什么称呼，这样写有什么效果。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、课文多处运用拟人手法，找出几个例子，说说这样写的好处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545472"/>
                </a:solidFill>
                <a:latin typeface="宋体"/>
              </a:rPr>
              <a:t>外表特征，“这种昆虫非常漂亮，浑身嫩绿，侧面有两条淡白色的丝带，身材优美，苗条匀称，两片大翼轻盈如纱。”作者写了蝈蝈的叫声和食性。主要写的是食物习性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</a:rPr>
              <a:t>外表特征，“这种昆虫非常漂亮，浑身嫩绿，侧面有两条淡白色的丝带，身材优美，苗条匀称，两片大翼轻盈如纱。”作者写了蝈蝈的叫声和食性。主要写的是食物习性</a:t>
            </a: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、去户外静听虫鸣鸟啼，辨别这些声音，并用一段话形象地描写出来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、找法布尔的《昆虫记》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节选本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进行课外阅读，并做读书笔记。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、同学之间互相介绍自己最熟悉的一种动物。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9:29:41Z</dcterms:created>
  <dc:creator>wutao</dc:creator>
  <dc:description/>
  <dc:language>en-US</dc:language>
  <cp:lastModifiedBy>Legend User</cp:lastModifiedBy>
  <dcterms:modified xsi:type="dcterms:W3CDTF">2003-11-10T02:10:39Z</dcterms:modified>
  <cp:revision>100</cp:revision>
  <dc:subject/>
  <dc:title>PowerPoint 演示文稿</dc:title>
</cp:coreProperties>
</file>