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C30CC-93F0-4D26-934D-BFCBDF67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AA320-B2C2-4B4A-AC7D-AC90AE41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82F55-FE11-46E0-85C7-1BB133F7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3C1E6-CE9D-4B7F-A027-B9659BB7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17837-30FA-497F-9EBB-BE78B9C8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7094B-8327-41AD-A094-D8DCF6B2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DC092-BA69-4DCB-831F-7D52902C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C0EDE-9D24-435A-83A8-173404D1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B9587-BE07-49B1-AEE5-7B90BB20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499A9-01A5-4737-B66A-62D09BAD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9912D-F948-4B99-81D5-EECDFD8A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0CF5F-C941-4EC2-85AE-4F974F3C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3548-4081-4621-982D-57F69A39CB80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5120" y="1447920"/>
            <a:ext cx="5333760" cy="1218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d9475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33"/>
                </a:solidFill>
                <a:latin typeface="Times New Roman"/>
              </a:rPr>
              <a:t>月亮上的足迹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895480" y="327672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朱长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内容结构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第一部分（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1-2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），概括介绍美国宇航员拜访了月球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第二部分（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3-17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），具体介绍美国宇航员登月的全过程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第三部分（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18-19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），评论登月的意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登月过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一（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3-4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），登月准备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二（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5-9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），飞向月球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三（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10-14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），登上月球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四（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15-17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），飞离月球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探究：文中数字的作用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因为这是一篇太空探索的文章，太空探索对数字的精确度要求非常高，这些数字主要是为了体现本文的准确性、科学性、真实性，体现记实报道的特点。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探究：课文最后一句话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一小步”是指宇航员们从飞船跨到月球表面的一小步，对一个人来讲确实很容易，毫不费力。但是这一步是人类向太空领域迈出的第一步，它显示了人类卓越的聪明才智，表明了人类高度发达的科技水平，开创了人类对宇宙探索的新纪元，这意义就非同小可，因此说这是巨大的飞跃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小结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这篇记实报道以平实的语言，真实地记录了人类首次登月的全过程，表达了作者对登月成功后的喜悦之情以及对人类聪明才智的赞叹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本文按照事情发展的时间顺序来记叙，条理十分清晰，记叙的要素交代得一目了然，且语言平实、准确，体现了新闻报道的准确性、真实性、科学性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想象作文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如果你是宇航员，你到月球上要做些什么？认真阅读课文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并充分展开你的展开想象，写一段二三百字的小短文。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zyb</cp:lastModifiedBy>
  <dcterms:modified xsi:type="dcterms:W3CDTF">2004-12-01T07:37:11Z</dcterms:modified>
  <cp:revision>100</cp:revision>
  <dc:subject/>
  <dc:title>PowerPoint Presentation</dc:title>
</cp:coreProperties>
</file>