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E87-E481-4EC5-BCE5-817AF7C9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E19-A0AF-471B-91DE-444A3898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812-819A-4C63-A683-A6B284EE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E7E-B275-43B0-AC92-5A895D85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2B98-6A1E-47E8-B21D-BA674326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0B62-A447-44ED-B950-BD53C26F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46AE-E1FA-49B8-B691-2AB08C8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860-64C7-4AF1-9FF8-18A4FCF4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6A65-5937-4F95-A60D-9CC1C1C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89B7-5A48-4730-9059-65A0D7DB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D45D-9A86-49AB-B697-A37592A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A39-352B-4FBA-AF69-7F58C21B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C2D4-326D-486F-8C60-7EEB823A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F23-F4CB-42B0-BAD3-5E464DB2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B5D2-7A52-41C8-8B67-2E4590D4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CCC2-E98A-42B7-A233-6F7B5C3C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02E0-894F-4A49-B1B7-192F6D10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588-E404-4089-8471-BC2B1E1A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4FA-32E6-490A-A154-EECF035E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97A-9D4B-42F5-AAEF-AA863DFA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8B4-93C5-442A-A415-6565459D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FE4-1D28-4589-9237-A3D5E1E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42C-44D1-4BB9-9EA6-999B8646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074-53DD-4D39-9C4B-5FAD733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CEBE-A952-46B8-B14A-92D68CF6CDB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F4E8-0224-41E0-9571-372460B95C3F}" type="slidenum"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2466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6600"/>
                </a:solidFill>
                <a:latin typeface="Tahoma"/>
              </a:rPr>
              <a:t>月亮上的足迹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ahoma"/>
              </a:rPr>
              <a:t>朱长超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小结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　这篇记实报道以平实的语言，真实地记录了人类首次登月的全过程，表达了作者对登月成功后的喜悦之情以及对人类聪明才智的赞叹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　　本文按照事情发展的时间顺序来记叙，条理十分清晰，记叙的要素交代得一目了然，且语言平实、准确，体现了新闻报道的准确性、真实性、科学性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练习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根据意思写出词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尽情地谈。 　　　　　   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抬起头笔直地站着。　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　　　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形容远远地可以看到。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　　　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只能够望见而不能够接近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　　　　　　 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　　　　　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练习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根据意思写出词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尽情地谈。 　　　　　   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畅谈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抬起头笔直地站着。　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昂首挺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形容远远地可以看到。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遥遥在望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只能够望见而不能够接近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　　　　　　 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可望而不可即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作业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想象作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如果你是宇航员，你到月球上要做些什么？认真阅读课文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并充分展开你的展开想象，写一段二三百字的小短文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  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5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奔月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5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从月亮上看地球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835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月亮上的足迹%20的副本%20(2)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0890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课文内容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第一部分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-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，概括介绍美国宇航员拜访了月球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第二部分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3-17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，具体介绍美国宇航员登月的全过程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第三部分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8-19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，评论登月的意义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登月过程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-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，登月准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-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，飞向月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三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0-1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，登上月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5-1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，飞离月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讨论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文中数字的作用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因为这是一篇太空探索的文章，太空探索对数字的精确度要求非常高，这些数字主要是为了体现本文的准确性、科学性、真实性，体现记实报道的特点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讨论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课文最后一句话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“一小步”是指宇航员们从飞船跨到月球表面的一小步，对一个人来讲确实很容易，毫不费力。但是这一步是人类向太空领域迈出的第一步，它显示了人类卓越的聪明才智，表明了人类高度发达的科技水平，开创了人类对宇宙探索的新纪元，这意义就非同小可，因此说这是巨大的飞跃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拓展讨论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人类第一次成功地探访月球已是三十一年前的事了。时光飞逝，时至今日，人类向宇宙迈进的步伐从没停止过，你知道人类探索宇宙奥秘的其他成果吗？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talsl</cp:lastModifiedBy>
  <dcterms:modified xsi:type="dcterms:W3CDTF">2004-11-20T06:35:57Z</dcterms:modified>
  <cp:revision>100</cp:revision>
  <dc:subject/>
  <dc:title>PowerPoint Presentation</dc:title>
</cp:coreProperties>
</file>