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29D-EF35-4F63-8816-31DCD21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D0B-31A2-4A69-8A12-D5A053A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562-D98D-4125-B301-41AD4629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874-ADA7-43AE-BFAE-E530F9BB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CCF0-C5F2-4CF5-AC52-E7CE27DB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E24-7B28-4EA6-8B01-0D992B77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8CF-F1FF-4CB2-96A8-32922F2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AFE8-1BFA-40C9-9AA5-E944EA5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F407-4B76-4071-AF79-CCD8801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1507-8F17-4835-A99C-30FFA46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04CE-AC61-4E3F-8A83-B9542BA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732-EEC1-4538-B1DA-747F8710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B05-CDD7-47B1-81B4-C66378B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C12F-826D-41BA-92F9-E2238DF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A266-C627-4F22-B213-30C018F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4A2-3104-4129-A5DC-21E0F422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111D-4457-449A-885C-4FAE655D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03-CE72-4318-916A-1D3BBEE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759-4E46-4114-9A28-600C637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A02-C4F2-428F-9500-F474D4C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FF6-71F2-4661-92DD-5E8F19A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379-D0BC-4010-BBF8-B4F7117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A76-CB31-40D8-8ADC-378B1B9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B91-8048-41F2-9857-BA63AD6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D985-8FB7-4F2D-9EAE-28356848A1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8E1-5D21-46DA-85F4-42A7F8CA689D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image" Target="../media/image3.gif"/><Relationship Id="rId36" Type="http://schemas.openxmlformats.org/officeDocument/2006/relationships/audio" Target="../media/camera.wav"/><Relationship Id="rId3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11313_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30492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月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14300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亮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452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9280" y="990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65280" y="914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27200" y="243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OOK" descr=""/>
          <p:cNvPicPr/>
          <p:nvPr/>
        </p:nvPicPr>
        <p:blipFill>
          <a:blip r:embed="rId35"/>
          <a:stretch/>
        </p:blipFill>
        <p:spPr>
          <a:xfrm>
            <a:off x="4267080" y="6004080"/>
            <a:ext cx="1067040" cy="85392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36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87120" y="0"/>
            <a:ext cx="7250040" cy="4419720"/>
            <a:chOff x="-87120" y="0"/>
            <a:chExt cx="7250040" cy="4419720"/>
          </a:xfrm>
        </p:grpSpPr>
        <p:sp>
          <p:nvSpPr>
            <p:cNvPr id="174" name=""/>
            <p:cNvSpPr/>
            <p:nvPr/>
          </p:nvSpPr>
          <p:spPr>
            <a:xfrm>
              <a:off x="1676520" y="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7400" y="1752480"/>
              <a:ext cx="729000" cy="2667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一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8954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apollo11_launchclip0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99800" y="1752480"/>
            <a:ext cx="1826280" cy="266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二级火箭自动脱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87120" y="0"/>
            <a:ext cx="7250040" cy="4419720"/>
            <a:chOff x="-87120" y="0"/>
            <a:chExt cx="7250040" cy="4419720"/>
          </a:xfrm>
        </p:grpSpPr>
        <p:sp>
          <p:nvSpPr>
            <p:cNvPr id="185" name=""/>
            <p:cNvSpPr/>
            <p:nvPr/>
          </p:nvSpPr>
          <p:spPr>
            <a:xfrm>
              <a:off x="1676520" y="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87400" y="1752480"/>
              <a:ext cx="729000" cy="2667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一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28954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289548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apollo11_launchclip03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17720" y="2057400"/>
            <a:ext cx="182628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三级火箭再次启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551920" y="1981080"/>
            <a:ext cx="1991880" cy="2971800"/>
            <a:chOff x="5551920" y="1981080"/>
            <a:chExt cx="1991880" cy="2971800"/>
          </a:xfrm>
        </p:grpSpPr>
        <p:sp>
          <p:nvSpPr>
            <p:cNvPr id="197" name=""/>
            <p:cNvSpPr/>
            <p:nvPr/>
          </p:nvSpPr>
          <p:spPr>
            <a:xfrm>
              <a:off x="5551920" y="1981080"/>
              <a:ext cx="1277640" cy="2971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进入预定轨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32004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-544320" y="228600"/>
            <a:ext cx="7250040" cy="4495680"/>
            <a:chOff x="-544320" y="228600"/>
            <a:chExt cx="7250040" cy="4495680"/>
          </a:xfrm>
        </p:grpSpPr>
        <p:sp>
          <p:nvSpPr>
            <p:cNvPr id="200" name=""/>
            <p:cNvSpPr/>
            <p:nvPr/>
          </p:nvSpPr>
          <p:spPr>
            <a:xfrm>
              <a:off x="3342600" y="2057400"/>
              <a:ext cx="1826280" cy="2666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二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-544320" y="228600"/>
              <a:ext cx="7250040" cy="4419720"/>
              <a:chOff x="-544320" y="228600"/>
              <a:chExt cx="7250040" cy="441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1219320" y="228600"/>
                <a:ext cx="5486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飞向月亮</a:t>
                </a: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544320" y="1981080"/>
                <a:ext cx="1277640" cy="2438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点燃点火器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30200" y="1981080"/>
                <a:ext cx="729000" cy="2667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第一级火箭自动脱落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2120" y="3048120"/>
                <a:ext cx="9144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48120" y="3124080"/>
                <a:ext cx="838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57800" y="3124080"/>
                <a:ext cx="762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81080" y="228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登上月球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1905120"/>
            <a:ext cx="9982080" cy="3659760"/>
            <a:chOff x="0" y="1905120"/>
            <a:chExt cx="9982080" cy="3659760"/>
          </a:xfrm>
        </p:grpSpPr>
        <p:sp>
          <p:nvSpPr>
            <p:cNvPr id="213" name=""/>
            <p:cNvSpPr/>
            <p:nvPr/>
          </p:nvSpPr>
          <p:spPr>
            <a:xfrm>
              <a:off x="0" y="190512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与飞船脱离的准确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81952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降落月球的准确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80988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人类第一次踏上月球的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800600"/>
              <a:ext cx="9982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人类足印第一次踏上月球的精确时间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597280" y="6858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登月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5146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2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304920"/>
            <a:ext cx="9144000" cy="6976080"/>
            <a:chOff x="0" y="304920"/>
            <a:chExt cx="9144000" cy="6976080"/>
          </a:xfrm>
        </p:grpSpPr>
        <p:pic>
          <p:nvPicPr>
            <p:cNvPr id="223" name="这是“阿波罗”宇宙飞船的“鹰”号登月舱正向月球表面缓缓降落。天空中悬挂的是地球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9144000" cy="52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554112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（这是“阿波罗”宇宙飞船的“鹰”号登月舱正向月球表面缓缓降落。天空中悬挂的是地球）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22640" y="1295280"/>
            <a:ext cx="51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1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凌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7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秒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211338_0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517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5562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登月舱平稳地降落在月球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03880" y="1676520"/>
            <a:ext cx="474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1</a:t>
            </a: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36" name="as11_40_5868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1532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501320" y="304920"/>
              <a:ext cx="16426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姆斯特朗走下登月舱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43" name="astronautic_05_3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153280" cy="65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317720" y="304920"/>
              <a:ext cx="18262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姆斯特朗登上月球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19320" y="175248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精确时间是：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1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6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秒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304920"/>
            <a:ext cx="9144000" cy="6858000"/>
            <a:chOff x="0" y="304920"/>
            <a:chExt cx="9144000" cy="6858000"/>
          </a:xfrm>
        </p:grpSpPr>
        <p:pic>
          <p:nvPicPr>
            <p:cNvPr id="250" name="阿姆斯特郎的脚—地球人类的脚，终于踏上了月球的表面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01000" cy="65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40680" y="304920"/>
              <a:ext cx="1003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这是人类伟大的一步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56" name="阿波罗11号太空人阿姆斯特朗的足迹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77320" cy="65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140680" y="304920"/>
              <a:ext cx="100332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这是人类伟大的一步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79240" y="609480"/>
            <a:ext cx="286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但愿人长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031400" y="609480"/>
            <a:ext cx="286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千里共婵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33520"/>
            <a:ext cx="23623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533520"/>
            <a:ext cx="960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宇航员登上月球后都做了哪些事情？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9200" y="3809880"/>
            <a:ext cx="604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.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检查登月器的着陆情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73560" y="1828800"/>
            <a:ext cx="60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.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采集月壤和月岩样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4760" y="3962520"/>
            <a:ext cx="12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树立登月记念碑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9144000" cy="6890760"/>
            <a:chOff x="0" y="0"/>
            <a:chExt cx="9144000" cy="6890760"/>
          </a:xfrm>
        </p:grpSpPr>
        <p:pic>
          <p:nvPicPr>
            <p:cNvPr id="269" name="7.月面上的巨大的月岩石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579132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采集月壤和月岩样品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93360" y="2133720"/>
            <a:ext cx="57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.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安装各种仪器进行科学探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77" name="6.月球车天线将摄影机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76201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94760" y="304920"/>
              <a:ext cx="264924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月球车天线将摄影机的影像讯号传回地球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83" name="3.月面上的激光反射镜，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773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17720" y="304920"/>
              <a:ext cx="18262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月面上的激光反射镜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33520" y="304920"/>
            <a:ext cx="8064360" cy="6553080"/>
            <a:chOff x="533520" y="304920"/>
            <a:chExt cx="8064360" cy="6553080"/>
          </a:xfrm>
        </p:grpSpPr>
        <p:pic>
          <p:nvPicPr>
            <p:cNvPr id="289" name="埃德温·艾德林在月球上安放地震仪器。这个地震仪此后记录了多次月震的情况，并且将资料传回了地球" descr=""/>
            <p:cNvPicPr/>
            <p:nvPr/>
          </p:nvPicPr>
          <p:blipFill>
            <a:blip r:embed="rId2"/>
            <a:stretch/>
          </p:blipFill>
          <p:spPr>
            <a:xfrm>
              <a:off x="533520" y="304920"/>
              <a:ext cx="58672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84640" y="304920"/>
              <a:ext cx="621324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安装在月球表面                               地  震  仪          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908360" y="228600"/>
            <a:ext cx="43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.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插上美国国旗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211237_0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31800" y="380880"/>
            <a:ext cx="596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.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美国总统尼克松通电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1183-2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85880" y="3841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返 航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220968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2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5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，太空船与“阿波罗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号”对接成功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登月小艇正要与指挥舱结合，然后由指挥舱" descr=""/>
          <p:cNvPicPr/>
          <p:nvPr/>
        </p:nvPicPr>
        <p:blipFill>
          <a:blip r:embed="rId2"/>
          <a:stretch/>
        </p:blipFill>
        <p:spPr>
          <a:xfrm>
            <a:off x="0" y="380880"/>
            <a:ext cx="8153280" cy="6397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01320" y="380880"/>
            <a:ext cx="164268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5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凌晨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5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分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380880"/>
            <a:ext cx="9144000" cy="6477120"/>
            <a:chOff x="0" y="380880"/>
            <a:chExt cx="9144000" cy="6477120"/>
          </a:xfrm>
        </p:grpSpPr>
        <p:pic>
          <p:nvPicPr>
            <p:cNvPr id="315" name="dffgadgfs" descr=""/>
            <p:cNvPicPr/>
            <p:nvPr/>
          </p:nvPicPr>
          <p:blipFill>
            <a:blip r:embed="rId2"/>
            <a:stretch/>
          </p:blipFill>
          <p:spPr>
            <a:xfrm>
              <a:off x="0" y="380880"/>
              <a:ext cx="69343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623000" y="380880"/>
              <a:ext cx="1521000" cy="647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波罗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1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号”飞船溅落在预定的海域，被等候在那边的海军救起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嫦娥奔月" descr=""/>
          <p:cNvPicPr/>
          <p:nvPr/>
        </p:nvPicPr>
        <p:blipFill>
          <a:blip r:embed="rId2"/>
          <a:stretch/>
        </p:blipFill>
        <p:spPr>
          <a:xfrm>
            <a:off x="0" y="380880"/>
            <a:ext cx="481644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76920" y="3962520"/>
            <a:ext cx="4876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奔月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0" y="838080"/>
            <a:ext cx="3746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嫦娥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aa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3108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阿姆斯特朗说：“这一小步，对于一个人来说，是小小的一步；对整个人类来说，是巨大的飞跃。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99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者在文中用了很多数字，这些数字起什么作用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743200" y="2209680"/>
            <a:ext cx="4495680" cy="3918960"/>
            <a:chOff x="2743200" y="2209680"/>
            <a:chExt cx="4495680" cy="3918960"/>
          </a:xfrm>
        </p:grpSpPr>
        <p:sp>
          <p:nvSpPr>
            <p:cNvPr id="327" name=""/>
            <p:cNvSpPr/>
            <p:nvPr/>
          </p:nvSpPr>
          <p:spPr>
            <a:xfrm>
              <a:off x="4114800" y="2209680"/>
              <a:ext cx="2971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准确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3581280"/>
              <a:ext cx="3047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科学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4800" y="5029200"/>
              <a:ext cx="2971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真实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3200" y="2209680"/>
              <a:ext cx="1143000" cy="3886200"/>
            </a:xfrm>
            <a:custGeom>
              <a:avLst/>
              <a:gdLst>
                <a:gd name="textAreaLeft" fmla="*/ 730440 w 1143000"/>
                <a:gd name="textAreaRight" fmla="*/ 1143360 w 114300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2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0075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67560" y="1066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隶书"/>
              </a:rPr>
              <a:t>小结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7339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这篇报道以平实的语言，真实地记录了人类首次登月的全过程，表达了作者对登月成功的一种喜悦之情以及对人类聪明才智的赞叹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这是埃德温·艾德林，他的面罩上映出“鹰”号登月舱和为他拍照的阿姆斯特郎。这是知名度最高的照片之一。没有见过这张照片的人，对20世纪的人类所作的了解可能就是不完整的" descr=""/>
          <p:cNvPicPr/>
          <p:nvPr/>
        </p:nvPicPr>
        <p:blipFill>
          <a:blip r:embed="rId2"/>
          <a:stretch/>
        </p:blipFill>
        <p:spPr>
          <a:xfrm>
            <a:off x="0" y="380880"/>
            <a:ext cx="5506920" cy="647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29520" y="380880"/>
            <a:ext cx="1795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第一次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038480"/>
            <a:ext cx="35053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月球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11313_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33520" y="304920"/>
            <a:ext cx="8015400" cy="3232800"/>
            <a:chOff x="533520" y="304920"/>
            <a:chExt cx="8015400" cy="3232800"/>
          </a:xfrm>
        </p:grpSpPr>
        <p:sp>
          <p:nvSpPr>
            <p:cNvPr id="116" name=""/>
            <p:cNvSpPr/>
            <p:nvPr/>
          </p:nvSpPr>
          <p:spPr>
            <a:xfrm>
              <a:off x="533520" y="304920"/>
              <a:ext cx="892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月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1143000"/>
              <a:ext cx="99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亮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74520" y="5335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上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79280" y="990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的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65280" y="9144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足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7200" y="2438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迹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5335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以下三个问题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登月的全过程可以分为几个阶段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试概括每个阶段的内容要点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宇航员登上月球后做了哪几件事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304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个阶段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5040" y="2666880"/>
            <a:ext cx="1962360" cy="3962520"/>
            <a:chOff x="95040" y="2666880"/>
            <a:chExt cx="1962360" cy="3962520"/>
          </a:xfrm>
        </p:grpSpPr>
        <p:sp>
          <p:nvSpPr>
            <p:cNvPr id="135" name=""/>
            <p:cNvSpPr/>
            <p:nvPr/>
          </p:nvSpPr>
          <p:spPr>
            <a:xfrm>
              <a:off x="457200" y="26668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5040" y="3429000"/>
              <a:ext cx="15210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升空前准备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05120" y="2666880"/>
            <a:ext cx="2286000" cy="3276720"/>
            <a:chOff x="1905120" y="2666880"/>
            <a:chExt cx="2286000" cy="3276720"/>
          </a:xfrm>
        </p:grpSpPr>
        <p:sp>
          <p:nvSpPr>
            <p:cNvPr id="138" name=""/>
            <p:cNvSpPr/>
            <p:nvPr/>
          </p:nvSpPr>
          <p:spPr>
            <a:xfrm>
              <a:off x="266688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1040" y="3505320"/>
              <a:ext cx="1521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962520" y="2666880"/>
            <a:ext cx="2895480" cy="3200400"/>
            <a:chOff x="3962520" y="2666880"/>
            <a:chExt cx="2895480" cy="3200400"/>
          </a:xfrm>
        </p:grpSpPr>
        <p:sp>
          <p:nvSpPr>
            <p:cNvPr id="142" name=""/>
            <p:cNvSpPr/>
            <p:nvPr/>
          </p:nvSpPr>
          <p:spPr>
            <a:xfrm>
              <a:off x="4876920" y="266688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04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成功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25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58000" y="2666880"/>
            <a:ext cx="2286000" cy="3200400"/>
            <a:chOff x="6858000" y="2666880"/>
            <a:chExt cx="2286000" cy="3200400"/>
          </a:xfrm>
        </p:grpSpPr>
        <p:sp>
          <p:nvSpPr>
            <p:cNvPr id="146" name=""/>
            <p:cNvSpPr/>
            <p:nvPr/>
          </p:nvSpPr>
          <p:spPr>
            <a:xfrm>
              <a:off x="7620120" y="26668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796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返回地球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312408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2960" y="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ffff"/>
                </a:solidFill>
                <a:latin typeface="隶书"/>
                <a:ea typeface="隶书"/>
              </a:rPr>
              <a:t>准备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6320" y="15177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时间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120" y="3657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地点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0120" y="27432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人物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7800" y="46483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将要发生的事件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95080" y="182880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7760" y="3962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国佛罗里达半岛中部的肯尼迪航天中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74240" y="29718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姆斯特朗、科林斯、奥尔德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5400" y="5562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就要踏上探索月球的征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s69_317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76520" y="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向月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87120" y="1752480"/>
            <a:ext cx="2220840" cy="2438640"/>
            <a:chOff x="-87120" y="1752480"/>
            <a:chExt cx="2220840" cy="2438640"/>
          </a:xfrm>
        </p:grpSpPr>
        <p:sp>
          <p:nvSpPr>
            <p:cNvPr id="167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9" name="astronautic_05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12:57:46Z</dcterms:created>
  <dc:creator>wutao</dc:creator>
  <dc:description>初中语文第二册第15课</dc:description>
  <dc:language>en-US</dc:language>
  <cp:lastModifiedBy>zyb</cp:lastModifiedBy>
  <dcterms:modified xsi:type="dcterms:W3CDTF">2004-12-01T07:38:23Z</dcterms:modified>
  <cp:revision>100</cp:revision>
  <dc:subject/>
  <dc:title>PowerPoint 演示文稿</dc:title>
</cp:coreProperties>
</file>