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6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camera.wav" ContentType="audio/x-wav"/>
  <Override PartName="/ppt/media/image21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AE6-5CCF-4654-BB7A-F1C4E4D3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445-9FEB-4232-9BFE-D75F3958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0E0B1-3184-4CB8-BF67-193737C6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511F3-364E-4175-99CF-1B0423B6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56A8D-71C7-4EDA-B78C-D7C0F95E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7E36E-FAAE-443D-AC48-8D4B568C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5C887-BC27-4493-9343-A80772F4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82D49-1919-4788-B461-4220E1BF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026FD-09EB-4705-A812-E706E3EC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C990C-D769-402A-9DCE-DB96FDDE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59C83-8A61-4DD8-A1E7-433CF760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BCF75A-1EAE-42F6-89F8-535A26A8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6DE8-B573-4D5D-B266-F0263B0D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A84A5D-B489-483B-A504-755E5AEE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C56F6D-AA79-484A-8B25-045AD2F2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B60BFF-3715-4DE1-B28B-B729047F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FF0D30-79EC-4D10-BA30-DD2B7731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E5F0E9-61D8-44A2-98EB-6BF4226F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2C1EA7-0D07-41A6-BCBB-385C6A71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BFE2E2-79CA-48FA-9100-6D9C0C69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838EBC-1743-423A-A163-E5FC8D04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9254D0-3966-444E-B167-C027E252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A52E1A-DA4A-4D59-A605-6F9BE541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7D0-FF5B-4A2D-8714-6A6B23F4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3262CE-9AB8-4226-B34B-6EF5227C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C7D5C-84B1-449D-B204-47438D0B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0B1F4-FC85-4A9C-B6D5-78851D66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517F4-252B-43F0-8B3E-12386DEC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7600A-6DDC-4AEE-97B5-C77DA41F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0AD51-3D3B-480F-B4AB-B2969E69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42F18-372E-498B-B918-5BAE483F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7AD05-37B4-43BF-AA86-2641369D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5CD76-69C6-4493-8E3A-55EAE4BD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1D652-F4B8-4558-8E31-C3B6EE0F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8AC8-63F4-40F2-8F6B-A3365ED4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131D0-3F39-4BFC-B837-AE0FC53A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08C10-C52E-4CC6-8F06-A81E765D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2F2FF-AFD3-4474-A226-23F65A24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0C39A-38A6-4AE8-BB0C-F900C425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7EE83-6A75-4D6A-A511-F646940B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98E06-5F3F-4D51-9A2F-F130D597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2AD47-7928-4BFF-B57D-F0B60C57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9E136-ED8A-42FD-BD7F-47EB2000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4F0B9-E46B-41F6-A17D-7A648B41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8016A-6F11-4C69-8598-265CD9ED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722D-2EF7-4B7E-9269-F3013FED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E6E97-FD65-40CB-B890-EBC07AA5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64843-F95C-4A49-BB2F-496B4C5A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8E396-CD8D-4124-9506-CB097E9C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69CFA-519A-499D-AC63-07FD682C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6B645-7E82-4401-89AC-0A75EE23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57918-A8ED-4455-B9BA-7CD57F23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08BE1D-90DC-435F-A68D-2761F628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2A2F8-AB83-4865-80E6-7A609083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8FDF65-3355-4149-AD98-31E35289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8FA25-97BD-4E31-A9D8-F055E702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8681-B2C3-44F8-882F-E21CE006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8B449-5FAB-427B-81D2-50064385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A5381-9CB9-4378-9A6A-0F8D511B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7BD5DD-9728-4729-BF03-7266ADD5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878E98-02AD-45F7-98A9-69C3001D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5BD17-9372-4327-928F-103CF385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5DFEF-5024-440F-A1FE-1AD1AC4B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25AAA-CF32-4AA1-B181-FF7B47EE7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C6C2-5F73-4C2C-A864-E1F9A51F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ACA5-DBFF-4985-80C0-8CCF3A02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0D00-48B0-47A7-9B54-FB697E75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CEE5-92F6-4CA3-B3FA-515BEC96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5E58-943F-4FB0-AB6E-E66FD736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B151-532E-49CE-8178-A06D0DD2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3EEB-98F7-4683-8033-84EDF094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635D-DA93-4DDE-A7E6-CDF3C96D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9DA5-7799-43E1-A6D3-39ACC479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32E3-024B-4D60-A5D3-664CC155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D0D00-A399-47DC-9272-6C516ABE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F7674-8E1A-47DD-9ECA-F5463E0E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F02B9-5FF5-4ADF-99E8-794188FC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C327C-51DC-4CB1-9487-6CFF68E9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451CF-E984-4CC3-BC98-0D6B2C10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C75F-7154-47E3-A3C3-56C959C2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986F2-4343-4302-ACDD-457753B7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152EF-B735-4B7A-A00B-8DB7BA8A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9DA3D-02E7-442B-B13F-75313979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F66B2-59CA-4B7E-AC08-DEEC2A50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F8296-6E98-4B2D-ABB8-469B73BB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35E96-22CB-451F-A05C-BFED79F3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FFA2F-302C-444E-A673-19A6C93C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3A624-AE7F-4F57-9C06-E1C539CA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E6D6A-D18C-4D6E-A42C-9B3FF473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03320-7C17-459D-B137-63578DB0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1031-2A01-405E-B598-BB137E95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886DD-5821-4B2D-A888-23C644DA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9BA47-03AF-4E16-9DBA-C5A9F834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9F620-72AF-449A-963A-BF383653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93D3F-6D8A-4D93-BEE8-C4B3AE70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33E07-BEC1-44A9-A4C1-158D16A9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7FAC2-BBBB-487A-990A-14B6B7B5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FC6BB-E342-4A3F-A844-92DD321A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4AFFC-DF6C-4910-9B61-CFC208D6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FC501-B1B9-47EA-AA16-D60A9A73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FD4649-9DA4-4890-8909-D7378657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4A97-7151-4F0E-9369-A3CA2BA4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9805C2-355A-4AD9-A511-BEE7212E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4CC71-19A6-40F3-9DB1-A5989FAD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3DC2C9-6DFA-4876-8335-28250C87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04B667-1B11-4FC1-950F-4DF5AFE9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B4DC59-5316-4E6F-9F56-66DE0439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129F8-F3E9-451A-BE3E-A9ADCB74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AE353-648C-4775-AD5D-DF39337A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E6886D-E669-4704-8A2B-CEA34AA0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09AF62-6D02-4A52-BA1B-DE79AD50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7A6EA-5FF2-490A-81A5-68458AC9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39E-8235-45E8-988D-2326FA1F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98EE52-CEEC-4269-94DD-E6D23D20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B91B7-F96B-437F-891F-BDE7A3B5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289C5-F12F-4611-ACED-E44E20F9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E921C-F736-4023-949F-B79B4330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270AA-2837-46D6-AE07-918612C4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265BE-34E1-4BB0-9E5F-0B03173F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E0DBF-A9A5-47A2-9B4E-65BECB41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550A5-8A96-4E47-99A9-4C9D4D8C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A0458-4104-4D48-B701-60005FA0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B064E-4EEA-4D99-9A38-A0A86D3E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C7D1-85E8-49D9-BBF7-2D10208E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B27C0-39A0-4178-9C28-6CA624A9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2A174-011D-4CAE-B270-6C563BC8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2AB98-6BC1-468C-8E12-1665780F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81300-06B3-48B9-A03E-72F27B6D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DC80A-4EF5-4EB2-BCD3-CDB044BF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A91FB-7563-4266-819A-06C8C118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7CD13-A8CD-4189-9852-3614C6E2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88FF0-3B0C-4347-8FC3-08F6E414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BF0A3-3AEF-4F3A-B89D-51485D2F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724E6-AD32-44DF-8DC4-72BB242D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DD7E-E664-47E9-8014-D07ECFB1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F6E28-95D5-4362-BB04-3E52991E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5F681-03FF-4363-BB61-824F8A00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ED527-6093-4107-994D-9D1924A7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F91E4-5399-46CA-883A-25E6EBAD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41699-FAC0-45D1-9779-079C8FBF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165E7-28B2-4A3A-8BAB-7FAC25C9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25F17-EEB8-4901-9665-8AD8C64F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FD798-13BA-45AA-B233-D5997AF8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64CA1-7AC9-4C32-BBE2-7B28BA9E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8688F-EB4E-4128-AF7A-63E25E28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73D6-0EF0-442B-913D-690F5B57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FD0A6-2F7D-4D58-9690-61DE8AE4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D91D8-071F-421D-9B73-B76803E8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2685B-DAF9-422C-A829-A6F33E6F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E5F12-153E-4BDE-8A55-E524C5F2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D628B-B46E-4391-9505-5B20235E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E8DB0-ABE9-4A42-90BF-BA70B578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A1A34-18D3-4322-891B-B318D522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B2C4C-7D3C-4AB8-BB5B-F90EEAFD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32B8D-9B83-44B7-841B-52E0DEE3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2562E-BCB3-479B-8D0E-C99D85DF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46D7-C72A-4423-A4E8-3658162349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7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6ADC-5C2E-4309-880C-789DDFC0726F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3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BB7F-7B6A-4C1F-8B89-DB8C24613724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69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69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0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0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70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1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2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74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74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74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74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76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6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7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77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78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80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1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846E-3388-4B19-A16E-20C06A660BAD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87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87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87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87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88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88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88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88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89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89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89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89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0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0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0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1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1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1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2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2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2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2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3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93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93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4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94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94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95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95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95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96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96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96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97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97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97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97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8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98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99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6617-05B2-4692-BB21-5D4F88462B8E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2764-5DCC-4D55-B6ED-6D85ABAF5334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2C96-5B59-4DD3-8D18-5DFB9D095F02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4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4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F266-45EF-41E2-91AC-06ECCA44E25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0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0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0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2D17-F70A-4912-BC40-37A8BA8B041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6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0ADF-F3E4-41D1-8FC3-68823C0C518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4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FD3B-12C6-4541-85AE-3E54BFF6875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142F-54F7-443A-AB71-DA709121A1E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9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PlaceHolder 1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85BA-CCD4-49FA-B7B3-DC6AA5F6EFF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" descr=""/>
          <p:cNvPicPr/>
          <p:nvPr/>
        </p:nvPicPr>
        <p:blipFill>
          <a:blip r:embed="rId1"/>
          <a:stretch/>
        </p:blipFill>
        <p:spPr>
          <a:xfrm>
            <a:off x="0" y="2730600"/>
            <a:ext cx="5508720" cy="413676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 txBox="1"/>
          <p:nvPr/>
        </p:nvSpPr>
        <p:spPr>
          <a:xfrm>
            <a:off x="2411280" y="4076640"/>
            <a:ext cx="56898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月亮的传说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-252720" y="259920"/>
            <a:ext cx="4753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Arial"/>
                <a:ea typeface="方正舒体"/>
              </a:rPr>
              <a:t>嫦娥奔月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95280" y="1268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　　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美丽的嫦娥是射下九个太阳的英雄羿的妻子，她因为偷吃了长生不老丹就飞进了月宫。她住在广寒宫里，捣药的玉兔和砍伐桂树的吴刚陪伴着她。嫦娥在每年的农历八月十五日，就会步出广寒宫，遥望人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993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ccff"/>
                </a:solidFill>
                <a:latin typeface="Arial"/>
                <a:ea typeface="隶书"/>
              </a:rPr>
              <a:t>拓展思维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"/>
          <p:cNvSpPr/>
          <p:nvPr/>
        </p:nvSpPr>
        <p:spPr>
          <a:xfrm>
            <a:off x="395280" y="1773360"/>
            <a:ext cx="87487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24000" y="620640"/>
            <a:ext cx="8532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99"/>
                </a:solidFill>
                <a:latin typeface="Arial"/>
                <a:ea typeface="隶书"/>
              </a:rPr>
              <a:t>讨论：</a:t>
            </a:r>
            <a:r>
              <a:rPr b="1" lang="zh-CN" sz="4400" spc="-1" strike="noStrike">
                <a:solidFill>
                  <a:srgbClr val="99ffcc"/>
                </a:solidFill>
                <a:latin typeface="Arial"/>
              </a:rPr>
              <a:t>为什么说人类第一次登月“对整个人类来说，是巨大的飞跃”，是人类探索太空的里程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0" y="3618000"/>
            <a:ext cx="9144000" cy="324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人类的梦想变成现实，人类走向地球以外的星球，不只局限于地球，说明人类现代科学技术已达到向外层空间发展的水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2749320" cy="4194000"/>
          </a:xfrm>
          <a:prstGeom prst="rect">
            <a:avLst/>
          </a:prstGeom>
          <a:ln w="0">
            <a:noFill/>
          </a:ln>
        </p:spPr>
      </p:pic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11280" y="4797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2003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年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月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15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日，中国载人太空船神舟五号成功发射，踏出探索太空的重要一步，圆了中国人千年的梦想。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2"/>
          <a:stretch/>
        </p:blipFill>
        <p:spPr>
          <a:xfrm>
            <a:off x="4140360" y="836640"/>
            <a:ext cx="4643280" cy="3398760"/>
          </a:xfrm>
          <a:prstGeom prst="rect">
            <a:avLst/>
          </a:prstGeom>
          <a:ln w="0">
            <a:noFill/>
          </a:ln>
        </p:spPr>
      </p:pic>
      <p:pic>
        <p:nvPicPr>
          <p:cNvPr id="1107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489744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5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31280" y="4387680"/>
            <a:ext cx="8712360" cy="24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人类在努力不懈地进行宇宙探索，在这个探索历程中，人类的足迹会一步一步的延长，终有一天，会遍布宇宙的每个角落。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09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4286160" cy="3924360"/>
          </a:xfrm>
          <a:prstGeom prst="rect">
            <a:avLst/>
          </a:prstGeom>
          <a:ln w="0">
            <a:noFill/>
          </a:ln>
        </p:spPr>
      </p:pic>
      <p:pic>
        <p:nvPicPr>
          <p:cNvPr id="1110" name="" descr=""/>
          <p:cNvPicPr/>
          <p:nvPr/>
        </p:nvPicPr>
        <p:blipFill>
          <a:blip r:embed="rId2"/>
          <a:stretch/>
        </p:blipFill>
        <p:spPr>
          <a:xfrm>
            <a:off x="5254560" y="1557360"/>
            <a:ext cx="388944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7632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Byebye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！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 txBox="1"/>
          <p:nvPr/>
        </p:nvSpPr>
        <p:spPr>
          <a:xfrm>
            <a:off x="1116000" y="765000"/>
            <a:ext cx="6767640" cy="15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月亮上的足迹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4122720" cy="3889440"/>
          </a:xfrm>
          <a:prstGeom prst="rect">
            <a:avLst/>
          </a:prstGeom>
          <a:ln w="0">
            <a:noFill/>
          </a:ln>
        </p:spPr>
      </p:pic>
      <p:pic>
        <p:nvPicPr>
          <p:cNvPr id="1052" name="" descr=""/>
          <p:cNvPicPr/>
          <p:nvPr/>
        </p:nvPicPr>
        <p:blipFill>
          <a:blip r:embed="rId3"/>
          <a:stretch/>
        </p:blipFill>
        <p:spPr>
          <a:xfrm>
            <a:off x="4211640" y="3429000"/>
            <a:ext cx="3166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" descr=""/>
          <p:cNvPicPr/>
          <p:nvPr/>
        </p:nvPicPr>
        <p:blipFill>
          <a:blip r:embed="rId1"/>
          <a:stretch/>
        </p:blipFill>
        <p:spPr>
          <a:xfrm>
            <a:off x="0" y="2720880"/>
            <a:ext cx="5508720" cy="4137120"/>
          </a:xfrm>
          <a:prstGeom prst="rect">
            <a:avLst/>
          </a:prstGeom>
          <a:ln w="0">
            <a:noFill/>
          </a:ln>
        </p:spPr>
      </p:pic>
      <p:sp>
        <p:nvSpPr>
          <p:cNvPr id="1054" name=""/>
          <p:cNvSpPr/>
          <p:nvPr/>
        </p:nvSpPr>
        <p:spPr>
          <a:xfrm>
            <a:off x="395280" y="11253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3203640" y="4653000"/>
            <a:ext cx="532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仿宋_GB2312"/>
              </a:rPr>
              <a:t>月的诗句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仿宋_GB2312"/>
              <a:ea typeface="仿宋_GB2312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ff66"/>
                </a:solidFill>
                <a:latin typeface="Arial"/>
              </a:rPr>
              <a:t>窗前明月光，疑是地上霜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26028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  <a:ea typeface="华文新魏"/>
              </a:rPr>
              <a:t>明月几时有，把酒问青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0" y="213372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  <a:ea typeface="华文细黑"/>
              </a:rPr>
              <a:t>我寄愁心与明月，随君直到夜郎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ffcc"/>
                </a:solidFill>
                <a:latin typeface="黑体"/>
                <a:ea typeface="黑体"/>
              </a:rPr>
              <a:t>整 体 感 知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快速默读课文，并找出登月过程中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ahoma"/>
              </a:rPr>
              <a:t>表示时间的词语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 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本文写了一件什么事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请用简洁的语言概括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1" name=""/>
          <p:cNvGrpSpPr/>
          <p:nvPr/>
        </p:nvGrpSpPr>
        <p:grpSpPr>
          <a:xfrm>
            <a:off x="95040" y="2666880"/>
            <a:ext cx="1962360" cy="3962520"/>
            <a:chOff x="95040" y="2666880"/>
            <a:chExt cx="1962360" cy="3962520"/>
          </a:xfrm>
        </p:grpSpPr>
        <p:sp>
          <p:nvSpPr>
            <p:cNvPr id="1062" name=""/>
            <p:cNvSpPr/>
            <p:nvPr/>
          </p:nvSpPr>
          <p:spPr>
            <a:xfrm>
              <a:off x="457200" y="266688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飞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95040" y="3429000"/>
              <a:ext cx="15210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升空前准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1905120" y="2666880"/>
            <a:ext cx="2286000" cy="3276720"/>
            <a:chOff x="1905120" y="2666880"/>
            <a:chExt cx="2286000" cy="3276720"/>
          </a:xfrm>
        </p:grpSpPr>
        <p:sp>
          <p:nvSpPr>
            <p:cNvPr id="1065" name=""/>
            <p:cNvSpPr/>
            <p:nvPr/>
          </p:nvSpPr>
          <p:spPr>
            <a:xfrm>
              <a:off x="2666880" y="2666880"/>
              <a:ext cx="1524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飞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381040" y="3505320"/>
              <a:ext cx="15210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飞向月亮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905120" y="3048120"/>
              <a:ext cx="838080" cy="0"/>
            </a:xfrm>
            <a:prstGeom prst="line">
              <a:avLst/>
            </a:prstGeom>
            <a:ln w="507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3962520" y="2666880"/>
            <a:ext cx="2895480" cy="3200400"/>
            <a:chOff x="3962520" y="2666880"/>
            <a:chExt cx="2895480" cy="3200400"/>
          </a:xfrm>
        </p:grpSpPr>
        <p:sp>
          <p:nvSpPr>
            <p:cNvPr id="1069" name=""/>
            <p:cNvSpPr/>
            <p:nvPr/>
          </p:nvSpPr>
          <p:spPr>
            <a:xfrm>
              <a:off x="4876920" y="2666880"/>
              <a:ext cx="19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登月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67040" y="3505320"/>
              <a:ext cx="152100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登月成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962520" y="3048120"/>
              <a:ext cx="838080" cy="0"/>
            </a:xfrm>
            <a:prstGeom prst="line">
              <a:avLst/>
            </a:prstGeom>
            <a:ln w="507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6858000" y="2666880"/>
            <a:ext cx="2286000" cy="3200400"/>
            <a:chOff x="6858000" y="2666880"/>
            <a:chExt cx="2286000" cy="3200400"/>
          </a:xfrm>
        </p:grpSpPr>
        <p:sp>
          <p:nvSpPr>
            <p:cNvPr id="1073" name=""/>
            <p:cNvSpPr/>
            <p:nvPr/>
          </p:nvSpPr>
          <p:spPr>
            <a:xfrm>
              <a:off x="7620120" y="2666880"/>
              <a:ext cx="1523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飞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257960" y="3505320"/>
              <a:ext cx="152100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返回地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858000" y="3124080"/>
              <a:ext cx="838080" cy="0"/>
            </a:xfrm>
            <a:prstGeom prst="line">
              <a:avLst/>
            </a:prstGeom>
            <a:ln w="507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395280" y="549360"/>
            <a:ext cx="838836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登月全过程可以分为几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阶段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5172840" y="476280"/>
            <a:ext cx="2192400" cy="10994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隶书"/>
                <a:ea typeface="隶书"/>
              </a:rPr>
              <a:t>登月准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335400" cy="2779560"/>
          </a:xfrm>
          <a:prstGeom prst="rect">
            <a:avLst/>
          </a:prstGeom>
          <a:ln w="0">
            <a:noFill/>
          </a:ln>
        </p:spPr>
      </p:pic>
      <p:sp>
        <p:nvSpPr>
          <p:cNvPr id="1079" name=""/>
          <p:cNvSpPr/>
          <p:nvPr/>
        </p:nvSpPr>
        <p:spPr>
          <a:xfrm>
            <a:off x="4164480" y="1752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时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83200" y="3886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地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83200" y="29718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人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044360" y="4876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将要发生的事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440320" y="184464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969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320840" y="3933720"/>
            <a:ext cx="78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美国佛罗里达半岛中部的肯尼迪航天中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983840" y="306864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阿姆斯特朗、科林斯、奥尔德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46760" y="48690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就要踏上探索月球的征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25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75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4427640" y="1052640"/>
            <a:ext cx="385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隶书"/>
                <a:ea typeface="隶书"/>
              </a:rPr>
              <a:t>飞船升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" descr=""/>
          <p:cNvPicPr/>
          <p:nvPr/>
        </p:nvPicPr>
        <p:blipFill>
          <a:blip r:embed="rId1"/>
          <a:stretch/>
        </p:blipFill>
        <p:spPr>
          <a:xfrm>
            <a:off x="262080" y="836640"/>
            <a:ext cx="3395520" cy="5030640"/>
          </a:xfrm>
          <a:prstGeom prst="rect">
            <a:avLst/>
          </a:prstGeom>
          <a:ln w="0">
            <a:noFill/>
          </a:ln>
        </p:spPr>
      </p:pic>
      <p:sp>
        <p:nvSpPr>
          <p:cNvPr id="1089" name=""/>
          <p:cNvSpPr/>
          <p:nvPr/>
        </p:nvSpPr>
        <p:spPr>
          <a:xfrm>
            <a:off x="4716360" y="2349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从发射架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看火箭升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" descr=""/>
          <p:cNvPicPr/>
          <p:nvPr/>
        </p:nvPicPr>
        <p:blipFill>
          <a:blip r:embed="rId1"/>
          <a:stretch/>
        </p:blipFill>
        <p:spPr>
          <a:xfrm>
            <a:off x="3564000" y="1413000"/>
            <a:ext cx="6265800" cy="4251240"/>
          </a:xfrm>
          <a:prstGeom prst="rect">
            <a:avLst/>
          </a:prstGeom>
          <a:ln w="0">
            <a:noFill/>
          </a:ln>
        </p:spPr>
      </p:pic>
      <p:sp>
        <p:nvSpPr>
          <p:cNvPr id="1091" name=""/>
          <p:cNvSpPr/>
          <p:nvPr/>
        </p:nvSpPr>
        <p:spPr>
          <a:xfrm>
            <a:off x="0" y="692280"/>
            <a:ext cx="50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7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月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日上午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7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点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32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分，登月舱和飞船脱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3292560" cy="388908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/>
          <p:nvPr/>
        </p:nvSpPr>
        <p:spPr>
          <a:xfrm>
            <a:off x="5292720" y="4941720"/>
            <a:ext cx="34923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登月舱平稳地降落在月球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219640" y="404640"/>
            <a:ext cx="42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登月成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66"/>
                </a:solidFill>
                <a:latin typeface="黑体"/>
                <a:ea typeface="黑体"/>
              </a:rPr>
              <a:t>自 主 学 习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．宇航员从登月到返航经历了多长时间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登月全过程是按什么顺序来写的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．宇航员登月后做了哪几件事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50920" y="242100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人类第一次踏上月球来回历经</a:t>
            </a:r>
            <a:r>
              <a:rPr b="1" lang="zh-CN" sz="3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76</a:t>
            </a:r>
            <a:r>
              <a:rPr b="1" lang="zh-CN" sz="3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万公里，历时</a:t>
            </a:r>
            <a:r>
              <a:rPr b="1" lang="zh-CN" sz="3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95</a:t>
            </a:r>
            <a:r>
              <a:rPr b="1" lang="zh-CN" sz="3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个小时</a:t>
            </a:r>
            <a:r>
              <a:rPr b="0" lang="zh-CN" sz="4400" spc="-1" strike="noStrike">
                <a:solidFill>
                  <a:srgbClr val="ccff66"/>
                </a:solidFill>
                <a:latin typeface="Arial"/>
              </a:rPr>
              <a:t> ；</a:t>
            </a:r>
            <a:r>
              <a:rPr b="1" lang="zh-CN" sz="3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时间顺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24000" y="4292640"/>
            <a:ext cx="8820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采集月壤和月岩样品，树立纪念碑，安装摄像机，安装太阳风测定装置、月震仪，插上美国国旗，与尼克松总统通话等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3:41:43Z</dcterms:created>
  <dc:creator>wutao</dc:creator>
  <dc:description/>
  <dc:language>en-US</dc:language>
  <cp:lastModifiedBy>yk</cp:lastModifiedBy>
  <dcterms:modified xsi:type="dcterms:W3CDTF">2004-03-10T05:40:37Z</dcterms:modified>
  <cp:revision>100</cp:revision>
  <dc:subject/>
  <dc:title>幻灯片 1</dc:title>
</cp:coreProperties>
</file>