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png" ContentType="image/png"/>
  <Override PartName="/ppt/media/image1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D33-F47B-4B2C-8D2A-E7D683F5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8D6-1E38-4533-8000-241C91AC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988-4571-4F00-92F4-DAEE3BDC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946-051F-432C-9E46-E214C789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D0C-9011-4EE1-870D-53FAEB9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A0C-8858-4417-B2D2-FDA6A9CC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AD4-2A2E-4661-B790-F9738578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BD7-FA7D-488B-B1DE-E8EDA6F2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171-632F-4C76-9D19-0DFEA0C3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BD2-5CF4-4E17-8A0A-48646D78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B8B-4011-4A00-AAF4-18B68145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17B-535C-41BF-8797-E4CCC06D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D1C5-C09B-40E0-84D8-895D2462D2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人类对宇宙的新探索" descr=""/>
          <p:cNvPicPr/>
          <p:nvPr/>
        </p:nvPicPr>
        <p:blipFill>
          <a:blip r:embed="rId1"/>
          <a:srcRect l="0" t="0" r="1743" b="0"/>
          <a:stretch/>
        </p:blipFill>
        <p:spPr>
          <a:xfrm>
            <a:off x="304920" y="0"/>
            <a:ext cx="861048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4267440" y="2818440"/>
            <a:ext cx="639936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人类对宇宙的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4201560" y="1893600"/>
            <a:ext cx="3314880" cy="120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新探索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light%20plan" descr=""/>
          <p:cNvPicPr/>
          <p:nvPr/>
        </p:nvPicPr>
        <p:blipFill>
          <a:blip r:embed="rId1"/>
          <a:stretch/>
        </p:blipFill>
        <p:spPr>
          <a:xfrm>
            <a:off x="1066680" y="441360"/>
            <a:ext cx="7010640" cy="50450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69" name=""/>
          <p:cNvSpPr txBox="1"/>
          <p:nvPr/>
        </p:nvSpPr>
        <p:spPr>
          <a:xfrm>
            <a:off x="5562720" y="5857920"/>
            <a:ext cx="2743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美国登月计划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4496040" cy="33721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5562720" y="1295280"/>
            <a:ext cx="3276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美国的登月活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3962520" cy="2971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3" name=""/>
          <p:cNvSpPr txBox="1"/>
          <p:nvPr/>
        </p:nvSpPr>
        <p:spPr>
          <a:xfrm>
            <a:off x="1600200" y="4724280"/>
            <a:ext cx="2286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“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第一步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724640" cy="35434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>
            <a:off x="5562720" y="5181480"/>
            <a:ext cx="2819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航天飞机升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7400" y="1028880"/>
            <a:ext cx="5029200" cy="3771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5638680" y="5477040"/>
            <a:ext cx="2438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天空实验室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419360" cy="33145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>
            <a:off x="5562720" y="5486400"/>
            <a:ext cx="198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修复哈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5029200" cy="3771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38080" y="167652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开发、利用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62320" y="3276720"/>
            <a:ext cx="6172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宇宙环境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81880" cy="558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981080" y="23623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利用空间资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气象卫星_中国风云一号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4114800" cy="30956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86" name="通讯卫星_国际通讯卫星" descr=""/>
          <p:cNvPicPr/>
          <p:nvPr/>
        </p:nvPicPr>
        <p:blipFill>
          <a:blip r:embed="rId2"/>
          <a:stretch/>
        </p:blipFill>
        <p:spPr>
          <a:xfrm>
            <a:off x="4419720" y="243000"/>
            <a:ext cx="4038480" cy="3033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5334120" y="4800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风云一号气象卫星（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国际通讯卫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通讯卫星_东方红三号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343400" cy="3240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0" name="侦察卫星_美国预警卫星" descr=""/>
          <p:cNvPicPr/>
          <p:nvPr/>
        </p:nvPicPr>
        <p:blipFill>
          <a:blip r:embed="rId2"/>
          <a:stretch/>
        </p:blipFill>
        <p:spPr>
          <a:xfrm>
            <a:off x="4876920" y="3619440"/>
            <a:ext cx="3962160" cy="2971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5181480" y="1219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东方红三号通讯卫星（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952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预警卫星（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资源卫星_欧洲地球资源卫星" descr=""/>
          <p:cNvPicPr/>
          <p:nvPr/>
        </p:nvPicPr>
        <p:blipFill>
          <a:blip r:embed="rId1"/>
          <a:srcRect l="0" t="0" r="1142" b="0"/>
          <a:stretch/>
        </p:blipFill>
        <p:spPr>
          <a:xfrm>
            <a:off x="1676520" y="977760"/>
            <a:ext cx="6476760" cy="49006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4" name=""/>
          <p:cNvSpPr txBox="1"/>
          <p:nvPr/>
        </p:nvSpPr>
        <p:spPr>
          <a:xfrm rot="5400000">
            <a:off x="-766800" y="2052720"/>
            <a:ext cx="365760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欧洲地球资源卫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52388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人类对宇宙的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24360" y="3352680"/>
            <a:ext cx="48387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探索历程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试验卫星_前苏联生物卫星" descr=""/>
          <p:cNvPicPr/>
          <p:nvPr/>
        </p:nvPicPr>
        <p:blipFill>
          <a:blip r:embed="rId1"/>
          <a:stretch/>
        </p:blipFill>
        <p:spPr>
          <a:xfrm>
            <a:off x="4572000" y="365040"/>
            <a:ext cx="4191120" cy="31402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6" name=""/>
          <p:cNvSpPr txBox="1"/>
          <p:nvPr/>
        </p:nvSpPr>
        <p:spPr>
          <a:xfrm>
            <a:off x="304920" y="990720"/>
            <a:ext cx="4114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生物试验卫星（苏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97" name="the%20Apollo%20experiments" descr=""/>
          <p:cNvPicPr/>
          <p:nvPr/>
        </p:nvPicPr>
        <p:blipFill>
          <a:blip r:embed="rId2"/>
          <a:srcRect l="52957" t="13639" r="2172" b="22726"/>
          <a:stretch/>
        </p:blipFill>
        <p:spPr>
          <a:xfrm>
            <a:off x="533520" y="2514600"/>
            <a:ext cx="3657600" cy="37209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4572000" y="4876920"/>
            <a:ext cx="41911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月面上的试验（美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太阳能利用" descr=""/>
          <p:cNvPicPr/>
          <p:nvPr/>
        </p:nvPicPr>
        <p:blipFill>
          <a:blip r:embed="rId1"/>
          <a:srcRect l="0" t="1579" r="0" b="0"/>
          <a:stretch/>
        </p:blipFill>
        <p:spPr>
          <a:xfrm>
            <a:off x="1295280" y="380880"/>
            <a:ext cx="6222960" cy="60325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00" name=""/>
          <p:cNvSpPr txBox="1"/>
          <p:nvPr/>
        </p:nvSpPr>
        <p:spPr>
          <a:xfrm rot="5400000">
            <a:off x="5447520" y="2552760"/>
            <a:ext cx="51814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利用太阳能资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小行星上的矿产资源" descr=""/>
          <p:cNvPicPr/>
          <p:nvPr/>
        </p:nvPicPr>
        <p:blipFill>
          <a:blip r:embed="rId1"/>
          <a:stretch/>
        </p:blipFill>
        <p:spPr>
          <a:xfrm>
            <a:off x="1841400" y="800280"/>
            <a:ext cx="6616800" cy="5257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 rot="5400000">
            <a:off x="-1409760" y="2552760"/>
            <a:ext cx="518184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利用矿产资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80880"/>
            <a:ext cx="7086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空间开发日趋国际合作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81840" cy="3886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5791320" y="5791320"/>
            <a:ext cx="1828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美苏言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2209680"/>
            <a:ext cx="8686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保护宇宙环境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ncient%20observation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248160" cy="4986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 rot="5400000">
            <a:off x="7090920" y="1900080"/>
            <a:ext cx="21337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肉眼观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5553000"/>
            <a:ext cx="25909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15-16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世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00200" y="6095880"/>
            <a:ext cx="685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欧洲天文学家建立了自己的天文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alileo%20Galilei" descr=""/>
          <p:cNvPicPr/>
          <p:nvPr/>
        </p:nvPicPr>
        <p:blipFill>
          <a:blip r:embed="rId1"/>
          <a:srcRect l="13956" t="3559" r="16297" b="25134"/>
          <a:stretch/>
        </p:blipFill>
        <p:spPr>
          <a:xfrm>
            <a:off x="380880" y="126216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early%20telescope" descr=""/>
          <p:cNvPicPr/>
          <p:nvPr/>
        </p:nvPicPr>
        <p:blipFill>
          <a:blip r:embed="rId2"/>
          <a:stretch/>
        </p:blipFill>
        <p:spPr>
          <a:xfrm>
            <a:off x="2209680" y="549360"/>
            <a:ext cx="6629400" cy="45561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457200" y="5170320"/>
            <a:ext cx="22860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17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世纪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857920"/>
            <a:ext cx="83822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天文望远镜发明，开创了天文观测的新纪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7880" y="2938320"/>
            <a:ext cx="7700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伽利略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alileo's%20observations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1782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2209680" y="5934240"/>
            <a:ext cx="6400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伽利略观测到的月面和太阳黑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servatories" descr=""/>
          <p:cNvPicPr/>
          <p:nvPr/>
        </p:nvPicPr>
        <p:blipFill>
          <a:blip r:embed="rId1"/>
          <a:stretch/>
        </p:blipFill>
        <p:spPr>
          <a:xfrm>
            <a:off x="1143000" y="210960"/>
            <a:ext cx="7010280" cy="5580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 rot="5400000">
            <a:off x="-414360" y="1709640"/>
            <a:ext cx="221004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20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世纪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5781600"/>
            <a:ext cx="52578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各国建立大口径望远镜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52680" y="6315120"/>
            <a:ext cx="5715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并选择观测条件最佳的台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中秋赏月" descr=""/>
          <p:cNvPicPr/>
          <p:nvPr/>
        </p:nvPicPr>
        <p:blipFill>
          <a:blip r:embed="rId1"/>
          <a:stretch/>
        </p:blipFill>
        <p:spPr>
          <a:xfrm>
            <a:off x="2819520" y="131760"/>
            <a:ext cx="4952880" cy="65944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 rot="5400000">
            <a:off x="985320" y="1823760"/>
            <a:ext cx="182880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中秋赏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38080" y="1905120"/>
            <a:ext cx="78868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1957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年，原苏联将人类第一颗人造地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2666880"/>
            <a:ext cx="8229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卫星送入轨道，开创了观测、研究地球和整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3495600"/>
            <a:ext cx="40388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宇宙的新时代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857160"/>
            <a:ext cx="5486400" cy="4114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6019920" y="5486400"/>
            <a:ext cx="15238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加加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</cp:lastModifiedBy>
  <dcterms:modified xsi:type="dcterms:W3CDTF">2003-08-15T01:35:42Z</dcterms:modified>
  <cp:revision>100</cp:revision>
  <dc:subject/>
  <dc:title>PowerPoint Presentation</dc:title>
</cp:coreProperties>
</file>