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BF0D3-DD0C-464A-8A69-295B7771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D3DC0-BB51-490A-B84B-211379DA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1CE7F-3B9D-4EFB-AC71-4F10F35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BBA2-0211-4D60-8CA8-29F8553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69E01-21CC-423F-B766-4DA202BE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C7610-3ACE-42F0-A415-46EEDAD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874C-7CA6-4090-AF39-34160CB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E6715-AAED-4C3F-A668-78C0A54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1E93-7974-4D91-B94B-DD38FE2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C2F54-8DD4-4888-AFB0-A767F18E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BDA11-9B65-4738-BAD3-2C83F84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8BB2C-606E-452D-827B-3F339A91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0EC6-BA48-41D3-9EC4-7293E32966CD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533376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d9475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Times New Roman"/>
              </a:rPr>
              <a:t>月亮上的足迹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95480" y="32767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朱长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内容结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第一部分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概括介绍美国宇航员拜访了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第二部分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-17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具体介绍美国宇航员登月的全过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第三部分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8-19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评论登月的意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登月过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一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登月准备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二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5-9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飞向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三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0-14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登上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四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5-17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飞离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探究：文中数字的作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因为这是一篇太空探索的文章，太空探索对数字的精确度要求非常高，这些数字主要是为了体现本文的准确性、科学性、真实性，体现记实报道的特点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探究：课文最后一句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一小步”是指宇航员们从飞船跨到月球表面的一小步，对一个人来讲确实很容易，毫不费力。但是这一步是人类向太空领域迈出的第一步，它显示了人类卓越的聪明才智，表明了人类高度发达的科技水平，开创了人类对宇宙探索的新纪元，这意义就非同小可，因此说这是巨大的飞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这篇记实报道以平实的语言，真实地记录了人类首次登月的全过程，表达了作者对登月成功后的喜悦之情以及对人类聪明才智的赞叹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本文按照事情发展的时间顺序来记叙，条理十分清晰，记叙的要素交代得一目了然，且语言平实、准确，体现了新闻报道的准确性、真实性、科学性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想象作文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如果你是宇航员，你到月球上要做些什么？认真阅读课文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并充分展开你的展开想象，写一段二三百字的小短文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ymr</cp:lastModifiedBy>
  <dcterms:modified xsi:type="dcterms:W3CDTF">2006-09-06T01:26:48Z</dcterms:modified>
  <cp:revision>101</cp:revision>
  <dc:subject/>
  <dc:title>PowerPoint Presentation</dc:title>
</cp:coreProperties>
</file>