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5A4-430E-436E-BC07-39F23CC0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255-621C-4AA3-B2B9-7353C2D5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090-557C-4103-B732-2BEF1ADE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FE6F-C779-4489-939D-123320D5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B2CA-D9A5-435B-B496-70961A72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470B-203C-4C60-8DD7-360B8C5E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20FF-236C-4231-A3FA-537B20F1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CDC8-DC05-49C8-89C7-6BE6DB24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635D-D365-4203-A9AD-400C2809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8CD6-9ED8-42CA-9B29-79367B49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26DC-63F8-40C3-9F42-A839D325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DDA-7583-46B3-AAB2-787731A5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95D4-31D1-462F-94F2-E1DDC01F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09E0-57A0-4507-9DD4-EE58B5FE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B041-8F37-48A1-99D4-64F39704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CBF6-0BF9-41E4-A03A-5357B259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3FEB-ED63-4904-9C6A-F8861F22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3EC1-D030-48EF-B9DD-2C1FD79B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84B4-0736-40F1-8A46-E5276691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502-23EE-465E-9EC3-32547140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BE1-E826-406C-AE45-D4720388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8EC-9FB4-4F09-934C-0A7C1646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CB5-B849-4D25-BBAA-613639D8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D03-B08C-4E57-AE02-DB209773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E2E5-4A20-4490-9A9E-746F4B02F0D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8BB5-6519-4A7E-9B3E-549B32B409A0}" type="slidenum">
              <a:rPr b="0" lang="zh-CN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2466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6600"/>
                </a:solidFill>
                <a:latin typeface="Tahoma"/>
              </a:rPr>
              <a:t>月亮上的足迹</a:t>
            </a: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ahoma"/>
              </a:rPr>
              <a:t>朱长超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</a:rPr>
              <a:t>小结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　　这篇记实报道以平实的语言，真实地记录了人类首次登月的全过程，表达了作者对登月成功后的喜悦之情以及对人类聪明才智的赞叹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　　　本文按照事情发展的时间顺序来记叙，条理十分清晰，记叙的要素交代得一目了然，且语言平实、准确，体现了新闻报道的准确性、真实性、科学性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</a:rPr>
              <a:t>练习：</a:t>
            </a:r>
            <a:r>
              <a:rPr b="0" lang="zh-CN" sz="4400" spc="-1" strike="noStrike">
                <a:solidFill>
                  <a:srgbClr val="ccffff"/>
                </a:solidFill>
                <a:latin typeface="Tahoma"/>
              </a:rPr>
              <a:t>根据意思写出词语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尽情地谈。 　　　　　   （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　　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抬起头笔直地站着。　（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　　　　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形容远远地可以看到。（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　　　　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只能够望见而不能够接近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　　　　　　　 （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　　　　　　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</a:rPr>
              <a:t>练习：</a:t>
            </a:r>
            <a:r>
              <a:rPr b="0" lang="zh-CN" sz="4400" spc="-1" strike="noStrike">
                <a:solidFill>
                  <a:srgbClr val="ccffff"/>
                </a:solidFill>
                <a:latin typeface="Tahoma"/>
              </a:rPr>
              <a:t>根据意思写出词语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尽情地谈。 　　　　　   （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畅谈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抬起头笔直地站着。　（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昂首挺立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形容远远地可以看到。（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遥遥在望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只能够望见而不能够接近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　　　　　　　 （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可望而不可即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</a:rPr>
              <a:t>作业：</a:t>
            </a:r>
            <a:r>
              <a:rPr b="0" lang="zh-CN" sz="4400" spc="-1" strike="noStrike">
                <a:solidFill>
                  <a:srgbClr val="ccffff"/>
                </a:solidFill>
                <a:latin typeface="Tahoma"/>
              </a:rPr>
              <a:t>想象作文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　如果你是宇航员，你到月球上要做些什么？认真阅读课文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并充分展开你的展开想象，写一段二三百字的小短文。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  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835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奔月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835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从月亮上看地球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835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月亮上的足迹%20的副本%20(2)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08900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</a:rPr>
              <a:t>课文内容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3200" spc="-1" strike="noStrike">
                <a:solidFill>
                  <a:srgbClr val="ff6600"/>
                </a:solidFill>
                <a:latin typeface="宋体"/>
              </a:rPr>
              <a:t>第一部分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1-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，概括介绍美国宇航员拜访了月球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3200" spc="-1" strike="noStrike">
                <a:solidFill>
                  <a:srgbClr val="ff6600"/>
                </a:solidFill>
                <a:latin typeface="宋体"/>
              </a:rPr>
              <a:t>第二部分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3-17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，具体介绍美国宇航员登月的全过程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3200" spc="-1" strike="noStrike">
                <a:solidFill>
                  <a:srgbClr val="ff6600"/>
                </a:solidFill>
                <a:latin typeface="宋体"/>
              </a:rPr>
              <a:t>第三部分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18-19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，评论登月的意义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</a:rPr>
              <a:t>登月过程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一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-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，登月准备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5-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，飞向月球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三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0-1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，登上月球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四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5-17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，飞离月球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</a:rPr>
              <a:t>讨论：</a:t>
            </a:r>
            <a:r>
              <a:rPr b="0" lang="zh-CN" sz="4400" spc="-1" strike="noStrike">
                <a:solidFill>
                  <a:srgbClr val="ccffff"/>
                </a:solidFill>
                <a:latin typeface="Tahoma"/>
              </a:rPr>
              <a:t>文中数字的作用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　因为这是一篇太空探索的文章，太空探索对数字的精确度要求非常高，这些数字主要是为了体现本文的准确性、科学性、真实性，体现记实报道的特点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</a:rPr>
              <a:t>讨论：</a:t>
            </a:r>
            <a:r>
              <a:rPr b="0" lang="zh-CN" sz="4400" spc="-1" strike="noStrike">
                <a:solidFill>
                  <a:srgbClr val="ccffff"/>
                </a:solidFill>
                <a:latin typeface="Tahoma"/>
              </a:rPr>
              <a:t>课文最后一句话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　“一小步”是指宇航员们从飞船跨到月球表面的一小步，对一个人来讲确实很容易，毫不费力。但是这一步是人类向太空领域迈出的第一步，它显示了人类卓越的聪明才智，表明了人类高度发达的科技水平，开创了人类对宇宙探索的新纪元，这意义就非同小可，因此说这是巨大的飞跃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</a:rPr>
              <a:t>拓展讨论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　人类第一次成功地探访月球已是三十一年前的事了。时光飞逝，时至今日，人类向宇宙迈进的步伐从没停止过，你知道人类探索宇宙奥秘的其他成果吗？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talsl</cp:lastModifiedBy>
  <dcterms:modified xsi:type="dcterms:W3CDTF">2004-11-20T06:35:57Z</dcterms:modified>
  <cp:revision>100</cp:revision>
  <dc:subject/>
  <dc:title>PowerPoint Presentation</dc:title>
</cp:coreProperties>
</file>