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72A-6B89-448C-A078-6BDC63C0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2EE-4DFA-4DEB-BCB8-113BECD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B657-E11C-45B3-B8DF-2B85289E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1343-15DF-47DA-8EA5-8BE4978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52497-FDAE-4E4F-8EEE-721ABD8B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E1EE-FFD9-4868-B134-CD4F2D3D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073F7-F5F6-403D-8DF1-99C9FA2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413D7-720B-44A0-B08C-5FEC416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0527-2E42-4079-8D28-BAE7C1F2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DC2F-2D97-4546-A5F2-671076DA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1F8DB-5671-4247-9060-C76F74DF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8631DE-DA29-49D4-AC55-34491BDD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518-89F0-4F66-8ADD-865AC43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0B5BD1-2EFD-4FEA-9241-648D7E5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036B6-A435-4A2B-B9F8-0F19A6E2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24CBD-9CF7-4DA0-91F7-939D80B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4CC8B1-5C9A-4967-A6EE-14A6B99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86639-6E5A-49E3-862F-541763C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2AF95-4004-47F3-AC83-26FD03F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7682CC-81F1-47ED-AC31-E88F4B8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95B63B-48B0-487D-87EB-9251F25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FC929E-7C23-4455-A68B-B243D470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513D5-64DF-40A9-86B8-A7E17C83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CCC-F99D-4C82-AD0C-ACF2D1F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564D0-0D18-47ED-95B1-9A7B76F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3EE8-B55E-4148-B65D-823DD6BC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10FD5-F9FA-4CD6-B0E7-A7FD981C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4F19-1F2E-45D0-BC50-F4661FB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CB3F-C933-471B-ADCB-AF9D932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C0658-3424-4EB0-BD07-4827E37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2307-B9B0-4817-9DF7-B0447ECC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FD23-D4E9-4D3A-8392-C8A10F0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146C8-8447-4288-9A03-276C46F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02210-B7BE-4358-9BC2-1DAFB56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319C-AA2B-47D1-BBC0-B48C629C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0FB3A-6BD7-4DCC-BB19-5BF720DB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62AE-8508-4C64-AF9E-918C6900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5122F-7480-4B59-8CA5-C15A8C1F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B879-8080-4BAD-898F-1E39568A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C7841-5D51-4974-B5B5-BB11A25A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A6370-9D89-4CB6-BD56-1AB060A4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5BB4F-5E39-4887-AAA1-5B235B4E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E49B-7F4B-49C3-A50F-7469BAE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40061-95F5-4782-A74D-B8A2DF0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B4B93-54F8-42FC-A54A-AA831DF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EB1-E52F-485F-A5BA-24E688E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5152-A869-4E61-85B8-4B78BBB4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F1CB-2182-41DF-8D90-D0DB883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8FE9-7A45-4B81-835A-76395440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D8A5A-04E5-4CA1-8F01-2AE2A8DA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5AA6A-F1F1-4306-AD15-1E75B4FD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D5D61-19BC-4B47-97EC-9D6DDAF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07F3C-D421-44F2-BE42-C276090C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EB97A-4BA4-41AD-BCB1-D6B1D3D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BD35B-03BC-41C3-B47A-77C97BCB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66A16-68B3-4FC7-9875-5928ED0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7E7-A271-4175-936E-88F0BE30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D3F3C-BFA2-4CE6-86B3-F4632F05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84E94-025C-4466-BF8F-0B45F68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C738C-A277-4C9D-AC78-0A2A5E8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08854-0362-4CE1-A061-018D71D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BF4C6-57AD-4268-AAF1-AF01DC7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CCA3D-86A4-45F5-A3D5-A981CE78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3022B-3420-4FBF-9668-08B7A331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11EB-9D2E-4563-80E9-94E83C3B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506E-0B01-4A48-960E-5A13FC1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184-DD4C-4515-81DE-9E7A09D7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C56-979C-4D22-8478-290F847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706-09A7-4301-A01B-549D8C1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C26A-1A8F-4C70-83F3-84802CE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98C-D71F-448F-8557-107E867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F4F-EC7A-4CF1-B165-CC86E767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02A-80BE-4612-9779-49407AB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1F5-CBC8-4700-BD2D-662948B7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B12F-B48E-42D1-853A-CA98E526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7022-20F7-4AC1-8D16-E0814A4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1B66-ACF7-4543-B488-33DE83B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33DB-FB10-4F4D-8985-C4F51E32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1753-21D3-4F03-8154-0BEDD58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0BC-6462-406F-8BB9-AC8C5E4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CE1B-6B57-4B56-9A55-293ACA6D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5FAD-9CE7-4C4D-86CD-7865A87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0B4B-9EDD-4A79-9EB8-12D1110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2E54-2F55-406D-B749-AB0578A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D98A-E1CB-40C5-AB5E-9696701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7891A-AF6B-45D2-A85B-481C804E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13A9-5759-4DB2-B861-3CED6D60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5E03-DB52-4F98-B6D8-51B08E9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031A-F520-4A89-9048-152CA341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0BF9-3242-4C6C-B578-6790FBB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05E-3E1C-45A9-8014-6D652EAD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4A1B-97A4-4A1B-A2E8-996437B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ECCA-61BB-4209-90F4-DBEA33E3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E899-CD75-4493-A802-3BDB5D7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ECC9-B70F-41EF-88D0-E3E1C42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714F-A1FA-4316-916D-56ED9AA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256E-1CDD-4348-BC2C-5068A40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A8C4-9660-47F5-A2C9-139EC1C4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E9E3-86C7-4F2E-A7F1-3AE30FEA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A64C-E767-4EFE-9E93-BE5300D6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8F2CE-7F3E-4284-9F54-77EDDCBE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F6C-F058-48DF-B9E9-EBA9D3A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50F46-77D8-464E-AC97-308B095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35D8F-9C68-43CE-8717-CED882F9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11FE2-D4F6-4B0D-AA57-7F0F566C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48AD2-4C2A-4441-9A01-170CD00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090E1-0C63-4F0F-AB2E-8E1B61C2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51BE7-7413-447F-8684-794969C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17394-9C97-4F79-B851-EBF3D50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9415E-E8BA-4068-A1C6-1BF6410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B54BF-6EEA-4C5F-87DD-00A8DD6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79455-B5EB-4E7F-8AA9-EC91BA7A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9E2-13E2-4879-9D75-2BF03A5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94B12-9B08-4103-87A2-57972D52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9EF3-D3F6-4A18-A15C-E98644ED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2AF7-67E2-4A5C-9F99-1515D19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9924-A883-4640-8929-B1BBA9EE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6A43-5CC1-4C10-966F-39A0838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E37B-F45B-444E-9AAF-330AD5C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5AF0-4B68-4F8C-BC89-A383223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47AED-F4D5-4002-81F5-1AF3ABB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9357A-C67D-466F-A39B-6993204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5E41-4FE4-423E-95AE-F55525A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AC8-BAD0-4FE3-9CEE-FEDC99E1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EA020-F002-47FE-B3E8-2F6AC81F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0B02-D2F9-4AFF-AA9B-FB6297FA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5D79-FB93-4504-BE68-8B39EE78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C304-B5A4-4C91-968C-9988BC00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A2DD-EE76-44CE-962E-FEC3A92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BA9A-FF82-4426-BC48-EE1DC08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A522-131D-4887-9158-505653FC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6AAF-144D-4D14-B366-A43EC81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013C-3073-4BAF-BAD5-E0F385D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3141-3DDB-40A2-92E9-8348CF1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89A-74E1-465F-BA68-DDCDF0F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1438-8164-4B24-8BF6-383C48E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EA3D-4FA9-4311-9205-EA47B115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95A3-D1CB-45B9-BC5D-7A4BFA44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BA2F-CADE-4AF8-ADE1-2F4C5EA3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47AB-F74D-4348-BE58-AC3D33C7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AAF39-830A-4259-8412-24C21BE8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D17C-690F-48BF-ABE8-86818F2B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1F32F-6399-4AA9-A133-E8A6DBA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3C71-209B-4E9B-A31E-481B105C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15B11-2801-42C3-9BD4-D6FE1C93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83D-E672-45BE-9BAF-CD92669C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764A6-10BF-403C-B2F7-6531057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750E-C650-49C8-9C29-0393C01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0A55-5073-4766-91A1-58D52A3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BBA2-DC27-4739-81FE-F27AB31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37670-56C2-486D-B033-3231C29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22C7D-EC1A-4B82-B204-FFBEFA3A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D393-ABBA-47F3-A97F-1B2CB9C7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8116B-A151-4A5D-99A7-8C6F3869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9641-EEB9-4022-B215-3304325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37368-C1CC-47B6-8739-ED66083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717-31C0-4BBD-B280-1FC68CF645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8572-1AE1-423A-BA04-550497C4EC58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2ED-4537-4D2D-A808-2DAFD1E879F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19C6-F5BA-4A54-8A43-A2F45C31F6D3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9229-F189-40A6-B1C6-83138E48B27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D6B0-1EA6-4ACA-8616-493ED9CE17E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789-D932-47FE-A9DB-891D06B4E42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4796-43C1-4906-8BF5-54EB66C3269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0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0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2BF-9D23-470A-A6B0-50ACE0E7D3C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60A-698D-48D3-A994-85E8010149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238-24F9-4CB8-8E4A-3E13FC75051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FA6-BB7D-4055-822C-005A72AF552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3FF-3C9D-45A9-BA4B-8B0A87380C3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5508720" cy="413676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2411280" y="4076640"/>
            <a:ext cx="5689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月亮的传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4753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Arial"/>
                <a:ea typeface="方正舒体"/>
              </a:rPr>
              <a:t>嫦娥奔月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95280" y="1268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丽的嫦娥是射下九个太阳的英雄羿的妻子，她因为偷吃了长生不老丹就飞进了月宫。她住在广寒宫里，捣药的玉兔和砍伐桂树的吴刚陪伴着她。嫦娥在每年的农历八月十五日，就会步出广寒宫，遥望人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ff"/>
                </a:solidFill>
                <a:latin typeface="Arial"/>
                <a:ea typeface="隶书"/>
              </a:rPr>
              <a:t>拓展思维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>
            <a:off x="395280" y="1773360"/>
            <a:ext cx="8748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4000" y="620640"/>
            <a:ext cx="853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99"/>
                </a:solidFill>
                <a:latin typeface="Arial"/>
                <a:ea typeface="隶书"/>
              </a:rPr>
              <a:t>讨论：</a:t>
            </a:r>
            <a:r>
              <a:rPr b="1" lang="zh-CN" sz="4400" spc="-1" strike="noStrike">
                <a:solidFill>
                  <a:srgbClr val="99ffcc"/>
                </a:solidFill>
                <a:latin typeface="Arial"/>
              </a:rPr>
              <a:t>为什么说人类第一次登月“对整个人类来说，是巨大的飞跃”，是人类探索太空的里程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3618000"/>
            <a:ext cx="9144000" cy="32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人类的梦想变成现实，人类走向地球以外的星球，不只局限于地球，说明人类现代科学技术已达到向外层空间发展的水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2749320" cy="41940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11280" y="4797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2003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年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月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日，中国载人太空船神舟五号成功发射，踏出探索太空的重要一步，圆了中国人千年的梦想。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4643280" cy="339876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8974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31280" y="4387680"/>
            <a:ext cx="871236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人类在努力不懈地进行宇宙探索，在这个探索历程中，人类的足迹会一步一步的延长，终有一天，会遍布宇宙的每个角落。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286160" cy="392436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2"/>
          <a:stretch/>
        </p:blipFill>
        <p:spPr>
          <a:xfrm>
            <a:off x="5254560" y="1557360"/>
            <a:ext cx="38894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Byebye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1116000" y="765000"/>
            <a:ext cx="6767640" cy="15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月亮上的足迹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4122720" cy="38894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3"/>
          <a:stretch/>
        </p:blipFill>
        <p:spPr>
          <a:xfrm>
            <a:off x="4211640" y="3429000"/>
            <a:ext cx="316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0" y="2720880"/>
            <a:ext cx="5508720" cy="413712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395280" y="1125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203640" y="4653000"/>
            <a:ext cx="53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仿宋_GB2312"/>
              </a:rPr>
              <a:t>月的诗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ff66"/>
                </a:solidFill>
                <a:latin typeface="Arial"/>
              </a:rPr>
              <a:t>窗前明月光，疑是地上霜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6028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明月几时有，把酒问青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2133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  <a:ea typeface="华文细黑"/>
              </a:rPr>
              <a:t>我寄愁心与明月，随君直到夜郎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cc"/>
                </a:solidFill>
                <a:latin typeface="黑体"/>
                <a:ea typeface="黑体"/>
              </a:rPr>
              <a:t>整 体 感 知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快速默读课文，并找出登月过程中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ahoma"/>
              </a:rPr>
              <a:t>表示时间的词语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本文写了一件什么事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请用简洁的语言概括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95040" y="2666880"/>
            <a:ext cx="1962360" cy="3962520"/>
            <a:chOff x="95040" y="2666880"/>
            <a:chExt cx="1962360" cy="3962520"/>
          </a:xfrm>
        </p:grpSpPr>
        <p:sp>
          <p:nvSpPr>
            <p:cNvPr id="1062" name=""/>
            <p:cNvSpPr/>
            <p:nvPr/>
          </p:nvSpPr>
          <p:spPr>
            <a:xfrm>
              <a:off x="457200" y="26668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5040" y="3429000"/>
              <a:ext cx="15210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升空前准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905120" y="2666880"/>
            <a:ext cx="2286000" cy="3276720"/>
            <a:chOff x="1905120" y="2666880"/>
            <a:chExt cx="2286000" cy="3276720"/>
          </a:xfrm>
        </p:grpSpPr>
        <p:sp>
          <p:nvSpPr>
            <p:cNvPr id="1065" name=""/>
            <p:cNvSpPr/>
            <p:nvPr/>
          </p:nvSpPr>
          <p:spPr>
            <a:xfrm>
              <a:off x="266688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81040" y="3505320"/>
              <a:ext cx="1521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051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3962520" y="2666880"/>
            <a:ext cx="2895480" cy="3200400"/>
            <a:chOff x="3962520" y="2666880"/>
            <a:chExt cx="2895480" cy="3200400"/>
          </a:xfrm>
        </p:grpSpPr>
        <p:sp>
          <p:nvSpPr>
            <p:cNvPr id="1069" name=""/>
            <p:cNvSpPr/>
            <p:nvPr/>
          </p:nvSpPr>
          <p:spPr>
            <a:xfrm>
              <a:off x="4876920" y="266688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6704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成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625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858000" y="2666880"/>
            <a:ext cx="2286000" cy="3200400"/>
            <a:chOff x="6858000" y="2666880"/>
            <a:chExt cx="2286000" cy="3200400"/>
          </a:xfrm>
        </p:grpSpPr>
        <p:sp>
          <p:nvSpPr>
            <p:cNvPr id="1073" name=""/>
            <p:cNvSpPr/>
            <p:nvPr/>
          </p:nvSpPr>
          <p:spPr>
            <a:xfrm>
              <a:off x="7620120" y="26668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5796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返回地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12408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395280" y="549360"/>
            <a:ext cx="83883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登月全过程可以分为几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阶段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5172840" y="476280"/>
            <a:ext cx="2192400" cy="1099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隶书"/>
                <a:ea typeface="隶书"/>
              </a:rPr>
              <a:t>登月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335400" cy="27795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4164480" y="1752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8320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3200" y="2971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44360" y="487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将要发生的事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440320" y="184464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20840" y="3933720"/>
            <a:ext cx="78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国佛罗里达半岛中部的肯尼迪航天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983840" y="306864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姆斯特朗、科林斯、奥尔德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46760" y="486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就要踏上探索月球的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5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75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4427640" y="1052640"/>
            <a:ext cx="38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隶书"/>
                <a:ea typeface="隶书"/>
              </a:rPr>
              <a:t>飞船升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62080" y="836640"/>
            <a:ext cx="3395520" cy="503064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4716360" y="2349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发射架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看火箭升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6265800" cy="42512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0" y="69228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，登月舱和飞船脱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292560" cy="388908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5292720" y="4941720"/>
            <a:ext cx="3492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登月舱平稳地降落在月球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19640" y="40464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登月成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66"/>
                </a:solidFill>
                <a:latin typeface="黑体"/>
                <a:ea typeface="黑体"/>
              </a:rPr>
              <a:t>自 主 学 习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宇航员从登月到返航经历了多长时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登月全过程是按什么顺序来写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宇航员登月后做了哪几件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50920" y="2421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人类第一次踏上月球来回历经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76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万公里，历时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95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个小时</a:t>
            </a:r>
            <a:r>
              <a:rPr b="0" lang="zh-CN" sz="4400" spc="-1" strike="noStrike">
                <a:solidFill>
                  <a:srgbClr val="ccff66"/>
                </a:solidFill>
                <a:latin typeface="Arial"/>
              </a:rPr>
              <a:t> ；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时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24000" y="4292640"/>
            <a:ext cx="8820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采集月壤和月岩样品，树立纪念碑，安装摄像机，安装太阳风测定装置、月震仪，插上美国国旗，与尼克松总统通话等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3:41:43Z</dcterms:created>
  <dc:creator>wutao</dc:creator>
  <dc:description/>
  <dc:language>en-US</dc:language>
  <cp:lastModifiedBy>yk</cp:lastModifiedBy>
  <dcterms:modified xsi:type="dcterms:W3CDTF">2004-03-10T05:40:37Z</dcterms:modified>
  <cp:revision>100</cp:revision>
  <dc:subject/>
  <dc:title>幻灯片 1</dc:title>
</cp:coreProperties>
</file>