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9FA-778E-47A4-9391-162610B1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FFA-0D4C-4EFE-BF72-BD9A7AA5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B5B-E47F-4BB6-890D-5991CADB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504-3EB5-43C6-A6DE-FFBDDE1C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880-D194-40AD-9AB4-7309D854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0E9-64FE-4D12-A7F4-52E3C56D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9B7-87A4-47EE-A539-897EF37F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BB8-7ECA-4F7C-A165-DBA6E5DD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422-E845-4C49-82E0-5C586784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14E-001D-494A-84EB-EA9695E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FA7-63D2-4FEA-A3BA-579DF123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816-BDC2-480C-ABAA-A9CFF372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6636-A2BB-4F32-97A6-7FC93E596F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" descr=""/>
          <p:cNvPicPr/>
          <p:nvPr/>
        </p:nvPicPr>
        <p:blipFill>
          <a:blip r:embed="rId1"/>
          <a:stretch/>
        </p:blipFill>
        <p:spPr>
          <a:xfrm>
            <a:off x="2590920" y="0"/>
            <a:ext cx="6959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380880"/>
            <a:ext cx="2286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、“阿波罗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11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号”进入太空后，是不是直接向月球飞去？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z-1_2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335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飞船进入太空后，先绕地球飞行，以便检测飞船是否正常，能否向月球飞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2819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“阿波罗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”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号在向月球飞行过程 中，航天员的主要工作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z-1_8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600200"/>
            <a:ext cx="2743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“阿波罗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号” 降落在月球上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z-1_6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a" descr=""/>
          <p:cNvPicPr/>
          <p:nvPr/>
        </p:nvPicPr>
        <p:blipFill>
          <a:blip r:embed="rId2"/>
          <a:stretch/>
        </p:blipFill>
        <p:spPr>
          <a:xfrm>
            <a:off x="0" y="342900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sz-1_8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3565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00600" y="403848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阿波罗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号”仍在绕月轨道上飞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spacearcap1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457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、根据课文内容，推测图片中飞行器的名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533520"/>
            <a:ext cx="2895480" cy="1981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登月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657600"/>
          </a:xfrm>
          <a:prstGeom prst="rect">
            <a:avLst/>
          </a:prstGeom>
          <a:ln w="0">
            <a:noFill/>
          </a:ln>
        </p:spPr>
      </p:pic>
      <p:pic>
        <p:nvPicPr>
          <p:cNvPr id="78" name="c" descr=""/>
          <p:cNvPicPr/>
          <p:nvPr/>
        </p:nvPicPr>
        <p:blipFill>
          <a:blip r:embed="rId2"/>
          <a:stretch/>
        </p:blipFill>
        <p:spPr>
          <a:xfrm>
            <a:off x="0" y="274320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4572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哪二位宇航员登上了月球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44956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阿姆斯特朗和奥尔德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_photo11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82" name="14" descr=""/>
          <p:cNvPicPr/>
          <p:nvPr/>
        </p:nvPicPr>
        <p:blipFill>
          <a:blip r:embed="rId2"/>
          <a:stretch/>
        </p:blipFill>
        <p:spPr>
          <a:xfrm>
            <a:off x="0" y="0"/>
            <a:ext cx="49784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10080" y="396252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、请说出宇航员在月球上做了哪几件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8380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990720"/>
            <a:ext cx="71625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采集月壤和月岩的样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树立月球纪念牌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安装太阳风测定装置和测定月球和地球之间距离的激光仪；月震仪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插上美国国旗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尼克松总统通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_photo1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324480" y="4572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、宇航员在月球上工作了多长时间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z-1_10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4038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286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宇航员在返航时，将什么留在太空？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" descr=""/>
          <p:cNvPicPr/>
          <p:nvPr/>
        </p:nvPicPr>
        <p:blipFill>
          <a:blip r:embed="rId2"/>
          <a:stretch/>
        </p:blipFill>
        <p:spPr>
          <a:xfrm>
            <a:off x="0" y="266688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0" y="403848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其他国家曾对美国这种做法提出批评，你认为呢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qiu800x600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93" name="yzh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35812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人类在进行航天活动时遗弃在太空的各种物体的碎片，被称为太空垃圾。据统计，目前约有数千吨的太空垃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在以每秒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公里的速度绕地球运行。给人类的太空活动带来了巨大的安全隐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ebshots_15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657600"/>
          </a:xfrm>
          <a:prstGeom prst="rect">
            <a:avLst/>
          </a:prstGeom>
          <a:ln w="0">
            <a:noFill/>
          </a:ln>
        </p:spPr>
      </p:pic>
      <p:pic>
        <p:nvPicPr>
          <p:cNvPr id="97" name="spllogo_jwm31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3657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38862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当宇航员在太空行走时，一块迎面而来、直径仅为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米的金属微粒足以威胁宇航员的生命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983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年美国航天飞机“挑战号”与一块直径为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0.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米的涂料剥离物相撞，导致航天飞机停止飞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1523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你认为宇航员登月过程分为哪几个阶段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808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下面问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6080" y="3657600"/>
            <a:ext cx="1399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登月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352680"/>
            <a:ext cx="609480" cy="2895840"/>
          </a:xfrm>
          <a:custGeom>
            <a:avLst/>
            <a:gdLst>
              <a:gd name="textAreaLeft" fmla="*/ 389520 w 609480"/>
              <a:gd name="textAreaRight" fmla="*/ 609840 w 60948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3352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登月准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191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飞船升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5105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登月成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安全返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美国宇航员在登月纪念碑上写下这段文字：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……我们代表全人类，来这里作一次和平旅行…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”他们为什么不说“代表美国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38098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因为相对于外星系来说，是代表人类第一次踏上了月球，是整个人类探索太空的里程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1371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人类登月有什么意义？课文哪一段有所揭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19320" y="251460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文章是按什么顺序记叙登月的过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根据下面的情境，展开想像，写一段一二百字的文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5146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Times New Roman"/>
                <a:ea typeface="隶书"/>
              </a:rPr>
              <a:t>     </a:t>
            </a:r>
            <a:r>
              <a:rPr b="0" lang="zh-CN" sz="4400" spc="-1" strike="noStrike">
                <a:solidFill>
                  <a:srgbClr val="ff66cc"/>
                </a:solidFill>
                <a:latin typeface="Times New Roman"/>
                <a:ea typeface="隶书"/>
              </a:rPr>
              <a:t>你驾驶着一艘宇宙飞船，在茫茫的太空中寻找外星生命。你离开地球已经好几天了。这时，透过舷窗，你看到一个美丽的蓝色星球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_photo1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" descr="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28800" y="1523880"/>
            <a:ext cx="5791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月亮上的足迹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83204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、地球和月球之间的距离是多少公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1219320"/>
            <a:ext cx="1295280" cy="1066680"/>
          </a:xfrm>
          <a:prstGeom prst="line">
            <a:avLst/>
          </a:prstGeom>
          <a:ln w="12708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335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99"/>
                </a:solidFill>
                <a:latin typeface="Times New Roman"/>
              </a:rPr>
              <a:t>38</a:t>
            </a:r>
            <a:r>
              <a:rPr b="0" lang="zh-CN" sz="4000" spc="-1" strike="noStrike">
                <a:solidFill>
                  <a:srgbClr val="ffcc99"/>
                </a:solidFill>
                <a:latin typeface="Times New Roman"/>
              </a:rPr>
              <a:t>万公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请说出三位宇航员的姓名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14" descr=""/>
          <p:cNvPicPr/>
          <p:nvPr/>
        </p:nvPicPr>
        <p:blipFill>
          <a:blip r:embed="rId1"/>
          <a:stretch/>
        </p:blipFill>
        <p:spPr>
          <a:xfrm>
            <a:off x="0" y="3962520"/>
            <a:ext cx="487692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7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5146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5740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分别 是：阿姆斯特朗，科林斯和奥尔德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133720"/>
            <a:ext cx="2514600" cy="245412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A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、土星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5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号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B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、阿波罗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11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145_jpg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6248520" cy="5105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4572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三位宇航员乘坐的飞船是（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27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ff"/>
                </a:solidFill>
                <a:latin typeface="隶书"/>
                <a:ea typeface="隶书"/>
              </a:rPr>
              <a:t>4</a:t>
            </a:r>
            <a:r>
              <a:rPr b="0" lang="zh-CN" sz="5400" spc="-1" strike="noStrike">
                <a:solidFill>
                  <a:srgbClr val="ff66ff"/>
                </a:solidFill>
                <a:latin typeface="隶书"/>
                <a:ea typeface="隶书"/>
              </a:rPr>
              <a:t>、根据课文的有关内容，请说说“土星</a:t>
            </a:r>
            <a:r>
              <a:rPr b="0" lang="zh-CN" sz="5400" spc="-1" strike="noStrike">
                <a:solidFill>
                  <a:srgbClr val="ff66ff"/>
                </a:solidFill>
                <a:latin typeface="隶书"/>
                <a:ea typeface="隶书"/>
              </a:rPr>
              <a:t>5</a:t>
            </a:r>
            <a:r>
              <a:rPr b="0" lang="zh-CN" sz="5400" spc="-1" strike="noStrike">
                <a:solidFill>
                  <a:srgbClr val="ff66ff"/>
                </a:solidFill>
                <a:latin typeface="隶书"/>
                <a:ea typeface="隶书"/>
              </a:rPr>
              <a:t>号”火箭的作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18080" y="228600"/>
            <a:ext cx="1521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推动“阿波罗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号”进入太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07:05:47Z</dcterms:created>
  <dc:creator>wutao</dc:creator>
  <dc:description/>
  <dc:language>en-US</dc:language>
  <cp:lastModifiedBy>zyb</cp:lastModifiedBy>
  <dcterms:modified xsi:type="dcterms:W3CDTF">2004-12-01T07:38:58Z</dcterms:modified>
  <cp:revision>100</cp:revision>
  <dc:subject/>
  <dc:title>PowerPoint 演示文稿</dc:title>
</cp:coreProperties>
</file>