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26.png" ContentType="image/png"/>
  <Override PartName="/ppt/media/image1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ABD6-CB7B-459C-9803-5A7AD9176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667E-A610-4CBA-852C-7A9946096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A42D-2AA9-4F5E-90E9-ABA3EC2B7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438F-0878-479E-8945-1D694F00F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3381-924E-43E2-B823-6928F2592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43A1-D0E9-45AD-8534-360FEA80A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2695-168A-49D9-AAB9-72F19E7E9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EC4A-CE82-4F6A-B693-685CDDE5C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5A6B-5FFD-4F0A-9374-E1707B319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CB14-5F3F-4381-ADDF-DB0B9B96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E9B7-FE70-4FB8-8FBB-B6AE6965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F38A-E264-43DF-8E8D-AB938566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AF24E-83E0-4B74-BE3A-38421256D4E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人类对宇宙的新探索" descr=""/>
          <p:cNvPicPr/>
          <p:nvPr/>
        </p:nvPicPr>
        <p:blipFill>
          <a:blip r:embed="rId1"/>
          <a:srcRect l="0" t="0" r="1743" b="0"/>
          <a:stretch/>
        </p:blipFill>
        <p:spPr>
          <a:xfrm>
            <a:off x="304920" y="0"/>
            <a:ext cx="8610480" cy="6888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 rot="5400000">
            <a:off x="4267440" y="2818440"/>
            <a:ext cx="6399360" cy="1219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98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00"/>
                </a:solidFill>
                <a:latin typeface="华文琥珀"/>
              </a:rPr>
              <a:t>人类对宇宙的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00"/>
              </a:solidFill>
              <a:latin typeface="华文琥珀"/>
              <a:ea typeface="华文琥珀"/>
            </a:endParaRPr>
          </a:p>
        </p:txBody>
      </p:sp>
      <p:sp>
        <p:nvSpPr>
          <p:cNvPr id="43" name=""/>
          <p:cNvSpPr txBox="1"/>
          <p:nvPr/>
        </p:nvSpPr>
        <p:spPr>
          <a:xfrm rot="5400000">
            <a:off x="4201560" y="1893600"/>
            <a:ext cx="3314880" cy="1203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00"/>
                </a:solidFill>
                <a:latin typeface="华文琥珀"/>
              </a:rPr>
              <a:t>新探索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00"/>
              </a:solidFill>
              <a:latin typeface="华文琥珀"/>
              <a:ea typeface="华文琥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flight%20plan" descr=""/>
          <p:cNvPicPr/>
          <p:nvPr/>
        </p:nvPicPr>
        <p:blipFill>
          <a:blip r:embed="rId1"/>
          <a:stretch/>
        </p:blipFill>
        <p:spPr>
          <a:xfrm>
            <a:off x="1066680" y="441360"/>
            <a:ext cx="7010640" cy="504504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sp>
        <p:nvSpPr>
          <p:cNvPr id="69" name=""/>
          <p:cNvSpPr txBox="1"/>
          <p:nvPr/>
        </p:nvSpPr>
        <p:spPr>
          <a:xfrm>
            <a:off x="5562720" y="5857920"/>
            <a:ext cx="274320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黑体"/>
              </a:rPr>
              <a:t>美国登月计划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38080" y="152280"/>
            <a:ext cx="4496040" cy="337212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sp>
        <p:nvSpPr>
          <p:cNvPr id="71" name=""/>
          <p:cNvSpPr txBox="1"/>
          <p:nvPr/>
        </p:nvSpPr>
        <p:spPr>
          <a:xfrm>
            <a:off x="5562720" y="1295280"/>
            <a:ext cx="327636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黑体"/>
              </a:rPr>
              <a:t>美国的登月活动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黑体"/>
              <a:ea typeface="黑体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343400" y="3733920"/>
            <a:ext cx="3962520" cy="297180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sp>
        <p:nvSpPr>
          <p:cNvPr id="73" name=""/>
          <p:cNvSpPr txBox="1"/>
          <p:nvPr/>
        </p:nvSpPr>
        <p:spPr>
          <a:xfrm>
            <a:off x="1600200" y="4724280"/>
            <a:ext cx="228600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黑体"/>
              </a:rPr>
              <a:t>“</a:t>
            </a: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黑体"/>
              </a:rPr>
              <a:t>第一步”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724640" cy="354348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sp>
        <p:nvSpPr>
          <p:cNvPr id="75" name=""/>
          <p:cNvSpPr txBox="1"/>
          <p:nvPr/>
        </p:nvSpPr>
        <p:spPr>
          <a:xfrm>
            <a:off x="5562720" y="5181480"/>
            <a:ext cx="281916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黑体"/>
              </a:rPr>
              <a:t>航天飞机升空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057400" y="1028880"/>
            <a:ext cx="5029200" cy="377172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sp>
        <p:nvSpPr>
          <p:cNvPr id="77" name=""/>
          <p:cNvSpPr txBox="1"/>
          <p:nvPr/>
        </p:nvSpPr>
        <p:spPr>
          <a:xfrm>
            <a:off x="5638680" y="5477040"/>
            <a:ext cx="243864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黑体"/>
              </a:rPr>
              <a:t>天空实验室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362320" y="1447920"/>
            <a:ext cx="4419360" cy="331452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sp>
        <p:nvSpPr>
          <p:cNvPr id="79" name=""/>
          <p:cNvSpPr txBox="1"/>
          <p:nvPr/>
        </p:nvSpPr>
        <p:spPr>
          <a:xfrm>
            <a:off x="5562720" y="5486400"/>
            <a:ext cx="198108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黑体"/>
              </a:rPr>
              <a:t>修复哈勃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黑体"/>
              <a:ea typeface="黑体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057400" y="1219320"/>
            <a:ext cx="5029200" cy="377172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838080" y="1676520"/>
            <a:ext cx="7086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00"/>
                </a:solidFill>
                <a:latin typeface="华文琥珀"/>
              </a:rPr>
              <a:t>开发、利用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00"/>
              </a:solidFill>
              <a:latin typeface="华文琥珀"/>
              <a:ea typeface="华文琥珀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362320" y="3276720"/>
            <a:ext cx="6172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00"/>
                </a:solidFill>
                <a:latin typeface="华文琥珀"/>
              </a:rPr>
              <a:t>宇宙环境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00"/>
              </a:solidFill>
              <a:latin typeface="华文琥珀"/>
              <a:ea typeface="华文琥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12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381880" cy="55879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1981080" y="2362320"/>
            <a:ext cx="5181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黑体"/>
              </a:rPr>
              <a:t>利用空间资源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气象卫星_中国风云一号" descr=""/>
          <p:cNvPicPr/>
          <p:nvPr/>
        </p:nvPicPr>
        <p:blipFill>
          <a:blip r:embed="rId1"/>
          <a:stretch/>
        </p:blipFill>
        <p:spPr>
          <a:xfrm>
            <a:off x="457200" y="3429000"/>
            <a:ext cx="4114800" cy="309564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pic>
        <p:nvPicPr>
          <p:cNvPr id="86" name="通讯卫星_国际通讯卫星" descr=""/>
          <p:cNvPicPr/>
          <p:nvPr/>
        </p:nvPicPr>
        <p:blipFill>
          <a:blip r:embed="rId2"/>
          <a:stretch/>
        </p:blipFill>
        <p:spPr>
          <a:xfrm>
            <a:off x="4419720" y="243000"/>
            <a:ext cx="4038480" cy="303372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5334120" y="48006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风云一号气象卫星（中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28800" y="1295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Times New Roman"/>
                <a:ea typeface="华文新魏"/>
              </a:rPr>
              <a:t>国际通讯卫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通讯卫星_东方红三号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4343400" cy="324036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pic>
        <p:nvPicPr>
          <p:cNvPr id="90" name="侦察卫星_美国预警卫星" descr=""/>
          <p:cNvPicPr/>
          <p:nvPr/>
        </p:nvPicPr>
        <p:blipFill>
          <a:blip r:embed="rId2"/>
          <a:stretch/>
        </p:blipFill>
        <p:spPr>
          <a:xfrm>
            <a:off x="4876920" y="3619440"/>
            <a:ext cx="3962160" cy="297180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5181480" y="12193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东方红三号通讯卫星（中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49528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预警卫星（美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资源卫星_欧洲地球资源卫星" descr=""/>
          <p:cNvPicPr/>
          <p:nvPr/>
        </p:nvPicPr>
        <p:blipFill>
          <a:blip r:embed="rId1"/>
          <a:srcRect l="0" t="0" r="1142" b="0"/>
          <a:stretch/>
        </p:blipFill>
        <p:spPr>
          <a:xfrm>
            <a:off x="1676520" y="977760"/>
            <a:ext cx="6476760" cy="490068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sp>
        <p:nvSpPr>
          <p:cNvPr id="94" name=""/>
          <p:cNvSpPr txBox="1"/>
          <p:nvPr/>
        </p:nvSpPr>
        <p:spPr>
          <a:xfrm rot="5400000">
            <a:off x="-766800" y="2052720"/>
            <a:ext cx="3657600" cy="466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黑体"/>
              </a:rPr>
              <a:t>欧洲地球资源卫星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523880"/>
            <a:ext cx="7543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00"/>
                </a:solidFill>
                <a:latin typeface="华文琥珀"/>
              </a:rPr>
              <a:t>人类对宇宙的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00"/>
              </a:solidFill>
              <a:latin typeface="华文琥珀"/>
              <a:ea typeface="华文琥珀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924360" y="3352680"/>
            <a:ext cx="483876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00"/>
                </a:solidFill>
                <a:latin typeface="华文琥珀"/>
              </a:rPr>
              <a:t>探索历程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00"/>
              </a:solidFill>
              <a:latin typeface="华文琥珀"/>
              <a:ea typeface="华文琥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试验卫星_前苏联生物卫星" descr=""/>
          <p:cNvPicPr/>
          <p:nvPr/>
        </p:nvPicPr>
        <p:blipFill>
          <a:blip r:embed="rId1"/>
          <a:stretch/>
        </p:blipFill>
        <p:spPr>
          <a:xfrm>
            <a:off x="4572000" y="365040"/>
            <a:ext cx="4191120" cy="314028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sp>
        <p:nvSpPr>
          <p:cNvPr id="96" name=""/>
          <p:cNvSpPr txBox="1"/>
          <p:nvPr/>
        </p:nvSpPr>
        <p:spPr>
          <a:xfrm>
            <a:off x="304920" y="990720"/>
            <a:ext cx="411480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黑体"/>
              </a:rPr>
              <a:t>生物试验卫星（苏）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黑体"/>
              <a:ea typeface="黑体"/>
            </a:endParaRPr>
          </a:p>
        </p:txBody>
      </p:sp>
      <p:pic>
        <p:nvPicPr>
          <p:cNvPr id="97" name="the%20Apollo%20experiments" descr=""/>
          <p:cNvPicPr/>
          <p:nvPr/>
        </p:nvPicPr>
        <p:blipFill>
          <a:blip r:embed="rId2"/>
          <a:srcRect l="52957" t="13639" r="2172" b="22726"/>
          <a:stretch/>
        </p:blipFill>
        <p:spPr>
          <a:xfrm>
            <a:off x="533520" y="2514600"/>
            <a:ext cx="3657600" cy="372096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sp>
        <p:nvSpPr>
          <p:cNvPr id="98" name=""/>
          <p:cNvSpPr txBox="1"/>
          <p:nvPr/>
        </p:nvSpPr>
        <p:spPr>
          <a:xfrm>
            <a:off x="4572000" y="4876920"/>
            <a:ext cx="419112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黑体"/>
              </a:rPr>
              <a:t>月面上的试验（美）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太阳能利用" descr=""/>
          <p:cNvPicPr/>
          <p:nvPr/>
        </p:nvPicPr>
        <p:blipFill>
          <a:blip r:embed="rId1"/>
          <a:srcRect l="0" t="1579" r="0" b="0"/>
          <a:stretch/>
        </p:blipFill>
        <p:spPr>
          <a:xfrm>
            <a:off x="1295280" y="380880"/>
            <a:ext cx="6222960" cy="603252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sp>
        <p:nvSpPr>
          <p:cNvPr id="100" name=""/>
          <p:cNvSpPr txBox="1"/>
          <p:nvPr/>
        </p:nvSpPr>
        <p:spPr>
          <a:xfrm rot="5400000">
            <a:off x="5447520" y="2552760"/>
            <a:ext cx="518148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黑体"/>
              </a:rPr>
              <a:t>利用太阳能资源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小行星上的矿产资源" descr=""/>
          <p:cNvPicPr/>
          <p:nvPr/>
        </p:nvPicPr>
        <p:blipFill>
          <a:blip r:embed="rId1"/>
          <a:stretch/>
        </p:blipFill>
        <p:spPr>
          <a:xfrm>
            <a:off x="1841400" y="800280"/>
            <a:ext cx="6616800" cy="525780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sp>
        <p:nvSpPr>
          <p:cNvPr id="102" name=""/>
          <p:cNvSpPr txBox="1"/>
          <p:nvPr/>
        </p:nvSpPr>
        <p:spPr>
          <a:xfrm rot="5400000">
            <a:off x="-1409760" y="2552760"/>
            <a:ext cx="5181840" cy="838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黑体"/>
              </a:rPr>
              <a:t>利用矿产资源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380880"/>
            <a:ext cx="70866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黑体"/>
              </a:rPr>
              <a:t>空间开发日趋国际合作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黑体"/>
              <a:ea typeface="黑体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981080" y="1447920"/>
            <a:ext cx="5181840" cy="388620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sp>
        <p:nvSpPr>
          <p:cNvPr id="105" name=""/>
          <p:cNvSpPr txBox="1"/>
          <p:nvPr/>
        </p:nvSpPr>
        <p:spPr>
          <a:xfrm>
            <a:off x="5791320" y="5791320"/>
            <a:ext cx="182880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黑体"/>
              </a:rPr>
              <a:t>美苏言和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228600" y="2209680"/>
            <a:ext cx="86868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00"/>
                </a:solidFill>
                <a:latin typeface="华文琥珀"/>
              </a:rPr>
              <a:t>保护宇宙环境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00"/>
              </a:solidFill>
              <a:latin typeface="华文琥珀"/>
              <a:ea typeface="华文琥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ancient%20observations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248160" cy="498636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sp>
        <p:nvSpPr>
          <p:cNvPr id="47" name=""/>
          <p:cNvSpPr txBox="1"/>
          <p:nvPr/>
        </p:nvSpPr>
        <p:spPr>
          <a:xfrm rot="5400000">
            <a:off x="7090920" y="1900080"/>
            <a:ext cx="2133720" cy="466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黑体"/>
              </a:rPr>
              <a:t>肉眼观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黑体"/>
              <a:ea typeface="黑体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5553000"/>
            <a:ext cx="259092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黑体"/>
              </a:rPr>
              <a:t>15-16</a:t>
            </a: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黑体"/>
              </a:rPr>
              <a:t>世纪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黑体"/>
              <a:ea typeface="黑体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600200" y="6095880"/>
            <a:ext cx="685800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黑体"/>
              </a:rPr>
              <a:t>欧洲天文学家建立了自己的天文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Galileo%20Galilei" descr=""/>
          <p:cNvPicPr/>
          <p:nvPr/>
        </p:nvPicPr>
        <p:blipFill>
          <a:blip r:embed="rId1"/>
          <a:srcRect l="13956" t="3559" r="16297" b="25134"/>
          <a:stretch/>
        </p:blipFill>
        <p:spPr>
          <a:xfrm>
            <a:off x="380880" y="126216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51" name="early%20telescope" descr=""/>
          <p:cNvPicPr/>
          <p:nvPr/>
        </p:nvPicPr>
        <p:blipFill>
          <a:blip r:embed="rId2"/>
          <a:stretch/>
        </p:blipFill>
        <p:spPr>
          <a:xfrm>
            <a:off x="2209680" y="549360"/>
            <a:ext cx="6629400" cy="455616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sp>
        <p:nvSpPr>
          <p:cNvPr id="52" name=""/>
          <p:cNvSpPr txBox="1"/>
          <p:nvPr/>
        </p:nvSpPr>
        <p:spPr>
          <a:xfrm>
            <a:off x="457200" y="5170320"/>
            <a:ext cx="228600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黑体"/>
              </a:rPr>
              <a:t>17</a:t>
            </a: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黑体"/>
              </a:rPr>
              <a:t>世纪初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黑体"/>
              <a:ea typeface="黑体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80880" y="5857920"/>
            <a:ext cx="838224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黑体"/>
              </a:rPr>
              <a:t>天文望远镜发明，开创了天文观测的新纪元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黑体"/>
              <a:ea typeface="黑体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77880" y="2938320"/>
            <a:ext cx="77004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华文琥珀"/>
              </a:rPr>
              <a:t>伽利略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华文琥珀"/>
              <a:ea typeface="华文琥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Galileo's%20observations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010280" cy="517824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sp>
        <p:nvSpPr>
          <p:cNvPr id="56" name=""/>
          <p:cNvSpPr txBox="1"/>
          <p:nvPr/>
        </p:nvSpPr>
        <p:spPr>
          <a:xfrm>
            <a:off x="2209680" y="5934240"/>
            <a:ext cx="640080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黑体"/>
              </a:rPr>
              <a:t>伽利略观测到的月面和太阳黑子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servatories" descr=""/>
          <p:cNvPicPr/>
          <p:nvPr/>
        </p:nvPicPr>
        <p:blipFill>
          <a:blip r:embed="rId1"/>
          <a:stretch/>
        </p:blipFill>
        <p:spPr>
          <a:xfrm>
            <a:off x="1143000" y="210960"/>
            <a:ext cx="7010280" cy="558036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sp>
        <p:nvSpPr>
          <p:cNvPr id="58" name=""/>
          <p:cNvSpPr txBox="1"/>
          <p:nvPr/>
        </p:nvSpPr>
        <p:spPr>
          <a:xfrm rot="5400000">
            <a:off x="-414360" y="1709640"/>
            <a:ext cx="2210040" cy="466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黑体"/>
              </a:rPr>
              <a:t>20</a:t>
            </a: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黑体"/>
              </a:rPr>
              <a:t>世纪初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黑体"/>
              <a:ea typeface="黑体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28600" y="5781600"/>
            <a:ext cx="525780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黑体"/>
              </a:rPr>
              <a:t>各国建立大口径望远镜，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黑体"/>
              <a:ea typeface="黑体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352680" y="6315120"/>
            <a:ext cx="571500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黑体"/>
              </a:rPr>
              <a:t>并选择观测条件最佳的台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中秋赏月" descr=""/>
          <p:cNvPicPr/>
          <p:nvPr/>
        </p:nvPicPr>
        <p:blipFill>
          <a:blip r:embed="rId1"/>
          <a:stretch/>
        </p:blipFill>
        <p:spPr>
          <a:xfrm>
            <a:off x="2819520" y="131760"/>
            <a:ext cx="4952880" cy="659448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sp>
        <p:nvSpPr>
          <p:cNvPr id="62" name=""/>
          <p:cNvSpPr txBox="1"/>
          <p:nvPr/>
        </p:nvSpPr>
        <p:spPr>
          <a:xfrm rot="5400000">
            <a:off x="985320" y="1823760"/>
            <a:ext cx="1828800" cy="466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黑体"/>
              </a:rPr>
              <a:t>中秋赏月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黑体"/>
              <a:ea typeface="黑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838080" y="1905120"/>
            <a:ext cx="788688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黑体"/>
              </a:rPr>
              <a:t>1957</a:t>
            </a: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黑体"/>
              </a:rPr>
              <a:t>年，原苏联将人类第一颗人造地球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黑体"/>
              <a:ea typeface="黑体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52280" y="2666880"/>
            <a:ext cx="822960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黑体"/>
              </a:rPr>
              <a:t>卫星送入轨道，开创了观测、研究地球和整个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黑体"/>
              <a:ea typeface="黑体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52280" y="3495600"/>
            <a:ext cx="403884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黑体"/>
              </a:rPr>
              <a:t>宇宙的新时代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905120" y="857160"/>
            <a:ext cx="5486400" cy="411480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sp>
        <p:nvSpPr>
          <p:cNvPr id="67" name=""/>
          <p:cNvSpPr txBox="1"/>
          <p:nvPr/>
        </p:nvSpPr>
        <p:spPr>
          <a:xfrm>
            <a:off x="6019920" y="5486400"/>
            <a:ext cx="152388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黑体"/>
              </a:rPr>
              <a:t>加加林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utao</dc:creator>
  <dc:description/>
  <dc:language>en-US</dc:language>
  <cp:lastModifiedBy>a</cp:lastModifiedBy>
  <dcterms:modified xsi:type="dcterms:W3CDTF">2003-08-15T01:35:42Z</dcterms:modified>
  <cp:revision>100</cp:revision>
  <dc:subject/>
  <dc:title>PowerPoint Presentation</dc:title>
</cp:coreProperties>
</file>