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E8EA9-3DDC-4D4C-BEA8-F807E271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55560-20F0-457B-8FCA-42BAE3C8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9E747-8B6B-4555-8A27-83B4936B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25FEF-B3E6-4107-8EC2-7FCCD158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89E12-5861-4BF9-A21B-4DFFBBF0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8CB6-DBCD-448A-AC41-C3C28E45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67EC2-71F1-446C-9D87-7E5B6B1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CC814-E193-483E-819F-527CAC8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98B59-9170-4526-A173-D5ABA07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1C373-6DC7-4CB1-87EE-B67F3C70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A7A99-AD6A-40E8-81C6-91188134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44795-E62B-4C04-83F0-5BD77B68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480" y="2057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420-1ECA-4203-A864-F02373BBDC23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0400" y="152388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山    市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蒲松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36504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蒲松龄简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38276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蒲松龄（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640--1715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 清文学家。字留仙，一字剑臣，别号柳泉居士，世称聊斋先生，山东淄川（今淄博）人。早岁即有文名，深为施闰章、王士禛所重。屡应省试，皆落第，年七十一岁始成贡生。除中年一度作幕于宝应，居乡以塾师终老。家境贫困，接触底层人民生活。能诗文，善作俚曲。曾以数十年时间，写成短篇小说集《聊斋志异》，并不断修改增补。其书运用唐传奇小 说文体，通过谈狐说鬼方式，对当时的社会、政治多所批判。所著又有《聊斋文集》、《聊斋诗 集》、《聊斋俚曲》及关于农业、医药等通俗读物多种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蒲松龄画像3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3699000" cy="556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14400" y="2362320"/>
            <a:ext cx="1399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黑体"/>
              </a:rPr>
              <a:t>蒲松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《海市蜃楼图》" descr=""/>
          <p:cNvPicPr/>
          <p:nvPr/>
        </p:nvPicPr>
        <p:blipFill>
          <a:blip r:embed="rId2"/>
          <a:stretch/>
        </p:blipFill>
        <p:spPr>
          <a:xfrm>
            <a:off x="1371600" y="1047600"/>
            <a:ext cx="6553080" cy="299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0200" y="2890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主题思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2069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《山市》是一篇介绍山市蜃楼的妙文。文章将变幻莫测又而美妙奇特的山市蜃景由生成到消失的全过程，描绘得惟妙惟肖，历历如在眼前，展示了大自然美妙绝伦的景象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5176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结构层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600200"/>
            <a:ext cx="7772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全文共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4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，可分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个小层次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第一层（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），写“山市”是奂山八景之一，而且几年不能见到一次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第二层（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至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），写孙公子与友人在酒楼吃酒时见到了“山市”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第三层（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至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3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），写“山市”中的“城廓”和“危楼”的形象及变化过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第四层（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4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）写“山市”又名“鬼市”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981080"/>
            <a:ext cx="784836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悬念起笔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作者开门见山，概括介绍“奂山山市，邑八景之一也”。“然数年恒不一见。” 巧设悬念，唤起读者强烈的好奇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1992240"/>
            <a:ext cx="792468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层次清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333333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文章写山市蜃景的变化以时间为序，恰当地使用了表示时间的词语，如：忽、无何、未几、既而、逾时、倏忽等，把山市的变化写得极有层次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990800"/>
            <a:ext cx="75438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以情衬景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作者描绘山市蜃景的变化采用以情衬景的手法，文章通过孙禹年及朋友的眼睛，忽见奂山山峰上隐现出高耸的“孤塔”“相顾惊疑”，这种强烈的惊奇情绪，既是对离奇的山市初景的烘托，又是感染读者的情感媒介，作者将变幻莫测的山市奇景在人们惊奇迷惑的情绪波动中层层铺写，使景物的变换与人们的感受自然融合，相辅相成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2144880"/>
            <a:ext cx="76201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多种</a:t>
            </a:r>
            <a:r>
              <a:rPr b="0" lang="zh-CN" sz="4400" spc="-1" strike="noStrike">
                <a:solidFill>
                  <a:srgbClr val="333333"/>
                </a:solidFill>
                <a:latin typeface="宋体"/>
                <a:ea typeface="华文行楷"/>
              </a:rPr>
              <a:t>笔法的综合运用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作者采用虚实、详略、动静相结合的笔法，具体描绘了山间蜃景中变幻莫测的一楼一景，一人一态，写得极有情味，令人目不暇接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zyb</cp:lastModifiedBy>
  <dcterms:modified xsi:type="dcterms:W3CDTF">2004-12-02T02:26:55Z</dcterms:modified>
  <cp:revision>100</cp:revision>
  <dc:subject/>
  <dc:title>山市</dc:title>
</cp:coreProperties>
</file>