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3.gif" ContentType="image/gif"/>
  <Override PartName="/ppt/media/image4.jpeg" ContentType="image/jpeg"/>
  <Override PartName="/ppt/media/laser.wav" ContentType="audio/x-wav"/>
  <Override PartName="/ppt/media/type.wav" ContentType="audio/x-wav"/>
  <Override PartName="/ppt/media/image12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358-0357-4144-A76F-3D72F7B8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5C6-1A39-487B-BFFD-51A9D921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22E-B2ED-460A-9266-F2369E11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42F-4B32-4853-9D59-5FCDE497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B29-EA88-464E-94D1-3370C395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4C3-84F8-47D5-872F-25F6FCC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58E5-650A-4D07-9FE4-174B367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701E-D5A3-462C-9EFA-793D7E0D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8E3E-F8F3-479A-B5FE-329F6A57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3CFE-48DD-4A56-95CF-67C214C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E22-FBCE-4AB7-B1F8-7A10DB9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466-FF50-4777-B7B0-8CE10F3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C9DB-1630-4ADE-9355-2A0CE74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C6D6-DFF2-4DC3-9F7B-486266E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91B-163D-485A-B5C2-62898A8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F0A5-49DF-46A4-808A-3CF8BE3D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860-04E3-4DE8-8940-122E03B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E84-73F4-4E8A-878D-2137E68E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1BB-3373-45CC-82BB-F568D30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52D-9279-4C4A-A6E8-0C46D14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C66-B167-4EC6-A673-AE7A6EFB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7E8-B264-45ED-8D1A-99A7C56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0A8-A954-41F8-8F54-7DC64E2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786-ACDF-4098-805B-D4FED7E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D36-DE08-4365-ABA3-58BE40DD419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441A-28CB-4E03-AEE0-BB9B70093F9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6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青冥   飞甍   高垣睥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989000"/>
            <a:ext cx="80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 méng       yuán pì nì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没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数至八层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古今词义不同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接霄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一直连接到</a:t>
            </a:r>
            <a:r>
              <a:rPr b="1" lang="en-US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2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词类活用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词多义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19680" y="561960"/>
            <a:ext cx="52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400536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惊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疑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7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7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85720" y="685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未几</a:t>
            </a: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睥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0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0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历历在目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忽大风起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然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一座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一行有五点明处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5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3989520" cy="5867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190760" y="533520"/>
            <a:ext cx="4724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蒲松龄（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30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或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40--1715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年） 清朝文学家。字留仙，一字剑臣，号柳泉居士，世称聊斋先生，山东淄川（今山东淄博市南）人。他屡试不第，至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71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岁方为贡生。长期穷愁潦倒，以教书为业。一生著作很多，诗、文、词、赋、戏曲、俚曲等均有佳作，短篇小说集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聊斋志异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为其代表作。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95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描绘山市时，是以什么为序的</a:t>
            </a:r>
            <a:r>
              <a:rPr b="1" lang="zh-CN" sz="4000" spc="-1" strike="noStrike">
                <a:solidFill>
                  <a:srgbClr val="05024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349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是以时间为序的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4440" y="3938760"/>
            <a:ext cx="13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忽、无何、未几、忽、既儿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逾时、倏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7120" y="5867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2760" y="6010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是怎样描绘山市的变化的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8200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明确：作者是以目击者的口气来描写山市的变化的，这样可以增强文章的真实性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具体变化如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450864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08720" y="4508640"/>
            <a:ext cx="5331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515772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8148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510552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42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414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797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56000" y="4869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4869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844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4221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45813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75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943600" y="259560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9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、山市出现的全过程分为几个阶段</a:t>
            </a: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593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初生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从孤塔高耸到宫殿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2529000"/>
            <a:ext cx="74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发展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城郭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339408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3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高潮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危楼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19120" y="38527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5194440"/>
            <a:ext cx="90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结尾一段写山上的“鬼市”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这是补笔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有照应开头的作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1120" y="50385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440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4257720"/>
            <a:ext cx="58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结尾有什么作用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文章对山市景象的描写生动形象，作者运用了哪些修辞方法以达到这种效果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256536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惟危楼一座，直接霄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590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429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9280" y="3500280"/>
            <a:ext cx="46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至八层，裁如星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436572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436572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有楼若者，堂若者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坊若者。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29242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40360" y="27813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75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75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75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75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75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75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75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行楷"/>
              </a:rPr>
              <a:t>6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、本文在写法上有什么特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描绘的是动景，抓住山市景象变幻莫测的特点来写，因而是 按照时间顺序来描绘景象的变化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11200"/>
            <a:ext cx="4572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聊斋志异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文言短篇小说集，共收录作品近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359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333360"/>
            <a:ext cx="129564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160956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1788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5075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在沙漠里，在海湾上，或是在广阔的陆地和 水域上空，有时在远处涌现树木房屋、街道行人、车马船舶等景象，好像一个热闹的集市，很快又自行消失。古代人们不了解它的成因，以为是神仙住所、蛟龙吐气，故而名为海市蜃楼，亦称蓬莱仙境。气象学上称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蜃景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90000" y="6853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4:50:39Z</dcterms:created>
  <dc:creator>wutao</dc:creator>
  <dc:description/>
  <dc:language>en-US</dc:language>
  <cp:lastModifiedBy>jf</cp:lastModifiedBy>
  <dcterms:modified xsi:type="dcterms:W3CDTF">2004-01-29T02:22:26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