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E68-A4D7-4009-852A-E2E04231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29C-11EC-42C1-8CAA-B941023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423-DA60-4353-BA83-D8D22E1A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5BF-F025-470A-A5AF-052DECD2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18D3-3143-468F-A520-9D59076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87DF-1F4D-47F5-B4AE-6510D537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8C4B-D6EC-4462-9F99-42FA38DE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2172-9104-40F9-9FBE-1F682FA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9869-144A-40D2-8C6C-9352895A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E98-9C73-4BE0-BFB3-DB9D3BA6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77CB-3E8E-45C0-A3F6-BCA7039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CB6-30F7-4324-BC22-F7B0C953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0699-C3A9-4D7B-B083-DB08697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D67B-1C7A-4BCD-947E-D9F1E95F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AC53-B90E-4B61-9987-B51D92B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226D-3769-49FD-BAEE-7351EF83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0773-74CA-4355-94D2-91957E55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C6E-C33A-4C80-A5EF-7139505B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103-BF17-4A99-A17B-79466AD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B0C-F1E9-4A42-B5BA-713B13EA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E39-E518-4D11-BAF4-A7F3FC1B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E07-5C17-460C-98D5-795FA83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330-7113-4E70-867B-DFA2C12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D4B-1C05-4DEC-A41D-9321084B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9007-AAFF-4E31-B970-B18001410E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AD6-3244-48CC-8DAE-D601B46F6B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430280"/>
            <a:ext cx="57150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华文彩云"/>
                <a:ea typeface="华文彩云"/>
              </a:rPr>
              <a:t>山  市</a:t>
            </a:r>
            <a:endParaRPr b="0" lang="en-US" sz="9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6576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作者：蒲松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4114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聊斋志异》文言短篇小说集，共收录作品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6121440"/>
            <a:ext cx="1219320" cy="736560"/>
          </a:xfrm>
          <a:prstGeom prst="rect">
            <a:avLst/>
          </a:prstGeom>
          <a:ln w="0">
            <a:noFill/>
          </a:ln>
        </p:spPr>
      </p:pic>
      <p:pic>
        <p:nvPicPr>
          <p:cNvPr id="114" name="psl0" descr="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1430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奂            邑             冥            甍            垣             睥            睨            亘             莽            霄            扉             缥            缈            逾             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4080" y="1905120"/>
            <a:ext cx="56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éng       yuán         b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37680" y="2590920"/>
            <a:ext cx="63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nì             gèn          mǎ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352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xiāo          fēi             piā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5400" y="4038480"/>
            <a:ext cx="620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iǎo         yú             sh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77120" y="5791320"/>
            <a:ext cx="1311120" cy="76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11430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huàn         yì            mí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990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山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现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的三个阶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981080"/>
            <a:ext cx="762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初生阶段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从孤塔高耸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到宫殿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发展阶段：城郭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高潮阶段：危楼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77120" y="5791320"/>
            <a:ext cx="1311120" cy="76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105520"/>
            <a:ext cx="7315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99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山市”蜃景的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变化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可分几个阶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267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４  结局：危楼消失，一切乌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r_12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Ar_124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Ar_124" descr=""/>
          <p:cNvPicPr/>
          <p:nvPr/>
        </p:nvPicPr>
        <p:blipFill>
          <a:blip r:embed="rId3"/>
          <a:stretch/>
        </p:blipFill>
        <p:spPr>
          <a:xfrm>
            <a:off x="2133720" y="2286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Ar_124" descr=""/>
          <p:cNvPicPr/>
          <p:nvPr/>
        </p:nvPicPr>
        <p:blipFill>
          <a:blip r:embed="rId4"/>
          <a:stretch/>
        </p:blipFill>
        <p:spPr>
          <a:xfrm>
            <a:off x="3505320" y="2286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Ar_124" descr=""/>
          <p:cNvPicPr/>
          <p:nvPr/>
        </p:nvPicPr>
        <p:blipFill>
          <a:blip r:embed="rId5"/>
          <a:stretch/>
        </p:blipFill>
        <p:spPr>
          <a:xfrm>
            <a:off x="4952880" y="2362320"/>
            <a:ext cx="68580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无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10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忽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（以时间为序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Ar_01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05720" y="6095880"/>
            <a:ext cx="13111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12840" y="220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Ar_116" descr=""/>
          <p:cNvPicPr/>
          <p:nvPr/>
        </p:nvPicPr>
        <p:blipFill>
          <a:blip r:embed="rId8"/>
          <a:stretch/>
        </p:blipFill>
        <p:spPr>
          <a:xfrm>
            <a:off x="6172200" y="2362320"/>
            <a:ext cx="1066680" cy="376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3809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忽：很迅速。倏忽：突然性。无何、未几、既而、逾时：都表时间极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920" y="51055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表明山市的景象变化很快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孤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宫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城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危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209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常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7840" y="274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拳如豆遂不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5053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（变化迅速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Ar_124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Ar_124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Ar_124" descr=""/>
          <p:cNvPicPr/>
          <p:nvPr/>
        </p:nvPicPr>
        <p:blipFill>
          <a:blip r:embed="rId3"/>
          <a:stretch/>
        </p:blipFill>
        <p:spPr>
          <a:xfrm>
            <a:off x="365760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Ar_124" descr=""/>
          <p:cNvPicPr/>
          <p:nvPr/>
        </p:nvPicPr>
        <p:blipFill>
          <a:blip r:embed="rId4"/>
          <a:stretch/>
        </p:blipFill>
        <p:spPr>
          <a:xfrm>
            <a:off x="5181480" y="2362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Ar_116" descr=""/>
          <p:cNvPicPr/>
          <p:nvPr/>
        </p:nvPicPr>
        <p:blipFill>
          <a:blip r:embed="rId5"/>
          <a:stretch/>
        </p:blipFill>
        <p:spPr>
          <a:xfrm>
            <a:off x="6705720" y="2313000"/>
            <a:ext cx="1066680" cy="376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34368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Ar_124" descr=""/>
          <p:cNvPicPr/>
          <p:nvPr/>
        </p:nvPicPr>
        <p:blipFill>
          <a:blip r:embed="rId6"/>
          <a:stretch/>
        </p:blipFill>
        <p:spPr>
          <a:xfrm>
            <a:off x="4114800" y="2895480"/>
            <a:ext cx="6094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91440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回家作业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362320"/>
            <a:ext cx="8077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１、课后朗读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２、课后查阅资料了解“山市”形成的科学道理</a:t>
            </a:r>
            <a:r>
              <a:rPr b="1" lang="en-US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可参考高中物理第二册</a:t>
            </a: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191</a:t>
            </a:r>
            <a:r>
              <a:rPr b="1" lang="zh-CN" sz="4800" spc="-1" strike="noStrike">
                <a:solidFill>
                  <a:srgbClr val="ff3300"/>
                </a:solidFill>
                <a:latin typeface="新宋体"/>
                <a:ea typeface="新宋体"/>
              </a:rPr>
              <a:t>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1447920"/>
            <a:ext cx="7162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感 谢 指 导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7200" spc="-1" strike="noStrike">
                <a:solidFill>
                  <a:srgbClr val="0000ff"/>
                </a:solidFill>
                <a:latin typeface="Times New Roman"/>
              </a:rPr>
              <a:t>再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海市蜃楼</a:t>
            </a:r>
            <a:r>
              <a:rPr b="0" lang="zh-CN" sz="2400" spc="-1" strike="noStrike">
                <a:solidFill>
                  <a:srgbClr val="003300"/>
                </a:solidFill>
                <a:latin typeface="Arial Black"/>
                <a:ea typeface="新宋体"/>
              </a:rPr>
              <a:t>——小知识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7524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假设有个绿洲，它在 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点发出的光线被空气折射，走一条弯弯的路径。在 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点，光线发生全内发射，使光线往上走。之后，光线再次被空气折射，最后光线会进入站在 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点那观测者的眼睛，使他形成错觉，误以为绿洲很接近他呢！很久以前，人类便发现了全内反射，更把这个现象加以应用，例如光纤、单镜反光照相机和双筒望远镜都应用了全内反射的原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32448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海市蜃楼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143680" cy="322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海市蜃楼的全景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海市蜃楼的景观不断变化，时而清晰，时而朦胧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90720" y="10666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海面上出现了一片现代化的海港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655308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 Black"/>
                <a:ea typeface="隶书"/>
              </a:rPr>
              <a:t>总结</a:t>
            </a:r>
            <a:r>
              <a:rPr b="0" lang="zh-CN" sz="3600" spc="-1" strike="noStrike">
                <a:solidFill>
                  <a:srgbClr val="003300"/>
                </a:solidFill>
                <a:latin typeface="Arial Black"/>
              </a:rPr>
              <a:t>：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在夏天，沿海一带或沙漠地区，经常可以看见在空中或地面以下有远处事物的影像，古人无法解释，误认为是大蛤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gé)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蜊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</a:t>
            </a:r>
            <a:r>
              <a:rPr b="0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li)</a:t>
            </a:r>
            <a:r>
              <a:rPr b="0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吐气形成的，因此，就称为“海市”或“海市蜃楼” 。这种现象，有时人们在山区也可以看到，人们就称之为“山市”。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43760"/>
            <a:ext cx="4038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97d29"/>
                </a:solidFill>
                <a:latin typeface="Arial Black"/>
                <a:ea typeface="隶书"/>
              </a:rPr>
              <a:t>教学目标：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了解作者及其作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2960" y="2895480"/>
            <a:ext cx="250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学习积累文言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理解课文大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74674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会山市的形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“山市”的出现可分为几个    阶段？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是以什么为顺序的?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神奇壮丽的幻境（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山市的具体变化如何，画出描绘的词语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3320" y="4876920"/>
            <a:ext cx="2307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探究山市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形成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的科学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3886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蒲松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640—17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，字留仙，一字剑臣，别号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柳泉居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世称聊斋先生，山东淄川（今淄博）人。早岁即有文名，但屡应省试皆落第，七十一岁才补为贡生。他用数十年的时间写成的短篇小说集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《聊斋志异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r_01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3200" y="6167520"/>
            <a:ext cx="1143000" cy="690480"/>
          </a:xfrm>
          <a:prstGeom prst="rect">
            <a:avLst/>
          </a:prstGeom>
          <a:ln w="0">
            <a:noFill/>
          </a:ln>
        </p:spPr>
      </p:pic>
      <p:pic>
        <p:nvPicPr>
          <p:cNvPr id="106" name="psl5" descr=""/>
          <p:cNvPicPr/>
          <p:nvPr/>
        </p:nvPicPr>
        <p:blipFill>
          <a:blip r:embed="rId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无标题" descr=""/>
          <p:cNvPicPr/>
          <p:nvPr/>
        </p:nvPicPr>
        <p:blipFill>
          <a:blip r:embed="rId6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1295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28600"/>
            <a:ext cx="46483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白居易在香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欧阳修六一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李清照号易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王安石住半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苏轼爬东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李白采青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r_0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800000">
            <a:off x="6553080" y="5867280"/>
            <a:ext cx="129564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1:42:11Z</dcterms:created>
  <dc:creator>wutao</dc:creator>
  <dc:description/>
  <dc:language>en-US</dc:language>
  <cp:lastModifiedBy>zyb</cp:lastModifiedBy>
  <dcterms:modified xsi:type="dcterms:W3CDTF">2004-12-02T02:27:26Z</dcterms:modified>
  <cp:revision>100</cp:revision>
  <dc:subject/>
  <dc:title>山  市</dc:title>
</cp:coreProperties>
</file>