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52F-0BFA-46A8-9D7D-B4C9808A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DFD-4D24-468C-B737-12A64DFE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BFF-7F13-43CF-97E7-447D9EE5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65F-3663-4930-9ED6-FB29B9E7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D211-107C-40B3-9B17-61F3B585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28E3-05DF-4E8C-8FD0-FB880349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E42-BC16-48B5-9C11-5D98967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2254-B956-4582-98E4-E0E8ADB0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28BE-25BF-4BA4-AE8F-1D08DF11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9FD-47FA-49D8-A6E0-815C9F04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FFA9-42D7-4C64-AA5A-5FF9453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294-15B5-4A54-8CCC-E036ECF0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3935-0DF6-4536-96B0-AC667558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5A7D-FCD5-4583-B468-4E76BE2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5F80-6A89-4BB2-92CB-F5FD043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D8C3-511C-48C6-8119-98F0EE16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FBCC-A902-41E5-B517-2BD07BE0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751-015D-4F22-9A83-48C3B379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CD7-88E7-45D3-9CEE-8BF4C0BD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438-A66C-4D8B-A887-2A6341D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D44-0AAF-4BDD-9891-EB5610CF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4F4-ABC9-45BC-8BF1-9D7F4C46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20A-C7C2-4879-822D-E8DB12E3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357-594D-44DA-885E-BFDD89E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62FE-0F2C-4C40-B7BC-EA0378E1B9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1DEE-F07C-48B2-B825-0B36E33552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90720" y="144792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琥珀"/>
              </a:rPr>
              <a:t>海市蜃楼的来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259092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夏天，沿海一带或沙漠地区，经常可以看见在空中或地面以下有远处事物的影像，古人无法解释，误认为是大蛤蜊吐气形成的，因此，就称为“海市”或“海市蜃楼”。这种现象，有时人们在山区也可以看到，人们就称之为“山市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2280" y="14479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中有楼若者，堂若者，坊若者，历历在目，以亿万计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2590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城中有像楼阁的，有像厅堂的，有像街坊的，都清晰地呈现在眼前，数也数不过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339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忽大风起，尘气莽莽然，城市依稀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441972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忽然刮起大风，烟尘弥漫，全城的景象变得模糊不清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143000"/>
            <a:ext cx="91440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既而风定天清，一切</a:t>
            </a:r>
            <a:r>
              <a:rPr b="0" lang="zh-CN" sz="3600" spc="-1" strike="noStrike" u="sng">
                <a:solidFill>
                  <a:srgbClr val="e5d093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乌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，惟危楼一座，直接霄汉。楼五架，窗扉皆洞开；一行有五点明处，楼外天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8954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过一阵子，大风停止，天空晴明，先前的景象全都消失了，只有一座高楼，上与天接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每层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有五间房，窗户都敞开着，都有五处明亮的地方，那是楼外的天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5029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层层指数，楼愈高，则明渐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71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一层一层地指着数上去，房间越高，亮点越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1143000"/>
            <a:ext cx="51814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数至八层，</a:t>
            </a:r>
            <a:r>
              <a:rPr b="0" lang="zh-CN" sz="3600" spc="-1" strike="noStrike" u="sng">
                <a:solidFill>
                  <a:srgbClr val="e5d093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裁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如星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7524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数到第八层，亮点只有星星那么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25146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又其上，则黯然缥缈，不可计其层次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8840" y="3124080"/>
            <a:ext cx="882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往上就变得暗淡了，似有若无，看不清它的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8960" y="431496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而楼上人往来屑屑，或凭或立，不一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50292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低层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楼上的人们来来往往，各干各的事情，有靠着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栏杆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，有站着的，姿态各不相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0880" y="1143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逾时，楼渐低，可见其顶；又渐如常楼；又渐如高舍；倏忽如拳如豆，遂不可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514600"/>
            <a:ext cx="86104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了一段时间，楼渐渐低矮下来，可以看见楼顶了；渐渐地，又变得跟平常的楼房一样；渐渐地，又变成了高高的平房；突然又缩成拳头一般大小，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缩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成为豆粒一般大小，终于完全消失</a:t>
            </a:r>
            <a:r>
              <a:rPr b="0" lang="zh-CN" sz="2400" spc="-1" strike="noStrike">
                <a:solidFill>
                  <a:srgbClr val="008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28600" y="1523880"/>
            <a:ext cx="86868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又闻有早行者，见山上人烟市肆，与世无别，故又名“鬼市”云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2895480"/>
            <a:ext cx="8458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又听说，有早起赶路的人，看到山上有人家、集市和店铺，跟尘世上的情形没有什么区别，所以人们又管它叫“鬼市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137160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作者是怎样描绘山市的变化的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山市出现的全过程可以分为几个阶段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作者描绘山市时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是以什么为序的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山市的变化是很快还是很缓慢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从哪些词语可以看出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文章结尾的作用是什么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rId1" action="ppaction://hlinksldjump"/>
          </p:cNvPr>
          <p:cNvSpPr/>
          <p:nvPr/>
        </p:nvSpPr>
        <p:spPr>
          <a:xfrm>
            <a:off x="7924680" y="57150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2743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762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孤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13716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1600200"/>
            <a:ext cx="1218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宫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2209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243828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城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30481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2680" y="3352680"/>
            <a:ext cx="129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危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33920" y="39625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4191120"/>
            <a:ext cx="1143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高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48769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510552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如拳如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791320"/>
            <a:ext cx="3812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6019920"/>
            <a:ext cx="1905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可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1143000"/>
            <a:ext cx="304920" cy="838080"/>
          </a:xfrm>
          <a:custGeom>
            <a:avLst/>
            <a:gdLst>
              <a:gd name="textAreaLeft" fmla="*/ 0 w 304920"/>
              <a:gd name="textAreaRight" fmla="*/ 11016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1219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初生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4382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发展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57800" y="365760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819520"/>
            <a:ext cx="1066680" cy="0"/>
          </a:xfrm>
          <a:prstGeom prst="line">
            <a:avLst/>
          </a:prstGeom>
          <a:ln w="255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46483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高潮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1143000"/>
            <a:ext cx="0" cy="5181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8920" y="2286000"/>
            <a:ext cx="729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间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2840" y="1371600"/>
            <a:ext cx="1255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无何、未见、既而、逾时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295280" y="19810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914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思考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文章对山市景象的描写生动形象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作者运用了哪些修辞手法以达到这种效果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2743200"/>
            <a:ext cx="754380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夸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惟危楼一座，直接霄汉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数至八层，裁如星点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66ff"/>
                </a:solidFill>
                <a:latin typeface="宋体"/>
                <a:ea typeface="楷体_GB2312"/>
              </a:rPr>
              <a:t>中有楼若者，堂若者，坊若者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289548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使文章语言简洁、富有表现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219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762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文言文知识点归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371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828800"/>
            <a:ext cx="769608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然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然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但。      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数年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好几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恒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经常。           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同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同业朋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青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青天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天空 。       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近中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无何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久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一会儿。   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倏忽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突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睥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指女墙，即城墙上呈凹凸形的矮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莽莽然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这里形容尘土之大。莽莽，广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0880" y="1143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2209680"/>
            <a:ext cx="594360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d093"/>
                </a:solidFill>
                <a:uFillTx/>
                <a:latin typeface="Times New Roman"/>
                <a:hlinkClick r:id="rId1" action="ppaction://hlinksldjump"/>
              </a:rPr>
              <a:t>A.</a:t>
            </a:r>
            <a:r>
              <a:rPr b="0" lang="zh-CN" sz="4400" spc="-1" strike="noStrike" u="sng">
                <a:solidFill>
                  <a:srgbClr val="e5d093"/>
                </a:solidFill>
                <a:uFillTx/>
                <a:latin typeface="Times New Roman"/>
                <a:hlinkClick r:id="rId2" action="ppaction://hlinksldjump"/>
              </a:rPr>
              <a:t>乌，同“无”，没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d093"/>
                </a:solidFill>
                <a:uFillTx/>
                <a:latin typeface="Times New Roman"/>
                <a:hlinkClick r:id="rId3" action="ppaction://hlinksldjump"/>
              </a:rPr>
              <a:t>B.</a:t>
            </a:r>
            <a:r>
              <a:rPr b="0" lang="zh-CN" sz="4400" spc="-1" strike="noStrike" u="sng">
                <a:solidFill>
                  <a:srgbClr val="e5d093"/>
                </a:solidFill>
                <a:uFillTx/>
                <a:latin typeface="Times New Roman"/>
                <a:hlinkClick r:id="rId4" action="ppaction://hlinksldjump"/>
              </a:rPr>
              <a:t>裁，同“才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郑州海市蜃楼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743200" y="6019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郑州海市蜃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990720"/>
            <a:ext cx="26668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难句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523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年恒不一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2514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05740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但经常好几年也不出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2666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中有楼若者，堂若者，坊若者，历历在目，以亿万计。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3657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城中有像楼阁的，有像厅堂的，有像街坊的，都清晰地呈现在眼前，数也数不过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4952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倏忽如拳如豆，遂不可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680" y="55483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突然又缩成拳头一般大小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再缩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成为豆粒一般大小，终于完全消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大连海市蜃楼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76720" y="5943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大连海市蜃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2514600" y="1981080"/>
            <a:ext cx="4267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山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4495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蒲松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5562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方正舒体"/>
              </a:rPr>
              <a:t>何小敏  广州四十一中南校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2362320"/>
            <a:ext cx="81532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蒲松龄（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1640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～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1715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），清代著名文学家。字留仙，又字剑臣，别号柳泉居上，又因为他著有著名的文言短篇小说集《聊斋志异》，世称聊斋先生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</a:rPr>
              <a:t>作者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13716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2860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文言短篇小说集，共收录作品近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篇，以短篇小说为主，此外还有散记特写、随笔寓言等等，主要写狐鬼怪异的故事，也收录了一些奇特的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3716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</a:rPr>
              <a:t>《聊斋志异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27160" y="474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2" descr=""/>
          <p:cNvPicPr/>
          <p:nvPr/>
        </p:nvPicPr>
        <p:blipFill>
          <a:blip r:embed="rId1"/>
          <a:stretch/>
        </p:blipFill>
        <p:spPr>
          <a:xfrm>
            <a:off x="4191120" y="4343400"/>
            <a:ext cx="47242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0880" y="10666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</a:rPr>
              <a:t>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438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奂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山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邑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禹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年     青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1148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飞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甍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  未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几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   高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垣睥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57913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亘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莽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莽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逾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时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倏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0" y="19810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ín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37339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én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3733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uán  pì   n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541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è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28800" y="5410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ǎn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280" y="10666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ff"/>
                </a:solidFill>
                <a:latin typeface="Times New Roman"/>
                <a:ea typeface="华文中宋"/>
              </a:rPr>
              <a:t>译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奂山山市，邑八景之一也，然数年恒不一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21337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奂山的“山市”，是淄川县八景中的一景，但经常好几年也不出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31240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孙公子禹年与同人饮楼上，忽见山头有孤塔  耸起，高插青冥，相顾惊疑，念近中无此禅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42688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有一天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孙禹年公子跟他的同业朋友在楼上喝酒，忽然看见山头有一座孤零零的宝塔耸立起来，高高地直插青天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大家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你看我，我看你，又惊奇又疑惑，心想这附近并没有佛寺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29528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无何，见宫殿数十所，碧瓦飞甍，始悟为山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82880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看见几十座宫殿，瓦是碧绿的，屋脊高高翘起，这才省悟到原来是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出现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“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山市”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0481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未几，高垣睥睨，连亘六七里，居然城郭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6576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没多久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又出现了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高高的城墙，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顶上是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呈凹凸形的短墙，连绵六七里，竟然是一座城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2:38:37Z</dcterms:created>
  <dc:creator>wutao</dc:creator>
  <dc:description/>
  <dc:language>en-US</dc:language>
  <cp:lastModifiedBy>user</cp:lastModifiedBy>
  <dcterms:modified xsi:type="dcterms:W3CDTF">2003-12-24T05:03:57Z</dcterms:modified>
  <cp:revision>100</cp:revision>
  <dc:subject/>
  <dc:title>PowerPoint 演示文稿</dc:title>
</cp:coreProperties>
</file>