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7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3.gif" ContentType="image/gif"/>
  <Override PartName="/ppt/media/image6.png" ContentType="image/png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C83-04E9-4BAF-AA77-784963CD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1D8-43BB-40C2-AE5F-325A59C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384-F56A-4502-B6D1-B3E8BD8D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658-E1C0-48AC-821C-13BD3384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0191-8FC7-49E6-8A70-C0B1F282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606E-CF9F-4977-82C8-A75CB205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AD22-458C-4662-AB27-DB146614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73AD-4C72-472C-8332-81AAD8F5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ACF2-A6F3-4F1A-97A0-F53CA586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8954-58FA-403C-8975-CA0CA3BF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9479-9CD6-4CF5-A9A7-D3026A7C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780-3D5A-450B-A60D-D2EB7033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0DA9-B030-4296-AFCB-AFE314BC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8DB2-E2E9-4F55-89C7-3DD9E8C6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00D1-403B-4BA3-8B6A-B7BCF7C3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33EC-EFAA-42A2-8A42-E7B30BCC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8243-D352-447F-A22E-B3DD937D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78E-5136-44A2-9355-09A821E7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977-E467-43FA-8167-80C0141E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76A-BC03-4DA3-B9A9-66FBE8D2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F88-2FFA-4229-9A09-BC729AC3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1E4-B577-4E9A-BFCC-BB5D3639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B8B-987B-40B3-9316-641321BB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BC9-6A4E-4DB9-85F7-7D81C409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9D1D-3174-42D3-9E11-254BF83BCC4A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72E6-8236-4CA2-B749-1A2990CD1422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6.xml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457440" y="6114960"/>
            <a:ext cx="1800360" cy="743040"/>
          </a:xfrm>
          <a:custGeom>
            <a:avLst/>
            <a:gdLst>
              <a:gd name="textAreaLeft" fmla="*/ 47880 w 1800360"/>
              <a:gd name="textAreaRight" fmla="*/ 1752480 w 1800360"/>
              <a:gd name="textAreaTop" fmla="*/ 47880 h 743040"/>
              <a:gd name="textAreaBottom" fmla="*/ 695160 h 743040"/>
            </a:gdLst>
            <a:ahLst/>
            <a:rect l="textAreaLeft" t="textAreaTop" r="textAreaRight" b="textAreaBottom"/>
            <a:pathLst>
              <a:path w="52321" h="21600">
                <a:moveTo>
                  <a:pt x="0" y="0"/>
                </a:moveTo>
                <a:lnTo>
                  <a:pt x="52321" y="0"/>
                </a:lnTo>
                <a:lnTo>
                  <a:pt x="52321" y="21600"/>
                </a:lnTo>
                <a:lnTo>
                  <a:pt x="0" y="21600"/>
                </a:lnTo>
                <a:close/>
              </a:path>
              <a:path fill="lightenLess" w="52321" h="21600">
                <a:moveTo>
                  <a:pt x="0" y="0"/>
                </a:moveTo>
                <a:lnTo>
                  <a:pt x="52321" y="0"/>
                </a:lnTo>
                <a:lnTo>
                  <a:pt x="50921" y="1400"/>
                </a:lnTo>
                <a:lnTo>
                  <a:pt x="1400" y="1400"/>
                </a:lnTo>
                <a:close/>
              </a:path>
              <a:path fill="darken" w="52321" h="21600">
                <a:moveTo>
                  <a:pt x="52321" y="0"/>
                </a:moveTo>
                <a:lnTo>
                  <a:pt x="52321" y="21600"/>
                </a:lnTo>
                <a:lnTo>
                  <a:pt x="50921" y="20200"/>
                </a:lnTo>
                <a:lnTo>
                  <a:pt x="50921" y="1400"/>
                </a:lnTo>
                <a:close/>
              </a:path>
              <a:path fill="darkenLess" w="52321" h="21600">
                <a:moveTo>
                  <a:pt x="5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1" y="20200"/>
                </a:lnTo>
                <a:close/>
              </a:path>
              <a:path fill="lighten" w="5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1" h="21600">
                <a:moveTo>
                  <a:pt x="19154" y="3794"/>
                </a:moveTo>
                <a:lnTo>
                  <a:pt x="33167" y="10800"/>
                </a:lnTo>
                <a:lnTo>
                  <a:pt x="19154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429000" y="635040"/>
            <a:ext cx="417204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隶书"/>
              </a:rPr>
              <a:t>山市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隶书"/>
              <a:ea typeface="隶书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24200" y="3200400"/>
            <a:ext cx="140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蒲松龄</a:t>
            </a:r>
            <a:endParaRPr b="1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FEAS006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1752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533520" y="0"/>
            <a:ext cx="30859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ed9c1"/>
                    </a:gs>
                    <a:gs pos="50000">
                      <a:srgbClr val="ff6600"/>
                    </a:gs>
                    <a:gs pos="100000">
                      <a:srgbClr val="fed9c1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学习目标</a:t>
            </a:r>
            <a:r>
              <a:rPr b="1" lang="en-US" sz="60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ed9c1"/>
                    </a:gs>
                    <a:gs pos="50000">
                      <a:srgbClr val="ff6600"/>
                    </a:gs>
                    <a:gs pos="100000">
                      <a:srgbClr val="fed9c1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:</a:t>
            </a:r>
            <a:endParaRPr b="1" lang="en-US" sz="60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ed9c1"/>
                  </a:gs>
                  <a:gs pos="50000">
                    <a:srgbClr val="ff6600"/>
                  </a:gs>
                  <a:gs pos="100000">
                    <a:srgbClr val="fed9c1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14" name="AG00029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72200" y="304920"/>
            <a:ext cx="1712880" cy="1358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828800"/>
            <a:ext cx="87631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能准确、流利地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诵读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课文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２、能结合注解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理解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课文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内容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用自己的语言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讲述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山市的变化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过程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抓住表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时间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词语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　３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积累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一定的文言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实词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知识，如：屑屑、历历、市肆等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４、试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仿写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一段景物变化的文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7" name="04" descr=""/>
          <p:cNvPicPr/>
          <p:nvPr/>
        </p:nvPicPr>
        <p:blipFill>
          <a:blip r:embed="rId5"/>
          <a:stretch/>
        </p:blipFill>
        <p:spPr>
          <a:xfrm>
            <a:off x="376200" y="1760400"/>
            <a:ext cx="57168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04" descr=""/>
          <p:cNvPicPr/>
          <p:nvPr/>
        </p:nvPicPr>
        <p:blipFill>
          <a:blip r:embed="rId6"/>
          <a:stretch/>
        </p:blipFill>
        <p:spPr>
          <a:xfrm>
            <a:off x="406440" y="5861160"/>
            <a:ext cx="57132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04" descr=""/>
          <p:cNvPicPr/>
          <p:nvPr/>
        </p:nvPicPr>
        <p:blipFill>
          <a:blip r:embed="rId7"/>
          <a:stretch/>
        </p:blipFill>
        <p:spPr>
          <a:xfrm>
            <a:off x="444600" y="4481640"/>
            <a:ext cx="57132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04" descr=""/>
          <p:cNvPicPr/>
          <p:nvPr/>
        </p:nvPicPr>
        <p:blipFill>
          <a:blip r:embed="rId8"/>
          <a:stretch/>
        </p:blipFill>
        <p:spPr>
          <a:xfrm>
            <a:off x="368280" y="2554200"/>
            <a:ext cx="57168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744040" y="6515280"/>
            <a:ext cx="399960" cy="342720"/>
          </a:xfrm>
          <a:custGeom>
            <a:avLst/>
            <a:gdLst>
              <a:gd name="textAreaLeft" fmla="*/ 21960 w 399960"/>
              <a:gd name="textAreaRight" fmla="*/ 378000 w 39996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42696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１、初读。可以选择不同的阅读方式，如默读、轻声读、放声读等。要求：读准字音，把握节奏，注意停顿，借助工具书、注解扫除文字障碍。　２、朗读。准确、流利、放声读课文，整体感知课文内容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３、细读。结合注解理解课文大意，用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·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或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~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在文中标出自己认为重要的实词，理解之。自己不能解决的疑难句子，请作好标记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４、能用自己的话讲述山市的变化过程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５、能体会到本文以——为序，并抓住关键词语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找出你最欣赏的语句，加以理解，品味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0"/>
            <a:ext cx="4710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学法指导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816440" y="0"/>
            <a:ext cx="2438280" cy="593640"/>
            <a:chOff x="4816440" y="0"/>
            <a:chExt cx="2438280" cy="593640"/>
          </a:xfrm>
        </p:grpSpPr>
        <p:pic>
          <p:nvPicPr>
            <p:cNvPr id="225" name="011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4816440" y="0"/>
              <a:ext cx="24382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02" descr=""/>
            <p:cNvPicPr/>
            <p:nvPr/>
          </p:nvPicPr>
          <p:blipFill>
            <a:blip r:embed="rId3"/>
            <a:stretch/>
          </p:blipFill>
          <p:spPr>
            <a:xfrm>
              <a:off x="5233680" y="0"/>
              <a:ext cx="1524240" cy="5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tree5" descr=""/>
          <p:cNvPicPr/>
          <p:nvPr/>
        </p:nvPicPr>
        <p:blipFill>
          <a:blip r:embed="rId4"/>
          <a:stretch/>
        </p:blipFill>
        <p:spPr>
          <a:xfrm>
            <a:off x="0" y="65556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28" name="tree5" descr=""/>
          <p:cNvPicPr/>
          <p:nvPr/>
        </p:nvPicPr>
        <p:blipFill>
          <a:blip r:embed="rId5"/>
          <a:stretch/>
        </p:blipFill>
        <p:spPr>
          <a:xfrm>
            <a:off x="0" y="318600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29" name="tree5" descr=""/>
          <p:cNvPicPr/>
          <p:nvPr/>
        </p:nvPicPr>
        <p:blipFill>
          <a:blip r:embed="rId6"/>
          <a:stretch/>
        </p:blipFill>
        <p:spPr>
          <a:xfrm>
            <a:off x="0" y="495936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30" name="tree5" descr=""/>
          <p:cNvPicPr/>
          <p:nvPr/>
        </p:nvPicPr>
        <p:blipFill>
          <a:blip r:embed="rId7"/>
          <a:stretch/>
        </p:blipFill>
        <p:spPr>
          <a:xfrm>
            <a:off x="0" y="56404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31" name="tree5" descr=""/>
          <p:cNvPicPr/>
          <p:nvPr/>
        </p:nvPicPr>
        <p:blipFill>
          <a:blip r:embed="rId8"/>
          <a:stretch/>
        </p:blipFill>
        <p:spPr>
          <a:xfrm>
            <a:off x="0" y="643572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32" name="tree5" descr=""/>
          <p:cNvPicPr/>
          <p:nvPr/>
        </p:nvPicPr>
        <p:blipFill>
          <a:blip r:embed="rId9"/>
          <a:stretch/>
        </p:blipFill>
        <p:spPr>
          <a:xfrm>
            <a:off x="0" y="1951200"/>
            <a:ext cx="4683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b7c1e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00200" y="747720"/>
            <a:ext cx="12859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忽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900520" y="719280"/>
            <a:ext cx="1285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隶书"/>
              </a:rPr>
              <a:t>无何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243400" y="719280"/>
            <a:ext cx="12002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未几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329600" y="628560"/>
            <a:ext cx="14144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隶书"/>
              </a:rPr>
              <a:t>既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28640" y="3571920"/>
            <a:ext cx="148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隶书"/>
              </a:rPr>
              <a:t>逾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14800" y="362916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隶书"/>
              </a:rPr>
              <a:t>倏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39" name=""/>
          <p:cNvSpPr/>
          <p:nvPr/>
        </p:nvSpPr>
        <p:spPr>
          <a:xfrm>
            <a:off x="7772400" y="6257880"/>
            <a:ext cx="1371600" cy="600120"/>
          </a:xfrm>
          <a:custGeom>
            <a:avLst/>
            <a:gdLst>
              <a:gd name="textAreaLeft" fmla="*/ 38880 w 1371600"/>
              <a:gd name="textAreaRight" fmla="*/ 1332720 w 1371600"/>
              <a:gd name="textAreaTop" fmla="*/ 38880 h 600120"/>
              <a:gd name="textAreaBottom" fmla="*/ 561240 h 600120"/>
            </a:gdLst>
            <a:ahLst/>
            <a:rect l="textAreaLeft" t="textAreaTop" r="textAreaRight" b="textAreaBottom"/>
            <a:pathLst>
              <a:path w="49351" h="21600">
                <a:moveTo>
                  <a:pt x="0" y="0"/>
                </a:moveTo>
                <a:lnTo>
                  <a:pt x="49351" y="0"/>
                </a:lnTo>
                <a:lnTo>
                  <a:pt x="49351" y="21600"/>
                </a:lnTo>
                <a:lnTo>
                  <a:pt x="0" y="21600"/>
                </a:lnTo>
                <a:close/>
              </a:path>
              <a:path fill="lightenLess" w="49351" h="21600">
                <a:moveTo>
                  <a:pt x="0" y="0"/>
                </a:moveTo>
                <a:lnTo>
                  <a:pt x="49351" y="0"/>
                </a:lnTo>
                <a:lnTo>
                  <a:pt x="47951" y="1400"/>
                </a:lnTo>
                <a:lnTo>
                  <a:pt x="1400" y="1400"/>
                </a:lnTo>
                <a:close/>
              </a:path>
              <a:path fill="darken" w="49351" h="21600">
                <a:moveTo>
                  <a:pt x="49351" y="0"/>
                </a:moveTo>
                <a:lnTo>
                  <a:pt x="49351" y="21600"/>
                </a:lnTo>
                <a:lnTo>
                  <a:pt x="47951" y="20200"/>
                </a:lnTo>
                <a:lnTo>
                  <a:pt x="47951" y="1400"/>
                </a:lnTo>
                <a:close/>
              </a:path>
              <a:path fill="darkenLess" w="49351" h="21600">
                <a:moveTo>
                  <a:pt x="49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1" y="20200"/>
                </a:lnTo>
                <a:close/>
              </a:path>
              <a:path fill="lighten" w="49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51" h="21600">
                <a:moveTo>
                  <a:pt x="17669" y="3794"/>
                </a:moveTo>
                <a:lnTo>
                  <a:pt x="31682" y="10800"/>
                </a:lnTo>
                <a:lnTo>
                  <a:pt x="1766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89548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３、请用现代汉语说说下列语句的意思：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１）、而楼上人往来屑屑，或凭或立，不一状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２）、倏忽如拳如豆，遂不可见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掌握以下划线字的读音</a:t>
            </a:r>
            <a:br>
              <a:rPr sz="4000"/>
            </a:b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山 青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飞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高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垣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睥睨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连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亘</a:t>
            </a:r>
            <a:br>
              <a:rPr sz="4000"/>
            </a:b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霄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汉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逾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时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忽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理解下列字词的含义：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然数年 同人 青冥 睥睨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近中 无何 莽莽然 倏忽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8829720" y="6400800"/>
            <a:ext cx="314280" cy="457200"/>
          </a:xfrm>
          <a:custGeom>
            <a:avLst/>
            <a:gdLst>
              <a:gd name="textAreaLeft" fmla="*/ 20160 w 314280"/>
              <a:gd name="textAreaRight" fmla="*/ 294120 w 314280"/>
              <a:gd name="textAreaTop" fmla="*/ 20160 h 457200"/>
              <a:gd name="textAreaBottom" fmla="*/ 437040 h 457200"/>
            </a:gdLst>
            <a:ahLst/>
            <a:rect l="textAreaLeft" t="textAreaTop" r="textAreaRight" b="textAreaBottom"/>
            <a:pathLst>
              <a:path w="21600" h="31411">
                <a:moveTo>
                  <a:pt x="0" y="0"/>
                </a:moveTo>
                <a:lnTo>
                  <a:pt x="21600" y="0"/>
                </a:lnTo>
                <a:lnTo>
                  <a:pt x="21600" y="31411"/>
                </a:lnTo>
                <a:lnTo>
                  <a:pt x="0" y="31411"/>
                </a:lnTo>
                <a:close/>
              </a:path>
              <a:path fill="lightenLess" w="21600" h="314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411">
                <a:moveTo>
                  <a:pt x="21600" y="0"/>
                </a:moveTo>
                <a:lnTo>
                  <a:pt x="21600" y="31411"/>
                </a:lnTo>
                <a:lnTo>
                  <a:pt x="20200" y="30011"/>
                </a:lnTo>
                <a:lnTo>
                  <a:pt x="20200" y="1400"/>
                </a:lnTo>
                <a:close/>
              </a:path>
              <a:path fill="darkenLess" w="21600" h="31411">
                <a:moveTo>
                  <a:pt x="21600" y="31411"/>
                </a:moveTo>
                <a:lnTo>
                  <a:pt x="0" y="31411"/>
                </a:lnTo>
                <a:lnTo>
                  <a:pt x="1400" y="30011"/>
                </a:lnTo>
                <a:lnTo>
                  <a:pt x="20200" y="30011"/>
                </a:lnTo>
                <a:close/>
              </a:path>
              <a:path fill="lighten" w="21600" h="31411">
                <a:moveTo>
                  <a:pt x="0" y="3141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011"/>
                </a:lnTo>
                <a:close/>
              </a:path>
              <a:path fill="darken" w="21600" h="31411">
                <a:moveTo>
                  <a:pt x="3794" y="15706"/>
                </a:moveTo>
                <a:lnTo>
                  <a:pt x="17806" y="8699"/>
                </a:lnTo>
                <a:lnTo>
                  <a:pt x="17806" y="22712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700200" y="747720"/>
            <a:ext cx="12859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忽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57080" y="1919160"/>
            <a:ext cx="142884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孤塔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900520" y="719280"/>
            <a:ext cx="1285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隶书"/>
              </a:rPr>
              <a:t>无何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3080" y="2062080"/>
            <a:ext cx="125748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宫殿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228760" y="1104840"/>
            <a:ext cx="5238720" cy="4070520"/>
            <a:chOff x="2228760" y="1104840"/>
            <a:chExt cx="5238720" cy="4070520"/>
          </a:xfrm>
        </p:grpSpPr>
        <p:sp>
          <p:nvSpPr>
            <p:cNvPr id="248" name=""/>
            <p:cNvSpPr/>
            <p:nvPr/>
          </p:nvSpPr>
          <p:spPr>
            <a:xfrm>
              <a:off x="2286000" y="5132520"/>
              <a:ext cx="828720" cy="42840"/>
            </a:xfrm>
            <a:prstGeom prst="rightArrow">
              <a:avLst>
                <a:gd name="adj1" fmla="val 50000"/>
                <a:gd name="adj2" fmla="val 483613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43240" y="3971880"/>
              <a:ext cx="828720" cy="88920"/>
            </a:xfrm>
            <a:prstGeom prst="rightArrow">
              <a:avLst>
                <a:gd name="adj1" fmla="val 50000"/>
                <a:gd name="adj2" fmla="val 232996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28760" y="1104840"/>
              <a:ext cx="5238720" cy="1346400"/>
              <a:chOff x="2228760" y="1104840"/>
              <a:chExt cx="5238720" cy="13464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28760" y="111456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0" y="2340000"/>
                <a:ext cx="628560" cy="88920"/>
              </a:xfrm>
              <a:prstGeom prst="rightArrow">
                <a:avLst>
                  <a:gd name="adj1" fmla="val 50000"/>
                  <a:gd name="adj2" fmla="val 176721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52760" y="112392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76800" y="236232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638760" y="229536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34000" y="110484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"/>
          <p:cNvSpPr txBox="1"/>
          <p:nvPr/>
        </p:nvSpPr>
        <p:spPr>
          <a:xfrm>
            <a:off x="5243400" y="719280"/>
            <a:ext cx="12002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未几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214960" y="1886040"/>
            <a:ext cx="12859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城郭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29600" y="628560"/>
            <a:ext cx="14144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隶书"/>
              </a:rPr>
              <a:t>既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472520" y="2028960"/>
            <a:ext cx="10285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危楼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28640" y="3571920"/>
            <a:ext cx="148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隶书"/>
              </a:rPr>
              <a:t>逾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42960" y="4743360"/>
            <a:ext cx="1485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常楼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14800" y="362916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隶书"/>
              </a:rPr>
              <a:t>倏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147840" y="4915080"/>
            <a:ext cx="20764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如拳如豆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105520" y="3772080"/>
            <a:ext cx="3276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以时间变化为序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05520" y="5057640"/>
            <a:ext cx="1876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变化迅速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7" name=""/>
          <p:cNvSpPr/>
          <p:nvPr/>
        </p:nvSpPr>
        <p:spPr>
          <a:xfrm>
            <a:off x="7743960" y="6343560"/>
            <a:ext cx="1003320" cy="514440"/>
          </a:xfrm>
          <a:custGeom>
            <a:avLst/>
            <a:gdLst>
              <a:gd name="textAreaLeft" fmla="*/ 33120 w 1003320"/>
              <a:gd name="textAreaRight" fmla="*/ 970200 w 1003320"/>
              <a:gd name="textAreaTop" fmla="*/ 33120 h 514440"/>
              <a:gd name="textAreaBottom" fmla="*/ 481320 h 514440"/>
            </a:gdLst>
            <a:ahLst/>
            <a:rect l="textAreaLeft" t="textAreaTop" r="textAreaRight" b="textAreaBottom"/>
            <a:pathLst>
              <a:path w="42112" h="21600">
                <a:moveTo>
                  <a:pt x="0" y="0"/>
                </a:moveTo>
                <a:lnTo>
                  <a:pt x="42112" y="0"/>
                </a:lnTo>
                <a:lnTo>
                  <a:pt x="42112" y="21600"/>
                </a:lnTo>
                <a:lnTo>
                  <a:pt x="0" y="21600"/>
                </a:lnTo>
                <a:close/>
              </a:path>
              <a:path fill="lightenLess" w="42112" h="21600">
                <a:moveTo>
                  <a:pt x="0" y="0"/>
                </a:moveTo>
                <a:lnTo>
                  <a:pt x="42112" y="0"/>
                </a:lnTo>
                <a:lnTo>
                  <a:pt x="40712" y="1400"/>
                </a:lnTo>
                <a:lnTo>
                  <a:pt x="1400" y="1400"/>
                </a:lnTo>
                <a:close/>
              </a:path>
              <a:path fill="darken" w="42112" h="21600">
                <a:moveTo>
                  <a:pt x="42112" y="0"/>
                </a:moveTo>
                <a:lnTo>
                  <a:pt x="42112" y="21600"/>
                </a:lnTo>
                <a:lnTo>
                  <a:pt x="40712" y="20200"/>
                </a:lnTo>
                <a:lnTo>
                  <a:pt x="40712" y="1400"/>
                </a:lnTo>
                <a:close/>
              </a:path>
              <a:path fill="darkenLess" w="42112" h="21600">
                <a:moveTo>
                  <a:pt x="42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12" y="20200"/>
                </a:lnTo>
                <a:close/>
              </a:path>
              <a:path fill="lighten" w="42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12" h="21600">
                <a:moveTo>
                  <a:pt x="14050" y="10800"/>
                </a:moveTo>
                <a:lnTo>
                  <a:pt x="28063" y="3794"/>
                </a:lnTo>
                <a:lnTo>
                  <a:pt x="28063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00200" y="747720"/>
            <a:ext cx="12859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忽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57080" y="1919160"/>
            <a:ext cx="142884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孤塔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00520" y="719280"/>
            <a:ext cx="1285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隶书"/>
              </a:rPr>
              <a:t>无何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3080" y="2062080"/>
            <a:ext cx="125748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宫殿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28760" y="1104840"/>
            <a:ext cx="5238720" cy="4070520"/>
            <a:chOff x="2228760" y="1104840"/>
            <a:chExt cx="5238720" cy="4070520"/>
          </a:xfrm>
        </p:grpSpPr>
        <p:sp>
          <p:nvSpPr>
            <p:cNvPr id="273" name=""/>
            <p:cNvSpPr/>
            <p:nvPr/>
          </p:nvSpPr>
          <p:spPr>
            <a:xfrm>
              <a:off x="2286000" y="5132520"/>
              <a:ext cx="828720" cy="42840"/>
            </a:xfrm>
            <a:prstGeom prst="rightArrow">
              <a:avLst>
                <a:gd name="adj1" fmla="val 50000"/>
                <a:gd name="adj2" fmla="val 483613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43240" y="3971880"/>
              <a:ext cx="828720" cy="88920"/>
            </a:xfrm>
            <a:prstGeom prst="rightArrow">
              <a:avLst>
                <a:gd name="adj1" fmla="val 50000"/>
                <a:gd name="adj2" fmla="val 232996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228760" y="1104840"/>
              <a:ext cx="5238720" cy="1346400"/>
              <a:chOff x="2228760" y="1104840"/>
              <a:chExt cx="5238720" cy="1346400"/>
            </a:xfrm>
          </p:grpSpPr>
          <p:sp>
            <p:nvSpPr>
              <p:cNvPr id="276" name=""/>
              <p:cNvSpPr/>
              <p:nvPr/>
            </p:nvSpPr>
            <p:spPr>
              <a:xfrm>
                <a:off x="2228760" y="111456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86000" y="2340000"/>
                <a:ext cx="628560" cy="88920"/>
              </a:xfrm>
              <a:prstGeom prst="rightArrow">
                <a:avLst>
                  <a:gd name="adj1" fmla="val 50000"/>
                  <a:gd name="adj2" fmla="val 176721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52760" y="112392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76800" y="236232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638760" y="229536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34000" y="110484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 txBox="1"/>
          <p:nvPr/>
        </p:nvSpPr>
        <p:spPr>
          <a:xfrm>
            <a:off x="5243400" y="719280"/>
            <a:ext cx="12002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未几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214960" y="1886040"/>
            <a:ext cx="12859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城郭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329600" y="628560"/>
            <a:ext cx="14144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隶书"/>
              </a:rPr>
              <a:t>既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472520" y="2028960"/>
            <a:ext cx="10285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危楼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28640" y="3571920"/>
            <a:ext cx="148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隶书"/>
              </a:rPr>
              <a:t>逾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42960" y="4743360"/>
            <a:ext cx="1485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常楼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14800" y="362916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隶书"/>
              </a:rPr>
              <a:t>倏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147840" y="4915080"/>
            <a:ext cx="20764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如拳如豆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105520" y="3772080"/>
            <a:ext cx="3276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以时间变化为序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05520" y="5057640"/>
            <a:ext cx="1876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变化迅速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2" name=""/>
          <p:cNvSpPr/>
          <p:nvPr/>
        </p:nvSpPr>
        <p:spPr>
          <a:xfrm>
            <a:off x="7743960" y="6343560"/>
            <a:ext cx="1003320" cy="514440"/>
          </a:xfrm>
          <a:custGeom>
            <a:avLst/>
            <a:gdLst>
              <a:gd name="textAreaLeft" fmla="*/ 33120 w 1003320"/>
              <a:gd name="textAreaRight" fmla="*/ 970200 w 1003320"/>
              <a:gd name="textAreaTop" fmla="*/ 33120 h 514440"/>
              <a:gd name="textAreaBottom" fmla="*/ 481320 h 514440"/>
            </a:gdLst>
            <a:ahLst/>
            <a:rect l="textAreaLeft" t="textAreaTop" r="textAreaRight" b="textAreaBottom"/>
            <a:pathLst>
              <a:path w="42112" h="21600">
                <a:moveTo>
                  <a:pt x="0" y="0"/>
                </a:moveTo>
                <a:lnTo>
                  <a:pt x="42112" y="0"/>
                </a:lnTo>
                <a:lnTo>
                  <a:pt x="42112" y="21600"/>
                </a:lnTo>
                <a:lnTo>
                  <a:pt x="0" y="21600"/>
                </a:lnTo>
                <a:close/>
              </a:path>
              <a:path fill="lightenLess" w="42112" h="21600">
                <a:moveTo>
                  <a:pt x="0" y="0"/>
                </a:moveTo>
                <a:lnTo>
                  <a:pt x="42112" y="0"/>
                </a:lnTo>
                <a:lnTo>
                  <a:pt x="40712" y="1400"/>
                </a:lnTo>
                <a:lnTo>
                  <a:pt x="1400" y="1400"/>
                </a:lnTo>
                <a:close/>
              </a:path>
              <a:path fill="darken" w="42112" h="21600">
                <a:moveTo>
                  <a:pt x="42112" y="0"/>
                </a:moveTo>
                <a:lnTo>
                  <a:pt x="42112" y="21600"/>
                </a:lnTo>
                <a:lnTo>
                  <a:pt x="40712" y="20200"/>
                </a:lnTo>
                <a:lnTo>
                  <a:pt x="40712" y="1400"/>
                </a:lnTo>
                <a:close/>
              </a:path>
              <a:path fill="darkenLess" w="42112" h="21600">
                <a:moveTo>
                  <a:pt x="42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12" y="20200"/>
                </a:lnTo>
                <a:close/>
              </a:path>
              <a:path fill="lighten" w="42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12" h="21600">
                <a:moveTo>
                  <a:pt x="14050" y="10800"/>
                </a:moveTo>
                <a:lnTo>
                  <a:pt x="28063" y="3794"/>
                </a:lnTo>
                <a:lnTo>
                  <a:pt x="28063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2:07:34Z</dcterms:created>
  <dc:creator>wutao</dc:creator>
  <dc:description/>
  <dc:language>en-US</dc:language>
  <cp:lastModifiedBy>a</cp:lastModifiedBy>
  <dcterms:modified xsi:type="dcterms:W3CDTF">2004-12-16T05:45:23Z</dcterms:modified>
  <cp:revision>100</cp:revision>
  <dc:subject/>
  <dc:title>PowerPoint 演示文稿</dc:title>
</cp:coreProperties>
</file>