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008-76EF-4E33-8866-24D206C1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B8B-39B5-40CD-947A-5D6094CE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78D-C998-4CDE-AC1A-76D51302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239-ADFF-4A68-8963-E7AC42A4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E92-27E5-48D1-81DD-3E6AF387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FDC-401E-4F60-99C0-E5BBE817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0B6-4198-4186-ADF6-1DE3E56F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6A4-BA54-4DE6-AECC-0F3BA741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DC8-6F44-4233-BC0A-DC28BF81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1F7-23A3-4507-9DD8-789B2AA1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A37-F891-4C70-AC81-D1584BD5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440-79FC-43CB-8B3E-3113F3A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7764-1670-4CEA-8F31-61D2313AFB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9.xm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" Target="slide3.xml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" Target="slide8.xml"/><Relationship Id="rId8" Type="http://schemas.openxmlformats.org/officeDocument/2006/relationships/image" Target="../media/image17.gif"/><Relationship Id="rId9" Type="http://schemas.openxmlformats.org/officeDocument/2006/relationships/slide" Target="slide14.xml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9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76212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山    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27432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蒲松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3505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438280" cy="217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57913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83440" y="56844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若者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若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3800" y="1371600"/>
            <a:ext cx="667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楼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4244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厅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844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街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12952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3623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历历在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亿万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忽大风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尘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1911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莽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城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依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而已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既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风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876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广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60440" y="4876920"/>
            <a:ext cx="2374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约约隐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清晰的出现在眼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70840" y="3124080"/>
            <a:ext cx="78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71040" y="3124080"/>
            <a:ext cx="789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5280" y="4800600"/>
            <a:ext cx="139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1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2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楼一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直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霄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80840" y="1219320"/>
            <a:ext cx="729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无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9440" y="1219320"/>
            <a:ext cx="789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只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61560" y="1219320"/>
            <a:ext cx="78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1066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云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33720" y="114300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连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8240" y="2362320"/>
            <a:ext cx="90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楼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窗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洞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一行有五点明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83840" y="2895480"/>
            <a:ext cx="1155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每层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3048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61360" y="2971800"/>
            <a:ext cx="1399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窗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2960" y="29718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大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2971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都有五处明亮的地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419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楼外天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层层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愈高，则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渐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那是楼外的天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5029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亮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435760" y="457200"/>
            <a:ext cx="41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八层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星点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又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9810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黯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缥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不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层次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而楼上人往来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屑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或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7680" y="49528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逾时，楼渐低，可见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顶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3429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1219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“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亮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123720" y="609120"/>
            <a:ext cx="228600" cy="381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11430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再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666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黯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26668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若有若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6668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4114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忙碌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4038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有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4038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靠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栏杆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562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形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5638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15200" y="5638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（楼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6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7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6858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457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又渐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楼；又渐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高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倏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52120" y="1676520"/>
            <a:ext cx="42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可见。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行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2800" y="3505320"/>
            <a:ext cx="51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山上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人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世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无别，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05400" y="5105520"/>
            <a:ext cx="22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鬼市”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1143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平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高高的平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突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096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拳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2209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豆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09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终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2286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听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早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96080" y="23623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赶路的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41148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人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1148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集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3848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店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114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尘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96080" y="4191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所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5715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9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0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" name="agf059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838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0" y="2881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hssl-1" descr=""/>
          <p:cNvPicPr/>
          <p:nvPr/>
        </p:nvPicPr>
        <p:blipFill>
          <a:blip r:embed="rId2"/>
          <a:stretch/>
        </p:blipFill>
        <p:spPr>
          <a:xfrm>
            <a:off x="914400" y="152280"/>
            <a:ext cx="7238880" cy="259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68604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hssl-7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4209840" cy="298764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724280" y="3733920"/>
            <a:ext cx="3961800" cy="703440"/>
            <a:chOff x="4724280" y="3733920"/>
            <a:chExt cx="3961800" cy="703440"/>
          </a:xfrm>
        </p:grpSpPr>
        <p:sp>
          <p:nvSpPr>
            <p:cNvPr id="308" name=""/>
            <p:cNvSpPr/>
            <p:nvPr/>
          </p:nvSpPr>
          <p:spPr>
            <a:xfrm>
              <a:off x="4724280" y="3743280"/>
              <a:ext cx="3961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3733920"/>
              <a:ext cx="396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1988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年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月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16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日凌晨，登州海面一次奇特的日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1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1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hssl-3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hssl-4" descr=""/>
          <p:cNvPicPr/>
          <p:nvPr/>
        </p:nvPicPr>
        <p:blipFill>
          <a:blip r:embed="rId3"/>
          <a:stretch/>
        </p:blipFill>
        <p:spPr>
          <a:xfrm>
            <a:off x="4495680" y="3200400"/>
            <a:ext cx="4419720" cy="282744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4952880" y="762120"/>
            <a:ext cx="3809520" cy="642600"/>
            <a:chOff x="4952880" y="762120"/>
            <a:chExt cx="3809520" cy="642600"/>
          </a:xfrm>
        </p:grpSpPr>
        <p:sp>
          <p:nvSpPr>
            <p:cNvPr id="321" name=""/>
            <p:cNvSpPr/>
            <p:nvPr/>
          </p:nvSpPr>
          <p:spPr>
            <a:xfrm>
              <a:off x="4952880" y="762120"/>
              <a:ext cx="3809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762120"/>
              <a:ext cx="380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南长山岛以西海面出现一片蒙胧的工厂区幻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52280" y="3657600"/>
            <a:ext cx="4571280" cy="703440"/>
            <a:chOff x="152280" y="3657600"/>
            <a:chExt cx="4571280" cy="703440"/>
          </a:xfrm>
        </p:grpSpPr>
        <p:sp>
          <p:nvSpPr>
            <p:cNvPr id="324" name=""/>
            <p:cNvSpPr/>
            <p:nvPr/>
          </p:nvSpPr>
          <p:spPr>
            <a:xfrm>
              <a:off x="152280" y="3657600"/>
              <a:ext cx="457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2280" y="3657600"/>
              <a:ext cx="457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莱阁东部海面蓬出现似古堡、舰船景物，闪闪发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2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3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hssl-5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21624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4648320" y="762120"/>
            <a:ext cx="8380440" cy="703440"/>
            <a:chOff x="4648320" y="762120"/>
            <a:chExt cx="8380440" cy="703440"/>
          </a:xfrm>
        </p:grpSpPr>
        <p:grpSp>
          <p:nvGrpSpPr>
            <p:cNvPr id="335" name=""/>
            <p:cNvGrpSpPr/>
            <p:nvPr/>
          </p:nvGrpSpPr>
          <p:grpSpPr>
            <a:xfrm>
              <a:off x="4648320" y="762120"/>
              <a:ext cx="4128480" cy="703440"/>
              <a:chOff x="4648320" y="762120"/>
              <a:chExt cx="4128480" cy="703440"/>
            </a:xfrm>
          </p:grpSpPr>
          <p:sp>
            <p:nvSpPr>
              <p:cNvPr id="336" name=""/>
              <p:cNvSpPr/>
              <p:nvPr/>
            </p:nvSpPr>
            <p:spPr>
              <a:xfrm>
                <a:off x="4648320" y="762120"/>
                <a:ext cx="41284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48320" y="762120"/>
                <a:ext cx="4128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ff"/>
                    </a:solidFill>
                    <a:latin typeface="Times New Roman"/>
                  </a:rPr>
                  <a:t>       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8777520" y="762120"/>
              <a:ext cx="4251240" cy="457560"/>
              <a:chOff x="8777520" y="762120"/>
              <a:chExt cx="4251240" cy="457560"/>
            </a:xfrm>
          </p:grpSpPr>
          <p:sp>
            <p:nvSpPr>
              <p:cNvPr id="339" name=""/>
              <p:cNvSpPr/>
              <p:nvPr/>
            </p:nvSpPr>
            <p:spPr>
              <a:xfrm>
                <a:off x="8777520" y="762120"/>
                <a:ext cx="4251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777520" y="762120"/>
                <a:ext cx="42512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hssl-6" descr=""/>
          <p:cNvPicPr/>
          <p:nvPr/>
        </p:nvPicPr>
        <p:blipFill>
          <a:blip r:embed="rId3"/>
          <a:stretch/>
        </p:blipFill>
        <p:spPr>
          <a:xfrm>
            <a:off x="0" y="3276720"/>
            <a:ext cx="5334120" cy="322236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410080" y="3657600"/>
            <a:ext cx="3124080" cy="1739880"/>
            <a:chOff x="5410080" y="3657600"/>
            <a:chExt cx="3124080" cy="1739880"/>
          </a:xfrm>
        </p:grpSpPr>
        <p:sp>
          <p:nvSpPr>
            <p:cNvPr id="344" name=""/>
            <p:cNvSpPr/>
            <p:nvPr/>
          </p:nvSpPr>
          <p:spPr>
            <a:xfrm>
              <a:off x="5410080" y="36576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365760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海岛上突然出现了两棵</a:t>
              </a:r>
              <a:br>
                <a:rPr sz="3600"/>
              </a:b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形似迎客松的景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800600" y="6858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诸多小岛顶部延伸架起了一座“多孔长桥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4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5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3" name="agf059" descr=""/>
          <p:cNvPicPr/>
          <p:nvPr/>
        </p:nvPicPr>
        <p:blipFill>
          <a:blip r:embed="rId4"/>
          <a:stretch/>
        </p:blipFill>
        <p:spPr>
          <a:xfrm>
            <a:off x="7772400" y="6248520"/>
            <a:ext cx="9144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0(3)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523880" cy="12654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57200" y="762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出现的全过程分为几个阶段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95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初生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从孤塔高耸到宫殿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828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发展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的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2362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高潮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危楼的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29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”从开始到最后是怎样一步步变化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3581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3581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无何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35812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未几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35812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43434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既而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43434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逾时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43434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倏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51814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出现的原理是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6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7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b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6858000" cy="396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33520" y="457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尾的作用是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9144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结尾一段写山上的“鬼市”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这是补笔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有照应开头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1981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”是蒲松龄亲眼所见吗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哪句话能看出来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2895480"/>
            <a:ext cx="838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华文新魏"/>
                <a:ea typeface="华文新魏"/>
              </a:rPr>
              <a:t>总结</a:t>
            </a:r>
            <a:r>
              <a:rPr b="1" lang="zh-CN" sz="40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这篇文章是根据目击者的叙述写的。它历历如画地再现了山市由生成到消失的过程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无论大笔勾勒或工笔描摹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都能曲尽其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4572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一共描绘了几幅画面，你能选一个镜头画下来吗？也可以用语言描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857240" y="3274920"/>
            <a:ext cx="5429160" cy="360"/>
            <a:chOff x="1857240" y="3274920"/>
            <a:chExt cx="5429160" cy="360"/>
          </a:xfrm>
        </p:grpSpPr>
        <p:sp>
          <p:nvSpPr>
            <p:cNvPr id="381" name=""/>
            <p:cNvSpPr/>
            <p:nvPr/>
          </p:nvSpPr>
          <p:spPr>
            <a:xfrm>
              <a:off x="1857240" y="32749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57240" y="32749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8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8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agf059" descr=""/>
          <p:cNvPicPr/>
          <p:nvPr/>
        </p:nvPicPr>
        <p:blipFill>
          <a:blip r:embed="rId3"/>
          <a:stretch/>
        </p:blipFill>
        <p:spPr>
          <a:xfrm>
            <a:off x="8153280" y="6095880"/>
            <a:ext cx="68580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209680" y="6094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152388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生字、词的积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图片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34290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翻译课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62320" y="4343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文精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6040" y="3114720"/>
            <a:ext cx="5429160" cy="360"/>
            <a:chOff x="1886040" y="3114720"/>
            <a:chExt cx="5429160" cy="360"/>
          </a:xfrm>
        </p:grpSpPr>
        <p:sp>
          <p:nvSpPr>
            <p:cNvPr id="396" name=""/>
            <p:cNvSpPr/>
            <p:nvPr/>
          </p:nvSpPr>
          <p:spPr>
            <a:xfrm>
              <a:off x="1886040" y="31147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86040" y="31147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8" name="gaofeng64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47920" y="6094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1886040" y="3114720"/>
            <a:ext cx="5429160" cy="360"/>
            <a:chOff x="1886040" y="3114720"/>
            <a:chExt cx="5429160" cy="360"/>
          </a:xfrm>
        </p:grpSpPr>
        <p:sp>
          <p:nvSpPr>
            <p:cNvPr id="400" name=""/>
            <p:cNvSpPr/>
            <p:nvPr/>
          </p:nvSpPr>
          <p:spPr>
            <a:xfrm>
              <a:off x="1886040" y="31147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86040" y="31147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2" name="gaofeng64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447920" y="1523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03" name="gaofeng644" descr=""/>
          <p:cNvPicPr/>
          <p:nvPr/>
        </p:nvPicPr>
        <p:blipFill>
          <a:blip r:embed="rId6"/>
          <a:stretch/>
        </p:blipFill>
        <p:spPr>
          <a:xfrm>
            <a:off x="144792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04" name="gaofeng64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447920" y="3429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05" name="gaofeng64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447920" y="24382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06" name="gaofeng644" descr=""/>
          <p:cNvPicPr/>
          <p:nvPr/>
        </p:nvPicPr>
        <p:blipFill>
          <a:blip r:embed="rId11"/>
          <a:stretch/>
        </p:blipFill>
        <p:spPr>
          <a:xfrm>
            <a:off x="1447920" y="5334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86000" y="53341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文言词语的归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agf059" descr=""/>
          <p:cNvPicPr/>
          <p:nvPr/>
        </p:nvPicPr>
        <p:blipFill>
          <a:blip r:embed="rId12"/>
          <a:stretch/>
        </p:blipFill>
        <p:spPr>
          <a:xfrm>
            <a:off x="8153280" y="6095880"/>
            <a:ext cx="68580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24080" y="304920"/>
            <a:ext cx="60199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蒲松龄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（ 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1640—1715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），清代文学家，字留仙，世称“聊斋先生”，淄川人（现在山东淄博），出身商人家庭，早岁即有文名，但屡试不第，至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71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岁方为贡生。长期穷愁潦倒，以教书为业。代表作《聊斋志异》。该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y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9545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396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以讲狐说鬼的浪漫主义手法，揭露抨击封建礼教的束缚，科举制度的腐朽以及封建统治的黑暗，主张个性自由，深刻反映了封建社会末期的现实生活，艺术成就达到古代文言小说的高峰，一向为后世所称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5889600"/>
            <a:ext cx="10731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r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133720" cy="131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29000" y="1295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奂山  邑  禹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590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青冥   飞甍   高垣 睥 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09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连亘  莽莽  窗扉   黯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51055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屑屑     逾时      倏忽      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7621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hu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àn       yì      y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ǔ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íng     méng        yuán pì n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3352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èn    mǎng        fēi       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4572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xiè          yú          shū           s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12193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68580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7621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查点、计算     数不胜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371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、数目         数以万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1981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u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屡次                数见不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81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8195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8954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fā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街巷名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牌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505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fá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手工业的工作场所   作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343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419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舍弃、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5029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房屋、宿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4343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43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u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身不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4952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u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、就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28640" y="5410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意、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27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8036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9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6094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词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2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孤塔耸起  高插青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2096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碧瓦飞甍  历历在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96252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直接霄汉  黯然缥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4480" y="3124080"/>
            <a:ext cx="298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风定天清  一切乌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73480" y="4800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恒不一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0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0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agf059" descr=""/>
          <p:cNvPicPr/>
          <p:nvPr/>
        </p:nvPicPr>
        <p:blipFill>
          <a:blip r:embed="rId2"/>
          <a:stretch/>
        </p:blipFill>
        <p:spPr>
          <a:xfrm>
            <a:off x="7772400" y="6019920"/>
            <a:ext cx="1143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通假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95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3333cc"/>
                </a:solidFill>
                <a:uFillTx/>
                <a:latin typeface="宋体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0574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数至八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3333cc"/>
                </a:solidFill>
                <a:uFillTx/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星点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8195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古今词义不同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657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霄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96640" y="4419720"/>
            <a:ext cx="21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古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一直连接到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6440" y="5105520"/>
            <a:ext cx="39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今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不经过中间的事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词类活用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066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窗扉皆洞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066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143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像洞一样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名词做状语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8288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一词多义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971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6668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见宫殿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十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2666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个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示不确定的数目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6576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至八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计数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800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5720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5720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数年恒不一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但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转折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334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居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竟然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词尾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3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agf059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838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19680" y="561960"/>
            <a:ext cx="52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奂山山市，邑八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也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990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18400" y="10666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但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2952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00560" y="10666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4240" y="1143000"/>
            <a:ext cx="789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56240" y="221472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孙公子禹年与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同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楼上，忽见山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862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24200" y="2743200"/>
            <a:ext cx="2739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朋友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53560" y="2743200"/>
            <a:ext cx="789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喝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3434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孤零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91400" y="45720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耸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9625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插青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相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惊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160" y="4495680"/>
            <a:ext cx="152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深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4952880"/>
            <a:ext cx="2209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你看看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我看看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4440" y="457200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惊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57960" y="4572000"/>
            <a:ext cx="7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疑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4495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6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6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13800" y="685800"/>
            <a:ext cx="48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近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此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禅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无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见宫殿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08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心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5880" y="12952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近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6156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佛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62120" y="129528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81640" y="12952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152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36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十所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瓦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飞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悟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山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78800" y="3048120"/>
            <a:ext cx="168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碧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89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飞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971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971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未几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没多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9625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垣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睥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572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5105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高高低低的城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403848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连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七里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居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城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45160" y="4648320"/>
            <a:ext cx="115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连绵不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8960" y="46483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竟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46483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9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9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0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6:47:41Z</dcterms:created>
  <dc:creator>wutao</dc:creator>
  <dc:description/>
  <dc:language>en-US</dc:language>
  <cp:lastModifiedBy>zyb</cp:lastModifiedBy>
  <dcterms:modified xsi:type="dcterms:W3CDTF">2004-12-02T02:28:20Z</dcterms:modified>
  <cp:revision>100</cp:revision>
  <dc:subject/>
  <dc:title>PowerPoint 演示文稿</dc:title>
</cp:coreProperties>
</file>