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063-9490-4095-99DD-3D402749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160-0BDE-492E-9273-ECA6F7B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C85-96DA-4953-A16D-B83733A2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909-ABC5-4562-A7C5-FEE98AC8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72AB-481A-4C12-A759-6FC1B367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2DB-4AFE-483A-8FD3-EEBEF1C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151-70CE-49E3-9800-273C25F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63F4-084E-406E-8C06-63E691A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B29-B2DC-4E27-A42D-EC886BF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635-DC23-43AE-AD5F-8130F4FF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353-90B5-4EE3-88E4-A191DBA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EB9-FC1B-46A0-8E0F-1740259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DA14-19C0-46EE-9143-46665402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CCB-9764-4B5C-A466-A3735AA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FE7E-A4DF-458C-BF4E-2A1C089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468-C25A-46BD-BF97-4CC93DB4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0BD-47FB-480D-95E3-C84AED45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FEA-7572-4E6F-A9D6-8B0C9A0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E1C-3FC4-428D-A837-F4AD067E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46F-27CF-4884-8AF3-D78A2266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611-A807-49DD-B47D-A7EDD22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DC4-4934-434D-9A32-5AFAFF7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92E-31A7-47FD-B8F1-0B3411F5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E8E-208F-4955-9BC2-2F72E19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88B8-EFEF-451F-BF4D-607B99A7685E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E4EA-D6CC-4B4E-A0BA-049114352AA9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1788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0028_" descr=""/>
          <p:cNvPicPr/>
          <p:nvPr/>
        </p:nvPicPr>
        <p:blipFill>
          <a:blip r:embed="rId3"/>
          <a:stretch/>
        </p:blipFill>
        <p:spPr>
          <a:xfrm>
            <a:off x="1066680" y="228600"/>
            <a:ext cx="1371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奂        冥       甍       垣      睥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         睨       亘         倏      郭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2376000"/>
            <a:ext cx="77691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青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近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无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莽莽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屑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304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é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04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2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近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青天，天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久，不一会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343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里形容尘土很大 。莽莽，广大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724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匆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br>
              <a:rPr sz="28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作者描绘山市时，是以什么为序的</a:t>
            </a:r>
            <a:r>
              <a:rPr b="0" lang="zh-CN" sz="3200" spc="-1" strike="noStrike">
                <a:solidFill>
                  <a:srgbClr val="050246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以时间为序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9625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表示时间的词语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952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未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既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作者是怎样描绘山市的变化的？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00400"/>
            <a:ext cx="776448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：作者是以目击者的口气来描写山市的变化的，这样可以增强文章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具体变化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48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、山市的变化是快还是缓慢？从哪些词语可以看出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133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哪些词语中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0600" y="2147760"/>
            <a:ext cx="2741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山市的变化很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97180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505320"/>
            <a:ext cx="6629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57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表明山市出现得很迅速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1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4343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明山市的景象变化突然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562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何  未几  既而  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示极短的时间，表明山市的景象变化很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0663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430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90720" y="5562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648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4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文章对山市景象的描写生动形象，作者运用了哪些修辞方法以达到这种效果？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918800"/>
            <a:ext cx="7769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惟危楼一座，直接霄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至八层，裁如星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495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楼若者，堂若者，坊若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7432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本文在写法上有什么特点？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1640" y="3366720"/>
            <a:ext cx="776916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描绘的是动景，抓住山市景象变幻莫测的特点来写，因而是 按照时间顺序来描绘景象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是怎么回事呢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现象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答   案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在沙漠里，在海湾上，或是在广阔的陆地和 水域上空，有时在远处涌现树木房屋、街道行人、车马船舶等景象，好像一个热闹的集市，很快又自行消失。古代人们不了解它的成因，以为是神仙住所、蛟龙吐气，故而名为海市蜃楼，亦称蓬莱仙境。气象学上称为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蜃景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海市蜃楼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2002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日下午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时左右 。青岛海面上出现了一座现  代化海港，吊杆林立，灯火闪耀，亦幻亦真让人真假难辨。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海市蜃楼02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  <a:ea typeface="楷体_GB2312"/>
              </a:rPr>
              <a:t>青岛市民一睹蜃景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海市蜃楼03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2002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年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7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月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29</a:t>
            </a:r>
            <a:r>
              <a:rPr b="0" lang="zh-CN" sz="4800" spc="-1" strike="noStrike">
                <a:solidFill>
                  <a:srgbClr val="482400"/>
                </a:solidFill>
                <a:latin typeface="楷体_GB2312"/>
                <a:ea typeface="楷体_GB2312"/>
              </a:rPr>
              <a:t>日，在我国甘肃的沙漠中，出现海市蜃楼。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海市蜃楼08" descr=""/>
          <p:cNvPicPr/>
          <p:nvPr/>
        </p:nvPicPr>
        <p:blipFill>
          <a:blip r:embed="rId2"/>
          <a:stretch/>
        </p:blipFill>
        <p:spPr>
          <a:xfrm>
            <a:off x="-228600" y="-685800"/>
            <a:ext cx="9372600" cy="7543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日正午时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分左右，一驾驶员  驱车刚进入重庆，猛抬头发现重庆变了样。熟悉的城市怎么一下多出那么多空中楼阁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1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山  市</a:t>
            </a:r>
            <a:endParaRPr b="0" lang="en-US" sz="17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97180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3623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640—171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清朝著名文学家。字留仙，又字剑臣，别号柳泉居士，又因为他著有的文言小说集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《聊斋志异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世人称他为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聊斋先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9:09:23Z</dcterms:created>
  <dc:creator>wutao</dc:creator>
  <dc:description/>
  <dc:language>en-US</dc:language>
  <cp:lastModifiedBy>WRH</cp:lastModifiedBy>
  <dcterms:modified xsi:type="dcterms:W3CDTF">2002-11-26T00:26:02Z</dcterms:modified>
  <cp:revision>100</cp:revision>
  <dc:subject/>
  <dc:title>PowerPoint 演示文稿</dc:title>
</cp:coreProperties>
</file>