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3.gif" ContentType="image/gif"/>
  <Override PartName="/ppt/media/image4.jpeg" ContentType="image/jpeg"/>
  <Override PartName="/ppt/media/laser.wav" ContentType="audio/x-wav"/>
  <Override PartName="/ppt/media/type.wav" ContentType="audio/x-wav"/>
  <Override PartName="/ppt/media/image12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wmf" ContentType="image/x-wmf"/>
  <Override PartName="/ppt/media/image1.jpeg" ContentType="image/jpeg"/>
  <Override PartName="/ppt/media/image7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1EA-AB25-4D95-990E-130388D5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D67-C2F3-4E0B-90AE-F387E0CC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DBB-FAB6-4DC4-B6CB-CD6924E6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51F-6EB9-49A6-93A6-A8473B15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B194-BDD3-43C6-82CC-52DB7EF8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3129-A212-4752-9BD8-6A0BBC08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DC04-77CF-4C99-9C74-F8F2EB35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5ADC-A02C-4FB1-BBEC-6C73C73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43A0-E366-4480-BF5C-31DC7E1E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F129-2F5D-474A-AE16-0AA8BB05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9C70-08AE-406F-93A6-72EC328E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FE4-40AA-4ED9-818C-F13B278E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2230-B123-432F-8DE2-32B7CA4A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EB77-0C07-4EB4-8D5E-2B76F994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431A-41F1-4DE0-A17B-97896074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131F-EB3C-4349-A517-BFEFFD00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741A-F783-4FBA-859B-8C199D35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EC1-892B-481B-9592-C46881A0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C63-040A-4D83-9A24-14D366E0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65C-AED1-414F-8E07-8CCE6031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912-4CEC-4BEA-BE27-3B3E0E8A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2F6-2FD7-4800-A3A0-A0AD6322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B25-6CE0-4333-A9AE-E41368B3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1A0-A3EB-4FB5-AF59-C38342C2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8D6C-7575-4840-974A-FD71DD0CC6C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6CA9-9B1A-461E-A111-B94F76EE539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133720" cy="131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29000" y="12952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宋体"/>
              </a:rPr>
              <a:t>奂山  邑  禹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6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宋体"/>
              </a:rPr>
              <a:t>青冥   飞甍   高垣睥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09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宋体"/>
              </a:rPr>
              <a:t>连亘  莽莽  窗扉   黯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51055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</a:rPr>
              <a:t>屑屑     逾时      倏忽      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76212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hu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àn       yì      y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ǔ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989000"/>
            <a:ext cx="805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　　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íng      méng       yuán pì nì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3526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   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gèn    mǎng        fēi       àn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5720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xiè          yú          shū           s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0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通假字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一切</a:t>
            </a:r>
            <a:r>
              <a:rPr b="1" lang="zh-CN" sz="4400" spc="-1" strike="noStrike" u="sng">
                <a:solidFill>
                  <a:srgbClr val="3366ff"/>
                </a:solidFill>
                <a:uFillTx/>
                <a:latin typeface="宋体"/>
              </a:rPr>
              <a:t>乌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(“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乌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”通“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无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没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0574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数至八层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3366ff"/>
                </a:solidFill>
                <a:uFillTx/>
                <a:latin typeface="Times New Roman"/>
              </a:rPr>
              <a:t>裁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如星点。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(“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裁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”通“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才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8195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古今词义不同</a:t>
            </a:r>
            <a:r>
              <a:rPr b="1" lang="en-US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657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直接霄汉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96640" y="4419720"/>
            <a:ext cx="21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古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66ff"/>
                </a:solidFill>
                <a:latin typeface="华文新魏"/>
                <a:ea typeface="华文新魏"/>
              </a:rPr>
              <a:t>一直连接到</a:t>
            </a:r>
            <a:r>
              <a:rPr b="1" lang="en-US" sz="4400" spc="-1" strike="noStrike">
                <a:solidFill>
                  <a:srgbClr val="3366ff"/>
                </a:solidFill>
                <a:latin typeface="华文新魏"/>
                <a:ea typeface="华文新魏"/>
              </a:rPr>
              <a:t>;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6440" y="5105520"/>
            <a:ext cx="39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今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不经过中间的事物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2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2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3049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词类活用</a:t>
            </a:r>
            <a:r>
              <a:rPr b="1" lang="en-US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0666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窗扉皆洞开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1066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洞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143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(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像洞一样</a:t>
            </a:r>
            <a:r>
              <a:rPr b="1" lang="en-US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名词做状语</a:t>
            </a:r>
            <a:r>
              <a:rPr b="1" lang="en-US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82880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一词多义</a:t>
            </a:r>
            <a:r>
              <a:rPr b="1" lang="en-US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9718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26668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6668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见宫殿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十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666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个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示不确定的数目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6576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至八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计数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800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然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57200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5720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数年恒不一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64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但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转折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53341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居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城郭矣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竟然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词尾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4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5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5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19680" y="561960"/>
            <a:ext cx="52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奂山山市，邑八景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一也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然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年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恒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不一见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990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18400" y="10666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但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12952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00560" y="10666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14240" y="1143000"/>
            <a:ext cx="789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常常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56240" y="221472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孙公子禹年与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同人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饮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楼上，忽见山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8862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孤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塔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耸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起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24200" y="2743200"/>
            <a:ext cx="2739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朋友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3560" y="2743200"/>
            <a:ext cx="789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喝酒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3434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孤零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91400" y="45720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耸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4005360"/>
            <a:ext cx="607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高插青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冥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相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顾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  惊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疑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6160" y="4495680"/>
            <a:ext cx="152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深远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4952880"/>
            <a:ext cx="2209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你看看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我看看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4440" y="457200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惊奇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57960" y="4572000"/>
            <a:ext cx="7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疑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495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7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7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385720" y="68580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念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近中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无此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禅院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。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无何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见宫殿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608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心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55880" y="12952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近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6156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佛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120" y="129528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1640" y="12952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72400" y="152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h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3623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十所，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碧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瓦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飞甍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始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悟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为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山市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78800" y="3048120"/>
            <a:ext cx="1685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碧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89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飞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9718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才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2971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是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3888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未几</a:t>
            </a:r>
            <a:r>
              <a:rPr b="1" lang="en-US" sz="3600" spc="-1" strike="noStrike" u="sng">
                <a:solidFill>
                  <a:srgbClr val="007a77"/>
                </a:solidFill>
                <a:uFillTx/>
                <a:latin typeface="Times New Roman"/>
              </a:rPr>
              <a:t>,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没多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39625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高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垣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睥睨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572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563868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5105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高高低低的城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4038480"/>
            <a:ext cx="64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连亘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六七里，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居然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城郭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矣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45160" y="4648320"/>
            <a:ext cx="115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连绵不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8960" y="4648320"/>
            <a:ext cx="1399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竟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7480" y="46483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0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0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783440" y="568440"/>
            <a:ext cx="51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中有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楼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若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者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若者，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坊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若者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城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1295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371600"/>
            <a:ext cx="667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楼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4244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厅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844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街巷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12952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3623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历历在目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亿万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计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。忽大风起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尘气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1911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莽莽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然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城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依稀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而已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既而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风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8769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广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0440" y="4876920"/>
            <a:ext cx="2374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约约隐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清晰的出现在眼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70840" y="3124080"/>
            <a:ext cx="789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71040" y="3124080"/>
            <a:ext cx="789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计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5280" y="4800600"/>
            <a:ext cx="1399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2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2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457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一切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乌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惟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危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楼一座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直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接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霄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80840" y="1219320"/>
            <a:ext cx="729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无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9440" y="1219320"/>
            <a:ext cx="7898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只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61560" y="1219320"/>
            <a:ext cx="789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1066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云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33720" y="1143000"/>
            <a:ext cx="7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连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8240" y="2362320"/>
            <a:ext cx="900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楼五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架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窗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扉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皆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洞开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一行有五点明处</a:t>
            </a:r>
            <a:r>
              <a:rPr b="1" lang="en-US" sz="4000" spc="-1" strike="noStrike" u="sng">
                <a:solidFill>
                  <a:srgbClr val="007a77"/>
                </a:solidFill>
                <a:uFillTx/>
                <a:latin typeface="Times New Roman"/>
              </a:rPr>
              <a:t>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483840" y="2895480"/>
            <a:ext cx="1155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每层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30481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61360" y="2971800"/>
            <a:ext cx="1399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窗户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32960" y="29718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大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29718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都有五处明亮的地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419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楼外天也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。层层指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楼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愈高，则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明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渐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5029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那是楼外的天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h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5029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亮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4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5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5760" y="457200"/>
            <a:ext cx="413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数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至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八层，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裁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如星点。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又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上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9810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则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黯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缥缈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，不可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计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层次矣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而楼上人往来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屑屑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或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凭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或立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一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7680" y="495288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逾时，楼渐低，可见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顶；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05920" y="34290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不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hǔ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12193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“才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亮点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3123720" y="609120"/>
            <a:ext cx="228600" cy="3812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114300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再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26668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黯淡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26668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若有若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计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26668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1148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忙碌的样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4038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有的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4038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靠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40384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栏杆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55627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形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56386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56386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（楼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7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7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3989520" cy="5867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190760" y="533520"/>
            <a:ext cx="4724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蒲松龄（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1630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或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1640--1715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年） 清朝文学家。字留仙，一字剑臣，号柳泉居士，世称聊斋先生，山东淄川（今山东淄博市南）人。他屡试不第，至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71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岁方为贡生。长期穷愁潦倒，以教书为业。一生著作很多，诗、文、词、赋、戏曲、俚曲等均有佳作，短篇小说集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聊斋志异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为其代表作。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6858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457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又渐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常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楼；又渐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高舍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倏忽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52120" y="1676520"/>
            <a:ext cx="42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拳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豆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不可见。又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闻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早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行者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2800" y="3505320"/>
            <a:ext cx="51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见山上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人烟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肆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，与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世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无别，故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05400" y="5105520"/>
            <a:ext cx="229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又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名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“鬼市”云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76520" y="1143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平常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1066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高高的平房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10280" y="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hū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86600" y="1066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突然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22096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拳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22096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豆粒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62320" y="2209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终于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2286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听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2286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早起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96080" y="23623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赶路的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5120" y="41148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人家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41148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集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38480" y="4114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店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41148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尘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96080" y="41911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所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5715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称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0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0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95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思 考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作者描绘山市时，是以什么为序的</a:t>
            </a:r>
            <a:r>
              <a:rPr b="1" lang="zh-CN" sz="4000" spc="-1" strike="noStrike">
                <a:solidFill>
                  <a:srgbClr val="050246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3493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是以时间为序的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94440" y="3938760"/>
            <a:ext cx="134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忽、无何、未几、忽、既儿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逾时、倏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7120" y="58672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2760" y="60102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3452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思考</a:t>
            </a:r>
            <a:br>
              <a:rPr sz="1600"/>
            </a:br>
            <a:br>
              <a:rPr sz="1600"/>
            </a:b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作者是怎样描绘山市的变化的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8200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明确：作者是以目击者的口气来描写山市的变化的，这样可以增强文章的真实性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具体变化如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4508640"/>
            <a:ext cx="53352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08720" y="4508640"/>
            <a:ext cx="5331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79640" y="5157720"/>
            <a:ext cx="53352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518148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43600" y="5105520"/>
            <a:ext cx="53352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00360" y="4221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宫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27640" y="414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城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71640" y="4797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危楼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56000" y="4869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高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95640" y="4869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如拳如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4844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可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4221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孤塔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79640" y="4581360"/>
            <a:ext cx="647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75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75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5943600" y="2595600"/>
            <a:ext cx="3200400" cy="22096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0" y="94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3399"/>
                </a:solidFill>
                <a:latin typeface="宋体"/>
              </a:rPr>
              <a:t>、山市出现的全过程分为几个阶段</a:t>
            </a:r>
            <a:r>
              <a:rPr b="1" lang="en-US" sz="4000" spc="-1" strike="noStrike">
                <a:solidFill>
                  <a:srgbClr val="ff3399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9280" y="159372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初生阶段</a:t>
            </a: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从孤塔高耸到宫殿出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9280" y="2529000"/>
            <a:ext cx="74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发展阶段</a:t>
            </a: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城郭的出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280" y="3394080"/>
            <a:ext cx="66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(3)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高潮阶段</a:t>
            </a: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危楼的出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3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3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519120" y="38527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5194440"/>
            <a:ext cx="907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结尾一段写山上的“鬼市”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这是补笔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有照应开头的作用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1120" y="50385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9280" y="44020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4257720"/>
            <a:ext cx="58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、结尾有什么作用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647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 考</a:t>
            </a:r>
            <a:br>
              <a:rPr sz="4800"/>
            </a:b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文章对山市景象的描写生动形象，作者运用了哪些修辞方法以达到这种效果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76520" y="2565360"/>
            <a:ext cx="47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惟危楼一座，直接霄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2590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夸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429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比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19280" y="3500280"/>
            <a:ext cx="46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数至八层，裁如星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436572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排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03280" y="4365720"/>
            <a:ext cx="4724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中有楼若者，堂若者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坊若者。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29242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使文章语文简洁而富有表现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940360" y="278136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75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75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75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75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75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75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75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考</a:t>
            </a:r>
            <a:br>
              <a:rPr sz="7200"/>
            </a:br>
            <a:br>
              <a:rPr sz="7200"/>
            </a:b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华文行楷"/>
              </a:rPr>
              <a:t>6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行楷"/>
              </a:rPr>
              <a:t>、本文在写法上有什么特点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行楷"/>
              </a:rPr>
              <a:t>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328428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描绘的是动景，抓住山市景象变幻莫测的特点来写，因而是 按照时间顺序来描绘景象的变化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11200"/>
            <a:ext cx="4572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聊斋志异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文言短篇小说集，共收录作品近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500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篇，以短篇小说为主，此外还有散记特写、随笔寓言等，主要写鬼狐精怪的故事，也收录一些奇特的事。构思奇妙，语言生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359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2280" y="333360"/>
            <a:ext cx="129564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160956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1788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年，拿破仑率军进攻埃及。在一天，法军在行进途中，突然看见前面有一片模糊的湖光山景。景物倒悬在空中，不一会儿，湖泊又消失得无影无踪。随后，他们又看到草叶变成了棕榈树丛。这种变幻莫测的影像使法军十分惊慌、不知所措。士兵们个个被吓得跪 在地上祷告，企求上帝保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它是怎样形成的？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676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海市蜃楼现象形成的主要原因是：地面强烈增热或强烈辐射冷却，使得近地空气层的密度，上下差异很大，当地面景物的光像在这种疏密不同的空气中传播时，由于光线的反射率、折射率的强烈变化而曲线投影到很远的地方成像。不少的沙漠旅行者或海洋航行者都受到过这种幻影的迷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5075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在沙漠里，在海湾上，或是在广阔的陆地和 水域上空，有时在远处涌现树木房屋、街道行人、车马船舶等景象，好像一个热闹的集市，很快又自行消失。古代人们不了解它的成因，以为是神仙住所、蛟龙吐气，故而名为海市蜃楼，亦称蓬莱仙境。气象学上称为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蜃景</a:t>
            </a: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90000" y="68533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0T14:50:39Z</dcterms:created>
  <dc:creator>wutao</dc:creator>
  <dc:description/>
  <dc:language>en-US</dc:language>
  <cp:lastModifiedBy>jf</cp:lastModifiedBy>
  <dcterms:modified xsi:type="dcterms:W3CDTF">2004-01-29T02:22:26Z</dcterms:modified>
  <cp:revision>1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