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662-3E86-49EB-939C-53698C59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804B-E4D1-4172-8779-BCA41CC0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5BA-1743-4151-B944-A889AEE5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66F-BD75-4477-B897-7399E036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D8D4-FF3A-4688-A92D-1125A6BE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1D25-B458-4EAA-9565-9170A9AC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3A03-DC0B-4227-A230-6B8CD856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0242-8809-4AAF-8BA6-666E012F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64ED-760B-4C21-966D-4EA1B7B7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66CD-BCB0-463A-B380-55D7A88E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8A5B-D97C-4589-9848-2BB8A05F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22D-546D-49F7-B510-04F0115F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E628-6C64-442F-9AB5-DD7197B3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08B8-DC93-4DF2-AE78-D4164BD3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BF9D-ACE8-4098-87BD-4A7B2045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83C0-3CD9-4EC9-AC16-DD66470B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240B-45F8-45E4-AF15-BB214060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ECB-9C41-462B-8D73-9F253714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2B9-1E73-4B65-ABDF-938DA13E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6CE-9945-44B4-B3D6-BB47E077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298-8F43-4F52-AD71-5909CAFC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AD33-8F8E-45CE-8E35-737F5956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F58-6395-4CF7-851E-CA6C2EC8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4C0-5C83-4E79-B4D3-8B5A7517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2844-317D-4A4A-B369-D219CACB2B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E24B-EBD0-4618-ADE9-FCC0EB7D1D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90720" y="144792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华文琥珀"/>
              </a:rPr>
              <a:t>海市蜃楼的来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259092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夏天，沿海一带或沙漠地区，经常可以看见在空中或地面以下有远处事物的影像，古人无法解释，误认为是大蛤蜊吐气形成的，因此，就称为“海市”或“海市蜃楼”。这种现象，有时人们在山区也可以看到，人们就称之为“山市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2280" y="14479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中有楼若者，堂若者，坊若者，历历在目，以亿万计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280" y="2590920"/>
            <a:ext cx="883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城中有像楼阁的，有像厅堂的，有像街坊的，都清晰地呈现在眼前，数也数不过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37339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忽大风起，尘气莽莽然，城市依稀而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441972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忽然刮起大风，烟尘弥漫，全城的景象变得模糊不清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1143000"/>
            <a:ext cx="91440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既而风定天清，一切</a:t>
            </a:r>
            <a:r>
              <a:rPr b="0" lang="zh-CN" sz="3600" spc="-1" strike="noStrike" u="sng">
                <a:solidFill>
                  <a:srgbClr val="e5d093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乌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有，惟危楼一座，直接霄汉。楼五架，窗扉皆洞开；一行有五点明处，楼外天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28954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过一阵子，大风停止，天空晴明，先前的景象全都消失了，只有一座高楼，上与天接，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每层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有五间房，窗户都敞开着，都有五处明亮的地方，那是楼外的天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5029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层层指数，楼愈高，则明渐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5715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一层一层地指着数上去，房间越高，亮点越小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85800" y="1143000"/>
            <a:ext cx="518148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数至八层，</a:t>
            </a:r>
            <a:r>
              <a:rPr b="0" lang="zh-CN" sz="3600" spc="-1" strike="noStrike" u="sng">
                <a:solidFill>
                  <a:srgbClr val="e5d093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裁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如星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75248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数到第八层，亮点只有星星那么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2514600"/>
            <a:ext cx="815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又其上，则黯然缥缈，不可计其层次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8840" y="3124080"/>
            <a:ext cx="8827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再往上就变得暗淡了，似有若无，看不清它的层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8960" y="431496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而楼上人往来屑屑，或凭或立，不一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502920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低层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楼上的人们来来往往，各干各的事情，有靠着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栏杆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，有站着的，姿态各不相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80880" y="114300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逾时，楼渐低，可见其顶；又渐如常楼；又渐如高舍；倏忽如拳如豆，遂不可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2514600"/>
            <a:ext cx="86104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过了一段时间，楼渐渐低矮下来，可以看见楼顶了；渐渐地，又变得跟平常的楼房一样；渐渐地，又变成了高高的平房；突然又缩成拳头一般大小，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再缩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成为豆粒一般大小，终于完全消失</a:t>
            </a:r>
            <a:r>
              <a:rPr b="0" lang="zh-CN" sz="2400" spc="-1" strike="noStrike">
                <a:solidFill>
                  <a:srgbClr val="008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28600" y="1523880"/>
            <a:ext cx="86868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又闻有早行者，见山上人烟市肆，与世无别，故又名“鬼市”云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880" y="2895480"/>
            <a:ext cx="84582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又听说，有早起赶路的人，看到山上有人家、集市和店铺，跟尘世上的情形没有什么区别，所以人们又管它叫“鬼市”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880" y="1371600"/>
            <a:ext cx="8229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作者是怎样描绘山市的变化的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山市出现的全过程可以分为几个阶段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作者描绘山市时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是以什么为序的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山市的变化是很快还是很缓慢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从哪些词语可以看出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文章结尾的作用是什么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rId1" action="ppaction://hlinksldjump"/>
          </p:cNvPr>
          <p:cNvSpPr/>
          <p:nvPr/>
        </p:nvSpPr>
        <p:spPr>
          <a:xfrm>
            <a:off x="7924680" y="57150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2743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7621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孤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57600" y="137160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1600200"/>
            <a:ext cx="1218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宫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57600" y="2209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2438280"/>
            <a:ext cx="1371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城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7600" y="3048120"/>
            <a:ext cx="3808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52680" y="3352680"/>
            <a:ext cx="129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危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733920" y="3962520"/>
            <a:ext cx="3808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29000" y="4191120"/>
            <a:ext cx="1143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高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33920" y="4876920"/>
            <a:ext cx="3808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71800" y="5105520"/>
            <a:ext cx="2209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如拳如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791320"/>
            <a:ext cx="3812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00400" y="6019920"/>
            <a:ext cx="1905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不可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81480" y="1143000"/>
            <a:ext cx="304920" cy="838080"/>
          </a:xfrm>
          <a:custGeom>
            <a:avLst/>
            <a:gdLst>
              <a:gd name="textAreaLeft" fmla="*/ 0 w 304920"/>
              <a:gd name="textAreaRight" fmla="*/ 11016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12193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初生阶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91320" y="24382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发展阶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57800" y="3657600"/>
            <a:ext cx="304920" cy="2819520"/>
          </a:xfrm>
          <a:custGeom>
            <a:avLst/>
            <a:gdLst>
              <a:gd name="textAreaLeft" fmla="*/ 0 w 304920"/>
              <a:gd name="textAreaRight" fmla="*/ 11016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2819520"/>
            <a:ext cx="1066680" cy="0"/>
          </a:xfrm>
          <a:prstGeom prst="line">
            <a:avLst/>
          </a:prstGeom>
          <a:ln w="255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464832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高潮阶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76520" y="1143000"/>
            <a:ext cx="0" cy="51814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8920" y="2286000"/>
            <a:ext cx="729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时间顺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12840" y="1371600"/>
            <a:ext cx="1255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Times New Roman"/>
              </a:rPr>
              <a:t>无何、未见、既而、逾时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" action="ppaction://hlinkshowjump?jump=previousslide"/>
          </p:cNvPr>
          <p:cNvSpPr/>
          <p:nvPr/>
        </p:nvSpPr>
        <p:spPr>
          <a:xfrm>
            <a:off x="80773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7493"/>
                </a:moveTo>
                <a:lnTo>
                  <a:pt x="8846" y="7493"/>
                </a:lnTo>
                <a:lnTo>
                  <a:pt x="8846" y="12828"/>
                </a:lnTo>
                <a:cubicBezTo>
                  <a:pt x="8846" y="13751"/>
                  <a:pt x="9647" y="14482"/>
                  <a:pt x="10683" y="14482"/>
                </a:cubicBezTo>
                <a:lnTo>
                  <a:pt x="12345" y="14482"/>
                </a:lnTo>
                <a:cubicBezTo>
                  <a:pt x="13381" y="14482"/>
                  <a:pt x="14181" y="13751"/>
                  <a:pt x="14181" y="12828"/>
                </a:cubicBezTo>
                <a:lnTo>
                  <a:pt x="14181" y="7493"/>
                </a:lnTo>
                <a:lnTo>
                  <a:pt x="12345" y="7493"/>
                </a:lnTo>
                <a:lnTo>
                  <a:pt x="15853" y="3985"/>
                </a:lnTo>
                <a:lnTo>
                  <a:pt x="19525" y="7493"/>
                </a:lnTo>
                <a:lnTo>
                  <a:pt x="17689" y="7493"/>
                </a:lnTo>
                <a:lnTo>
                  <a:pt x="17689" y="12828"/>
                </a:lnTo>
                <a:cubicBezTo>
                  <a:pt x="17689" y="15596"/>
                  <a:pt x="15113" y="18155"/>
                  <a:pt x="12345" y="18155"/>
                </a:cubicBezTo>
                <a:lnTo>
                  <a:pt x="10683" y="18155"/>
                </a:lnTo>
                <a:cubicBezTo>
                  <a:pt x="7915" y="18155"/>
                  <a:pt x="5338" y="15596"/>
                  <a:pt x="5338" y="12828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295280" y="198108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9144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思考</a:t>
            </a: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文章对山市景象的描写生动形象</a:t>
            </a: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作者运用了哪些修辞手法以达到这种效果</a:t>
            </a: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38080" y="2743200"/>
            <a:ext cx="7543800" cy="54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夸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9966ff"/>
                </a:solidFill>
                <a:latin typeface="宋体"/>
                <a:ea typeface="楷体_GB2312"/>
              </a:rPr>
              <a:t>惟危楼一座，直接霄汉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宋体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9966ff"/>
                </a:solidFill>
                <a:latin typeface="宋体"/>
                <a:ea typeface="楷体_GB2312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9966ff"/>
                </a:solidFill>
                <a:latin typeface="宋体"/>
                <a:ea typeface="楷体_GB2312"/>
              </a:rPr>
              <a:t>数至八层，裁如星点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宋体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9966ff"/>
                </a:solidFill>
                <a:latin typeface="宋体"/>
                <a:ea typeface="楷体_GB2312"/>
              </a:rPr>
              <a:t>排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9966ff"/>
                </a:solidFill>
                <a:latin typeface="宋体"/>
                <a:ea typeface="楷体_GB2312"/>
              </a:rPr>
              <a:t>中有楼若者，堂若者，坊若者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91320" y="2895480"/>
            <a:ext cx="457200" cy="2971800"/>
          </a:xfrm>
          <a:custGeom>
            <a:avLst/>
            <a:gdLst>
              <a:gd name="textAreaLeft" fmla="*/ 0 w 457200"/>
              <a:gd name="textAreaRight" fmla="*/ 16488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29400" y="3352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使文章语言简洁、富有表现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0880" y="12193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2280" y="7621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文言文知识点归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1371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重点字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1828800"/>
            <a:ext cx="7696080" cy="54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然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然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但。          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数年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好几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恒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经常。               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同人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同业朋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青冥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青天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天空 。          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近中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近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无何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不久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不一会儿。   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倏忽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突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睥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指女墙，即城墙上呈凹凸形的矮墙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莽莽然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这里形容尘土之大。莽莽，广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0880" y="11430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通假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90720" y="2209680"/>
            <a:ext cx="594360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d093"/>
                </a:solidFill>
                <a:uFillTx/>
                <a:latin typeface="Times New Roman"/>
                <a:hlinkClick r:id="rId1" action="ppaction://hlinksldjump"/>
              </a:rPr>
              <a:t>A.</a:t>
            </a:r>
            <a:r>
              <a:rPr b="0" lang="zh-CN" sz="4400" spc="-1" strike="noStrike" u="sng">
                <a:solidFill>
                  <a:srgbClr val="e5d093"/>
                </a:solidFill>
                <a:uFillTx/>
                <a:latin typeface="Times New Roman"/>
                <a:hlinkClick r:id="rId2" action="ppaction://hlinksldjump"/>
              </a:rPr>
              <a:t>乌，同“无”，没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d093"/>
                </a:solidFill>
                <a:uFillTx/>
                <a:latin typeface="Times New Roman"/>
                <a:hlinkClick r:id="rId3" action="ppaction://hlinksldjump"/>
              </a:rPr>
              <a:t>B.</a:t>
            </a:r>
            <a:r>
              <a:rPr b="0" lang="zh-CN" sz="4400" spc="-1" strike="noStrike" u="sng">
                <a:solidFill>
                  <a:srgbClr val="e5d093"/>
                </a:solidFill>
                <a:uFillTx/>
                <a:latin typeface="Times New Roman"/>
                <a:hlinkClick r:id="rId4" action="ppaction://hlinksldjump"/>
              </a:rPr>
              <a:t>裁，同“才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郑州海市蜃楼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743200" y="60199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郑州海市蜃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533520" y="990720"/>
            <a:ext cx="26668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难句理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15238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数年恒不一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19320" y="2514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205740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但经常好几年也不出现一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4920" y="26668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中有楼若者，堂若者，坊若者，历历在目，以亿万计。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2280" y="3657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城中有像楼阁的，有像厅堂的，有像街坊的，都清晰地呈现在眼前，数也数不过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4876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14400" y="4952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倏忽如拳如豆，遂不可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8680" y="554832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突然又缩成拳头一般大小，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再缩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成为豆粒一般大小，终于完全消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大连海市蜃楼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76720" y="5943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大连海市蜃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2514600" y="1981080"/>
            <a:ext cx="42670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山市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44956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</a:rPr>
              <a:t>蒲松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95280" y="5562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方正舒体"/>
              </a:rPr>
              <a:t>何小敏  广州四十一中南校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57200" y="2362320"/>
            <a:ext cx="815328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蒲松龄（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1640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～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1715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），清代著名文学家。字留仙，又字剑臣，别号柳泉居上，又因为他著有著名的文言短篇小说集《聊斋志异》，世称聊斋先生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880" y="12952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ff"/>
                </a:solidFill>
                <a:latin typeface="Times New Roman"/>
              </a:rPr>
              <a:t>作者资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33520" y="13716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22860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文言短篇小说集，共收录作品近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500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篇，以短篇小说为主，此外还有散记特写、随笔寓言等等，主要写狐鬼怪异的故事，也收录了一些奇特的事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13716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</a:rPr>
              <a:t>《聊斋志异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27160" y="474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2" descr=""/>
          <p:cNvPicPr/>
          <p:nvPr/>
        </p:nvPicPr>
        <p:blipFill>
          <a:blip r:embed="rId1"/>
          <a:stretch/>
        </p:blipFill>
        <p:spPr>
          <a:xfrm>
            <a:off x="4191120" y="4343400"/>
            <a:ext cx="472428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80880" y="10666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66"/>
                </a:solidFill>
                <a:latin typeface="Times New Roman"/>
              </a:rPr>
              <a:t>注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24382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奂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山     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邑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     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禹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年     青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41148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飞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甍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     未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几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      高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垣睥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579132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亘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   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莽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莽     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逾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时     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倏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2057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à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432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67080" y="1981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0" y="198108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ín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95280" y="37339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én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29000" y="3733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62720" y="3733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uán  pì   n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5410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ɡè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28800" y="541008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ǎn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62520" y="5410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5410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280" y="10666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99ff"/>
                </a:solidFill>
                <a:latin typeface="Times New Roman"/>
                <a:ea typeface="华文中宋"/>
              </a:rPr>
              <a:t>译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16002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奂山山市，邑八景之一也，然数年恒不一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21337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奂山的“山市”，是淄川县八景中的一景，但经常好几年也不出现一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880" y="31240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孙公子禹年与同人饮楼上，忽见山头有孤塔  耸起，高插青冥，相顾惊疑，念近中无此禅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426888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有一天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孙禹年公子跟他的同业朋友在楼上喝酒，忽然看见山头有一座孤零零的宝塔耸立起来，高高地直插青天，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大家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你看我，我看你，又惊奇又疑惑，心想这附近并没有佛寺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1295280"/>
            <a:ext cx="9144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无何，见宫殿数十所，碧瓦飞甍，始悟为山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1828800"/>
            <a:ext cx="8763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又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看见几十座宫殿，瓦是碧绿的，屋脊高高翘起，这才省悟到原来是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出现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)“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山市”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0481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未几，高垣睥睨，连亘六七里，居然城郭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65760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没多久，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又出现了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高高的城墙，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顶上是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呈凹凸形的短墙，连绵六七里，竟然是一座城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2:38:37Z</dcterms:created>
  <dc:creator>wutao</dc:creator>
  <dc:description/>
  <dc:language>en-US</dc:language>
  <cp:lastModifiedBy>user</cp:lastModifiedBy>
  <dcterms:modified xsi:type="dcterms:W3CDTF">2003-12-24T05:03:57Z</dcterms:modified>
  <cp:revision>100</cp:revision>
  <dc:subject/>
  <dc:title>PowerPoint 演示文稿</dc:title>
</cp:coreProperties>
</file>