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gif" ContentType="image/gif"/>
  <Override PartName="/ppt/media/image13.jpeg" ContentType="image/jpeg"/>
  <Override PartName="/ppt/media/image18.gif" ContentType="image/gif"/>
  <Override PartName="/ppt/media/image17.gif" ContentType="image/gif"/>
  <Override PartName="/ppt/media/image2.wmf" ContentType="image/x-wmf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206-E0F5-4D96-B5B4-DFF9EEEE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38A-4718-435D-B515-34F21253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1BD-1B57-45CA-A245-28CF33CF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499-48C1-4637-9E75-00A29ECD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BEB-0010-47C9-9C19-923AC15E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2E9-8ED5-4208-BD93-2E264BF0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C59-9585-45EF-BBC4-3CDCCA3B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C21-D232-4A6C-A71B-FC64D455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811-DC4D-430B-BCBC-ACE0C46A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8AB-A2B8-426D-9215-34A51071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653-DA3D-47D3-B880-627D686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8D5-9C79-4B60-BF3B-800738C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A636-EF9A-45FB-BA3A-0707310639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19.xm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9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6854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1788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年，拿破仑率军进攻埃及。在一天，法军在行进途中，突然看见前面有一片模糊的湖光山景。景物倒悬在空中，不一会儿，湖泊又消失得无影无踪。随后，他们又看到草叶变成了棕榈树丛。这种变幻莫测的影像使法军十分惊慌、不知所措。士兵们个个被吓得跪 在地上祷告，企求上帝保佑。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00028_" descr=""/>
          <p:cNvPicPr/>
          <p:nvPr/>
        </p:nvPicPr>
        <p:blipFill>
          <a:blip r:embed="rId2"/>
          <a:stretch/>
        </p:blipFill>
        <p:spPr>
          <a:xfrm>
            <a:off x="8077320" y="5813280"/>
            <a:ext cx="1066680" cy="104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4114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《聊斋志异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言短篇小说集，共收录作品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篇，以短篇小说为主，此外还有散记特写、随笔寓言等，主要写鬼狐精怪的故事，也收录一些奇特的事。构思奇妙，语言生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sl0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r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133720" cy="131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29000" y="1295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奂山  邑  禹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590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青冥   飞甍   高垣 睥 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809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连亘  莽莽  窗扉   黯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1055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屑屑     逾时      倏忽      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7621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hu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àn       yì      y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ǔ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057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íng     méng        yuán pì nì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352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èn    mǎng        fēi       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5720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xiè          yú          shū           s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1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12193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68580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7621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查点、计算     数不胜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371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、数目         数以万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1981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u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屡次                数见不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0481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8195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28954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fā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街巷名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牌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3505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fá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手工业的工作场所   作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343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419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舍弃、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5029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h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房屋、宿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343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4343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u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半身不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9528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su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、就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28640" y="54100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意、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27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8036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4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4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3049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词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12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孤塔耸起    高插青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22096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碧瓦飞甍    历历在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396252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直接霄汉    黯然缥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8600" y="3124080"/>
            <a:ext cx="371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风定天清    一切乌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95440" y="4800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恒不一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5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5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华文新魏"/>
              </a:rPr>
              <a:t>通假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95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3333cc"/>
                </a:solidFill>
                <a:uFillTx/>
                <a:latin typeface="宋体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0574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数至八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3333cc"/>
                </a:solidFill>
                <a:uFillTx/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星点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通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28195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古今词义不同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657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华文新魏"/>
                <a:ea typeface="华文新魏"/>
              </a:rPr>
              <a:t>直接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霄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96640" y="4419720"/>
            <a:ext cx="21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古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一直连接到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6440" y="5105520"/>
            <a:ext cx="39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今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不经过中间的事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6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6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04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词类活用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0666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窗扉皆洞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066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143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(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像洞一样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名词做状语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82880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一词多义</a:t>
            </a:r>
            <a:r>
              <a:rPr b="1" lang="zh-CN" sz="4400" spc="-1" strike="noStrike">
                <a:solidFill>
                  <a:srgbClr val="3366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9718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666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6668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见宫殿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十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2666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个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示不确定的数目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6576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至八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计数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800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45720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45720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数年恒不一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464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但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转折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5334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居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城郭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竟然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词尾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8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9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19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39960" y="561960"/>
            <a:ext cx="57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奂山山市，邑八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也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990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18400" y="10666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但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12952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00560" y="10666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4240" y="1143000"/>
            <a:ext cx="789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常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56240" y="221472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孙公子禹年与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同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楼上，忽见山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8862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塔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2743200"/>
            <a:ext cx="2739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朋友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53560" y="2743200"/>
            <a:ext cx="789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喝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3434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孤零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91400" y="45720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耸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39625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插青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相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惊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6160" y="4495680"/>
            <a:ext cx="152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深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4952880"/>
            <a:ext cx="2209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你看看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我看看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4440" y="457200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惊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57960" y="4572000"/>
            <a:ext cx="7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疑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4495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1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385720" y="68580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近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此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禅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无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见宫殿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08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心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55880" y="12952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近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6156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佛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62120" y="129528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81640" y="12952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2400" y="152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362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十所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瓦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飞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悟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山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78800" y="3048120"/>
            <a:ext cx="168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碧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89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飞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2971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2971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未几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没多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9625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垣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睥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572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56386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5105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高高低低的城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4038480"/>
            <a:ext cx="64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连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六七里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居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城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45160" y="4648320"/>
            <a:ext cx="115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连绵不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8960" y="4648320"/>
            <a:ext cx="1399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竟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7480" y="46483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4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46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83440" y="56844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中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若者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若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33720" y="1295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3800" y="1371600"/>
            <a:ext cx="667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楼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4244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厅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844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街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2952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23623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历历在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亿万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忽大风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尘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41911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莽莽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城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依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而已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既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风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8769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广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60440" y="4876920"/>
            <a:ext cx="2374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约约隐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清晰的出现在眼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70840" y="3124080"/>
            <a:ext cx="789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71040" y="3124080"/>
            <a:ext cx="789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95280" y="4800600"/>
            <a:ext cx="1399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6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6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楼一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直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霄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80840" y="1219320"/>
            <a:ext cx="729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无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9440" y="1219320"/>
            <a:ext cx="7898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只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61560" y="1219320"/>
            <a:ext cx="789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1066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云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33720" y="114300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连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8240" y="2362320"/>
            <a:ext cx="900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楼五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窗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皆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洞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一行有五点明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483840" y="2895480"/>
            <a:ext cx="1155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每层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3048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1360" y="2971800"/>
            <a:ext cx="1399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窗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32960" y="29718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大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2971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都有五处明亮的地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4419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楼外天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层层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愈高，则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渐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5029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那是楼外的天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920" y="5029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亮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8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29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海市蜃楼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日下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左右 。青岛海面上出现了一座现代化海港，吊杆林立，灯火闪耀亦幻亦真让人真假难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435760" y="457200"/>
            <a:ext cx="41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八层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星点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又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上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9810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黯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缥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不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计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层次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而楼上人往来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屑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或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7680" y="49528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逾时，楼渐低，可见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顶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05920" y="34290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219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“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亮点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3123720" y="609120"/>
            <a:ext cx="228600" cy="3812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114300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再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666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黯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6668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若有若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2590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26668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41148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忙碌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4038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有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4038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靠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4038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栏杆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5627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形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86600" y="5638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5200" y="56386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（楼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1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1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6858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457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又渐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常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楼；又渐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高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倏忽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52120" y="1676520"/>
            <a:ext cx="42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可见。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行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82800" y="3505320"/>
            <a:ext cx="51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见山上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人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世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无别，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05400" y="5105520"/>
            <a:ext cx="229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鬼市”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1143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平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1066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高高的平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0280" y="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sh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突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22096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拳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096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豆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2209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终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2286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听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早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96080" y="23623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赶路的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41148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人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41148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集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4114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店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38680" y="4114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尘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96080" y="4191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所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715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4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4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0(3)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523880" cy="12654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57200" y="762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出现的全过程分为几个阶段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12952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初生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从孤塔高耸到宫殿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1828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发展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城郭的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362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(3)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高潮阶段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危楼的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2971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”从开始到最后是怎样一步步变化的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3581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3581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无何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1120" y="35812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未几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19920" y="35812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43434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既而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43434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逾时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43434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倏忽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6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6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6680" y="990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山市”</a:t>
            </a: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出现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的三个阶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1981080"/>
            <a:ext cx="7620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初生阶段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: 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从孤塔高耸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到宫殿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  <a:ea typeface="Times New Roman"/>
              </a:rPr>
              <a:t> 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发展阶段：城郭的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  <a:ea typeface="Times New Roman"/>
              </a:rPr>
              <a:t>  </a:t>
            </a:r>
            <a:r>
              <a:rPr b="1" lang="zh-CN" sz="3600" spc="-1" strike="noStrike">
                <a:solidFill>
                  <a:srgbClr val="297d29"/>
                </a:solidFill>
                <a:latin typeface="Times New Roman"/>
              </a:rPr>
              <a:t>高潮阶段：危楼的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5105520"/>
            <a:ext cx="7315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cc99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山市”蜃景的</a:t>
            </a:r>
            <a:r>
              <a:rPr b="1" lang="zh-CN" sz="3600" spc="-1" strike="noStrike">
                <a:solidFill>
                  <a:srgbClr val="ccccff"/>
                </a:solidFill>
                <a:latin typeface="隶书"/>
                <a:ea typeface="隶书"/>
              </a:rPr>
              <a:t>变化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可分几个阶段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4267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４  结局：危楼消失，一切乌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b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6858000" cy="396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33520" y="457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尾的作用是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9144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结尾一段写山上的“鬼市”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这是补笔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有照应开头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1981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市”是蒲松龄亲眼所见吗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哪句话能看出来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2895480"/>
            <a:ext cx="8381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华文新魏"/>
                <a:ea typeface="华文新魏"/>
              </a:rPr>
              <a:t>总结</a:t>
            </a:r>
            <a:r>
              <a:rPr b="1" lang="zh-CN" sz="4000" spc="-1" strike="noStrike">
                <a:solidFill>
                  <a:srgbClr val="a50021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这篇文章是根据目击者的叙述写的。它历历如画地再现了山市由生成到消失的过程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无论大笔勾勒或工笔描摹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都能曲尽其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4572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一共描绘了几幅画面，你能选一个镜头画下来吗？也可以用语言描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857240" y="3274920"/>
            <a:ext cx="5429160" cy="360"/>
            <a:chOff x="1857240" y="3274920"/>
            <a:chExt cx="5429160" cy="360"/>
          </a:xfrm>
        </p:grpSpPr>
        <p:sp>
          <p:nvSpPr>
            <p:cNvPr id="376" name=""/>
            <p:cNvSpPr/>
            <p:nvPr/>
          </p:nvSpPr>
          <p:spPr>
            <a:xfrm>
              <a:off x="1857240" y="32749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57240" y="32749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79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382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思 考</a:t>
            </a:r>
            <a:br>
              <a:rPr sz="2800"/>
            </a:br>
            <a:br>
              <a:rPr sz="2800"/>
            </a:b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作者描绘山市时，是以什么为序的</a:t>
            </a:r>
            <a:r>
              <a:rPr b="0" lang="zh-CN" sz="3200" spc="-1" strike="noStrike">
                <a:solidFill>
                  <a:srgbClr val="050246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2666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是以时间为序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90720" y="39625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表示时间的词语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95280" y="49528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无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未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既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思考</a:t>
            </a:r>
            <a:br>
              <a:rPr sz="1600"/>
            </a:br>
            <a:br>
              <a:rPr sz="1600"/>
            </a:b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、作者是怎样描绘山市的变化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90120" y="2514240"/>
            <a:ext cx="776772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确：作者是以目击者的口气来描写山市的变化的，这样可以增强文章的真实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具体变化如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864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95680" y="3962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宫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72200" y="3962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城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907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危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90920" y="4648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高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62520" y="4648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如拳如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可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0040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孤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考</a:t>
            </a:r>
            <a:br>
              <a:rPr sz="48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山市的变化是快还是缓慢？从哪些词语可以看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2133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从哪些词语中可以看出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971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2971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无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2971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未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既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971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逾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294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倏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74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山市的变化很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2971800"/>
            <a:ext cx="6629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66680" y="2971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3505320"/>
            <a:ext cx="6629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96080" y="2971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67080" y="36576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表明山市出现得很迅速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4419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倏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4343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表明山市的景象变化突然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66680" y="55627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何  未几  既而  逾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568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表示极短的时间，表明山市的景象变化很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6668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06632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43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14300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029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990720" y="5562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907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396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81080" y="4648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3848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 考</a:t>
            </a:r>
            <a:br>
              <a:rPr sz="4400"/>
            </a:b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文章对山市景象的描写生动形象，作者运用了哪些修辞方法以达到这种效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76520" y="2590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惟危楼一座，直接霄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夸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0200" y="3505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至八层，裁如星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排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4495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楼若者，堂若者，坊若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0080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Times New Roman"/>
              </a:rPr>
              <a:t>使文章语文简洁而富有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274320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考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、本文在写法上有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描绘的是动景，抓住山市景象变幻莫测的特点来写，因而是 按照时间顺序来描绘景象的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海市蜃楼08" descr=""/>
          <p:cNvPicPr/>
          <p:nvPr/>
        </p:nvPicPr>
        <p:blipFill>
          <a:blip r:embed="rId2"/>
          <a:stretch/>
        </p:blipFill>
        <p:spPr>
          <a:xfrm>
            <a:off x="-228600" y="-685800"/>
            <a:ext cx="9372600" cy="754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440" y="4952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日正午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左右，一驾驶员  驱车刚进入重庆，猛抬头发现重庆变了样。熟悉的城市怎么一下多出那么多空中楼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180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hssl-5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2162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4648320" y="762120"/>
            <a:ext cx="8380440" cy="703440"/>
            <a:chOff x="4648320" y="762120"/>
            <a:chExt cx="8380440" cy="703440"/>
          </a:xfrm>
        </p:grpSpPr>
        <p:grpSp>
          <p:nvGrpSpPr>
            <p:cNvPr id="51" name=""/>
            <p:cNvGrpSpPr/>
            <p:nvPr/>
          </p:nvGrpSpPr>
          <p:grpSpPr>
            <a:xfrm>
              <a:off x="4648320" y="762120"/>
              <a:ext cx="4128480" cy="703440"/>
              <a:chOff x="4648320" y="762120"/>
              <a:chExt cx="4128480" cy="703440"/>
            </a:xfrm>
          </p:grpSpPr>
          <p:sp>
            <p:nvSpPr>
              <p:cNvPr id="52" name=""/>
              <p:cNvSpPr/>
              <p:nvPr/>
            </p:nvSpPr>
            <p:spPr>
              <a:xfrm>
                <a:off x="4648320" y="762120"/>
                <a:ext cx="41284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648320" y="762120"/>
                <a:ext cx="4128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ff"/>
                    </a:solidFill>
                    <a:latin typeface="Times New Roman"/>
                  </a:rPr>
                  <a:t>       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8777520" y="762120"/>
              <a:ext cx="4251240" cy="457560"/>
              <a:chOff x="8777520" y="762120"/>
              <a:chExt cx="4251240" cy="4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8777520" y="762120"/>
                <a:ext cx="4251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777520" y="762120"/>
                <a:ext cx="42512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36180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ssl-6" descr=""/>
          <p:cNvPicPr/>
          <p:nvPr/>
        </p:nvPicPr>
        <p:blipFill>
          <a:blip r:embed="rId3"/>
          <a:stretch/>
        </p:blipFill>
        <p:spPr>
          <a:xfrm>
            <a:off x="0" y="3276720"/>
            <a:ext cx="5334120" cy="32223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410080" y="3657600"/>
            <a:ext cx="3124080" cy="1739880"/>
            <a:chOff x="5410080" y="3657600"/>
            <a:chExt cx="3124080" cy="1739880"/>
          </a:xfrm>
        </p:grpSpPr>
        <p:sp>
          <p:nvSpPr>
            <p:cNvPr id="60" name=""/>
            <p:cNvSpPr/>
            <p:nvPr/>
          </p:nvSpPr>
          <p:spPr>
            <a:xfrm>
              <a:off x="5410080" y="36576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10080" y="3657600"/>
              <a:ext cx="312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海岛上突然出现了两棵</a:t>
              </a:r>
              <a:br>
                <a:rPr sz="3600"/>
              </a:b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形似迎客松的景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800600" y="6858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诸多小岛顶部延伸架起了一座“多孔长桥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7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hssl-3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572000" cy="2925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92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hssl-4" descr=""/>
          <p:cNvPicPr/>
          <p:nvPr/>
        </p:nvPicPr>
        <p:blipFill>
          <a:blip r:embed="rId3"/>
          <a:stretch/>
        </p:blipFill>
        <p:spPr>
          <a:xfrm>
            <a:off x="4495680" y="3200400"/>
            <a:ext cx="4419720" cy="28274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4952880" y="762120"/>
            <a:ext cx="3809520" cy="642600"/>
            <a:chOff x="4952880" y="762120"/>
            <a:chExt cx="3809520" cy="642600"/>
          </a:xfrm>
        </p:grpSpPr>
        <p:sp>
          <p:nvSpPr>
            <p:cNvPr id="74" name=""/>
            <p:cNvSpPr/>
            <p:nvPr/>
          </p:nvSpPr>
          <p:spPr>
            <a:xfrm>
              <a:off x="4952880" y="762120"/>
              <a:ext cx="3809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52880" y="762120"/>
              <a:ext cx="380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南长山岛以西海面出现一片蒙胧的工厂区幻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52280" y="3657600"/>
            <a:ext cx="4571280" cy="703440"/>
            <a:chOff x="152280" y="3657600"/>
            <a:chExt cx="4571280" cy="703440"/>
          </a:xfrm>
        </p:grpSpPr>
        <p:sp>
          <p:nvSpPr>
            <p:cNvPr id="77" name=""/>
            <p:cNvSpPr/>
            <p:nvPr/>
          </p:nvSpPr>
          <p:spPr>
            <a:xfrm>
              <a:off x="152280" y="3657600"/>
              <a:ext cx="4571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280" y="3657600"/>
              <a:ext cx="457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莱阁东部海面蓬出现似古堡、舰船景物，闪闪发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0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3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600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答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960" y="7617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在沙漠里，在海湾上，或是在广阔的陆地和水域上空，有时在远处涌现树木房屋、街道行人、车马船舶等景象，好像一个热闹的集市，很快又自行消失。古代人们不了解它的成因，以为是神仙住所、蛟龙吐气，故而名为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海市蜃楼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，亦称蓬莱仙境。气象学上称为蜃景。这种现象，有时人们在山区也可以看到，人们就称之为“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山市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65920" y="5737320"/>
            <a:ext cx="1073160" cy="968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它是怎样形成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海市蜃楼现象形成的主要原因是：地面强烈增热或强烈辐射冷却，使得近地空气层的密度，上下差异很大，当地面景物的光像在这种疏密不同的空气中传播时，由于光线的反射率、折射率的强烈变化而曲线投影到很远的地方成像。不少的沙漠旅行者或海洋航行者都受到过这种幻影的迷惑。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h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81280" y="55627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蒲松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52480" cy="1558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57913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895480" y="3429000"/>
            <a:ext cx="3581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山市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124080" y="304920"/>
            <a:ext cx="60199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蒲松龄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（ 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1640—1715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），清代文学家，字留仙，世称“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聊斋先生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”，淄川人（现在山东淄博），出身商人家庭，早岁即有文名，但屡试不第，至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71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岁方为贡生。长期穷愁潦倒，以教书为业。代表作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《聊斋志异》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。该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y1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954520" cy="4419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396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以讲狐说鬼的浪漫主义手法，揭露抨击封建礼教的束缚，科举制度的腐朽以及封建统治的黑暗，主张个性自由，深刻反映了封建社会末期的现实生活，艺术成就达到古代文言小说的高峰，一向为后世所称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5889600"/>
            <a:ext cx="1073160" cy="968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6:47:41Z</dcterms:created>
  <dc:creator>wutao</dc:creator>
  <dc:description/>
  <dc:language>en-US</dc:language>
  <cp:lastModifiedBy>zyb</cp:lastModifiedBy>
  <dcterms:modified xsi:type="dcterms:W3CDTF">2004-12-02T02:27:41Z</dcterms:modified>
  <cp:revision>100</cp:revision>
  <dc:subject/>
  <dc:title>PowerPoint 演示文稿</dc:title>
</cp:coreProperties>
</file>