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camera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2DB-696E-44A8-9B2D-66AF0B62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6005-B1D2-4C60-8742-8CC92DE1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AD9-38B1-4EAC-BDDB-95382C9C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BC75-59AF-4316-8119-0C56CC26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64A4-71D0-4EB3-9E08-260C9A25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C115-4E56-48DC-938D-9C28D289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6004-AF89-4435-96F7-AC5EC196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36E0-1167-4D1E-9B0F-2E075D7B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2FB8-00D8-4436-B216-3CF790DD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9531-18A0-40A3-88BE-7DA2A13D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3AF7-A98A-491F-B155-7880877D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E16-9BA1-4C4D-83CB-FF0BC3DF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AD14-AC96-42A7-B28F-B1ACD8CA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D2AA-5068-4F8F-8369-84F5FF6C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7CBF-1681-42AF-9DA7-53FEF48F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7FAF-1157-4F1D-9B98-2ADB10AC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1E20-B3F7-4665-99CF-395A096C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92D-7610-46BA-9F26-5EFDF43C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480-5CC8-4019-8E81-04328C3E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88F6-8A71-4DB9-A3EB-60EF8F41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51E-BA4B-4418-9C71-BD4DC53E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362C-A961-4C73-9E4A-9004CB45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12D7-06A7-460D-A954-B0B842C7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E60-2D88-4A6B-BCC0-424BAE9B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DA70-DACB-4083-8F85-F7B76E3CDCD6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393D-74F9-4A0B-AE41-E52663BD4448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4000" y="692280"/>
            <a:ext cx="842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海市蜃楼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、大气中由于光线的折射作用而形成的一种自然现象。当空气各层的密度有较大的差异时，远处的光线通过密度不同的空气层就发生折射或全反射，这时可以看见在空中或地面以下有远处物体的影像。这种现象多在夏天出现在沿海一带或沙漠地方。古人误认为蜃吐气而成，所以叫海市蜃楼，也叫蜃景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、比喻虚幻的事物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838080" y="457200"/>
            <a:ext cx="76201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华文行楷"/>
                <a:ea typeface="华文行楷"/>
              </a:rPr>
              <a:t>二、译文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Arial Unicode MS"/>
              </a:rPr>
              <a:t> （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Arial Unicode MS"/>
              </a:rPr>
              <a:t>4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Arial Unicode MS"/>
              </a:rPr>
              <a:t>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又听说，有早起赶路的人，看到山上有人家、集市和店铺，跟尘世上的情形没有什么区别，所以人们又管它叫“鬼市”。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4419720"/>
            <a:ext cx="801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又闻有早行者，见山上人烟市肆，与世无别，故又名“鬼市”云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304920"/>
            <a:ext cx="9144000" cy="71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行楷"/>
                <a:ea typeface="华文行楷"/>
              </a:rPr>
              <a:t>三、质疑讨论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1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、为什么叫“山市”？为什么又叫“鬼市”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Arial Unicode MS"/>
              </a:rPr>
              <a:t> 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、全文以什么为线索？写了哪三个画面？请简括要点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Arial Unicode MS"/>
              </a:rPr>
              <a:t>3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Arial Unicode MS"/>
              </a:rPr>
              <a:t>、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孤塔的底部在什么地方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Arial Unicode MS"/>
              </a:rPr>
              <a:t>?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周围有哪些事物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Arial Unicode MS"/>
              </a:rPr>
              <a:t>?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4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、城上有楼吗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Arial Unicode MS"/>
              </a:rPr>
              <a:t>?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你看见城中的街道了吗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Arial Unicode MS"/>
              </a:rPr>
              <a:t>?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5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、危楼上有多少人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Arial Unicode MS"/>
              </a:rPr>
              <a:t>?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都在干什么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Arial Unicode MS"/>
              </a:rPr>
              <a:t>?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44800" y="1295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山上有人家、集市和店铺；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66440" y="12952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跟尘世上的情形没有什么区别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6600" y="243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时间；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0000" y="236232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塔和宫殿、城郭和其他建筑、危楼一座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78720" y="3629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山头；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92640" y="3581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宫殿，瓦，屋脊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09480" y="838080"/>
            <a:ext cx="82296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行楷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800000"/>
                </a:solidFill>
                <a:latin typeface="华文行楷"/>
                <a:ea typeface="华文行楷"/>
              </a:rPr>
              <a:t>四、练习说明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一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读懂这篇文章，完成下列各题。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1.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山市”从开始到最后是怎样一步步变化的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?(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用原句回答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2.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为什么那时候的人把“山市”又称为“鬼市”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Arial Unicode MS"/>
              </a:rPr>
              <a:t>1.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</a:rPr>
              <a:t>把握山市发生变化的三个阶段，同时注意时间词语“忽”“无何”“未几”“忽”“既而”“逾时”“倏忽”的顺序。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看注释，查工具书，理解下列词语的含义，并把它们摘抄在笔记本上。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孤塔耸起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 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高插青冥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 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碧瓦飞甍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 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历历在目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 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风定天清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 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一切乌有   直接霄汉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 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黯然缥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4920" y="533520"/>
            <a:ext cx="84582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海市蜃楼是怎样形成的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空气本身并不是一个均匀的介质，在一般情况下，它的密度是随温度的增大而递减的，高度越高，颏度越小。当光线穿过不同高度的空气层时，总会引起一些折射，但这种折射现象在我们日常生活中已经习惯了，所以不觉得有什么异样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　　可是当空气温度在垂直变化的反常，并会导致与通常不同的折射和全反射，这就会产生海市蜃楼的现象。由于空气密度反常的具体情况不同，海市蜃楼出现的型式也不同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　　在夏季，白昼海水湿度比较低，特别是有冷水流经过的海面，水温更低，下层空气受水温更低，下层空气受水温影响，较上层空气为冷，出现下冷上暧的反常现象（正常情况是下暧上凉，平均每隔１００米高度，气温降低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0.5~0.6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左右）。下层空气本来就因气压较高，密度较大，现在再加上气温又较上层为低，密度就显得特别大，因此空气层下密上稀的差别异常显著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　　假使在我们的东方地平线下有一艘轮船，一般情况下是看不到它的。如果由于这时空气下密上稀的差异太大了，来自船舶的光线先由密度的气层逐渐折射进入稀的气层，并在上层发生全反射，又折回到下层密的气层中来；经过这样弯曲的线路，最后投入我们的眼中，我们就能看到它的像。由于人的视觉总是感到物像是来自直线方向的，因此我们所看到的轮船映像比实物是抬高了许多，所以叫做上现蜃景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57200" y="560520"/>
            <a:ext cx="81532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　   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不但夏季在海面上可以看到上现蜃景，在江面有晨也可看到，例如１９３４年８月２日在南通附近的江面上就现过。那天酷日当空，天气特别热，午后，突然发现长江上空映现出楼台城廓和树木房屋，全部蜃景长２０多里。约半小时后，向东移动，突然消逝。后又出现三山，高耸入云，中间一山，很象香炉；又隔了半小时，才全部消失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　　在沙漠里，白天沙石被太阳晒得灼热，接近沙层的气温升高极快。由于空气不善于传热，所以在无风的时候，空气上下层间的热量交换极小，遂使下热上冷的气温垂直差异非常显著，并导致下层空气密度反而比上层小的反常现象。在这种情况下，如果前方有一棵树，它生长在比较湿润的一块地方，这时由树梢倾斜向下投射的光线，因为是由密度大的空气层进入密度小的空气层，会发生折射。折射光线到了贴近地面热而稀的空气层时，就发生全反射，光线又由近地面密度小的气层反射回到上面较密的气层中来。 这样，经过一条向下向下凹陷的弯曲光线，把树的影像送到人的眼中，就出现了一棵树的倒影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　　由于倒影位于实物的下面，所以又叫下现蜃景。这种倒影很容易给予人们以水边树影的幻觉，以为远处一定是一个湖。凡是曾在沙漠旅行过的人，大都有类似的经历。　　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无论哪一种海市蜃楼，只能在无风或风力极微弱的天气条件下出现。当大风一起，引起了上下层空气的搅动混合，上下层空气密度的差异减小了，光线没有什么异常折射和全反射，那么所有的幻景就立刻消逝了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3526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9360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98520" y="533520"/>
            <a:ext cx="7086240" cy="34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山    市</a:t>
            </a:r>
            <a:endParaRPr b="0" lang="en-US" sz="117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lang="zh-CN" sz="5400" spc="-1" strike="noStrike">
                <a:solidFill>
                  <a:srgbClr val="ffff00"/>
                </a:solidFill>
                <a:latin typeface="华文行楷"/>
                <a:ea typeface="华文行楷"/>
              </a:rPr>
              <a:t>(</a:t>
            </a:r>
            <a:r>
              <a:rPr b="0" lang="zh-CN" sz="5400" spc="-1" strike="noStrike">
                <a:solidFill>
                  <a:srgbClr val="ffff00"/>
                </a:solidFill>
                <a:latin typeface="华文行楷"/>
                <a:ea typeface="华文行楷"/>
              </a:rPr>
              <a:t>清）蒲松龄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效果图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-10429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-104292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9240" y="404640"/>
            <a:ext cx="2521440" cy="53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清）蒲松龄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1209600"/>
            <a:ext cx="8532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640—171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，字留仙，世称“聊斋先生”，别号柳泉居士，淄（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ī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川人，清代文学家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代表作：文言短篇小说集《聊斋志异》，（“聊斋”，书斋名，“志”，记；“异”，奇异的故事）是我国古代文言短篇小说中成就最高的作品集。鲁迅先生在《中国小说史略》中说此书是“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专集之最有名者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”；郭沫若先生为蒲氏故居题联，赞蒲氏著作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“写鬼写妖高人一等，刺贪刺虐入骨三分”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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   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9144000" cy="262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作家和作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蒲松龄出身于没落的地主家庭，早岁即有文名，多次参加省试，却始终没有考上举人，到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7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岁才援例成为贡生。除中年一度在江苏宝应做幕客外，都在家乡当塾师，终身郁郁不得志。《聊斋志异》是他用几十年的时间写成的，他称这是他的“孤愤之书”。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《聊斋志异》是一部文言短篇小说集，它以谈狐说鬼的形式，揭露当时现实的黑暗和官吏的罪恶，对科举制度和礼教也有所批判，并以同情的笔调描绘了青年男女相爱的故事。但书中也存在着一些宣传忠孝节义的封建伦理观念和迷信色彩。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二、译文 （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奂山的“山市”，是淄川县八景中的一景，但经常好几年也不出现一次。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有一天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孙禹年公子跟他的同业朋友在楼上喝酒，忽然看见山头有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一座孤零零的宝塔耸立起来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高高地直插青天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大家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你看我，我看你，又惊奇又疑惑，心想这附近并没有佛寺啊。不多久，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又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看见几十座宫殿，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瓦是碧绿的，屋脊高高翘起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，这才省悟到原来是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出现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)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山市”了。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34340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奂山山市，邑八景之一也，然数年恒不一见。孙公子禹年与同人饮楼上，忽见山头有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孤塔耸起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高插青冥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相顾惊疑，念近中无此禅院。无何，见宫殿数十所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碧瓦飞甍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始悟为山市。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0880" y="0"/>
            <a:ext cx="76201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二、译文 （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没多久，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又出现了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高高的城墙，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顶上是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呈凹凸形的矮墙，连绵六七里，竟然是一座城了。城中有像楼阁的，有像厅堂的，有像街坊的，都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清晰地呈现在眼前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数也数不过来。忽然刮起大风，烟尘弥漫，全城的景象变得模糊不清了。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495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未几，高垣睥睨，连亘六七里，居然城郭矣。中有楼若者，堂若者，坊若者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历历在目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以亿万计。忽大风起，尘气莽莽然，城市依稀而已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过一阵子，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大风停止，天空晴明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先前的景象全都消失了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，只有一座高楼，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上与天接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每层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有五间房，窗户都敞开着，都有五处明亮的地方，那是楼外的天空。一层一层地指着数上去，房间越高，亮点越小；数到第八层，亮点只有星星那么小；再往上就变得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暗淡了，似有若无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，看不清它的层次。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低层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楼上的人们来来往往，各干各的事情，有靠着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栏杆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的，有站着的，姿态各不相同。过了一段时间，楼渐渐低矮下来，可以看见楼顶了；渐渐地，又变得跟平常的楼房一样；渐渐地，又变成了高高的平房；突然又缩成拳头一般大小，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再缩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成为豆粒一般大小，终于完全消失。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79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既而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风定天清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一切乌有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惟危楼座，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直接霄汉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。楼五架，窗扉皆洞开；一行有五点明处，楼外天也。层层指数，楼愈高，则明渐少。数至八层，裁如星点。又其上，则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黯然缥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不可计其层次矣。而楼上人往来屑屑，或凭或立，不一状。逾时，楼渐低，可见其顶；又渐如常楼；又渐如高舍；倏忽如拳如豆，遂不可见。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4:32:45Z</dcterms:created>
  <dc:creator>wutao</dc:creator>
  <dc:description/>
  <dc:language>en-US</dc:language>
  <cp:lastModifiedBy>hf</cp:lastModifiedBy>
  <dcterms:modified xsi:type="dcterms:W3CDTF">2003-11-19T06:46:22Z</dcterms:modified>
  <cp:revision>100</cp:revision>
  <dc:subject/>
  <dc:title>PowerPoint 演示文稿</dc:title>
</cp:coreProperties>
</file>