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593-806E-461C-BA2E-E2C29C5D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3AB-DEB6-4C5F-8DE0-218B5D4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501-F8E1-4C7F-BA81-30943A0A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2D0-B5C8-4A64-B84A-E0D9907D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127-47D8-494F-9C13-A9B50A2C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797-5F77-44AA-B919-794E696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BB3-59DA-41EE-8924-BFAB234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A43-B7E0-4C3D-A6FB-1DE6E3A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6E1-B794-49E7-A08D-83586B09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D43-72AD-4C26-85E4-6CEDE23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49E-BD33-420E-B6AD-57F928A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1EA-6C8C-4FA8-BE49-939841E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E284-AC5B-4F68-AAD9-FC575C02D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9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" Target="slide3.xml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" Target="slide8.xml"/><Relationship Id="rId8" Type="http://schemas.openxmlformats.org/officeDocument/2006/relationships/image" Target="../media/image17.gif"/><Relationship Id="rId9" Type="http://schemas.openxmlformats.org/officeDocument/2006/relationships/slide" Target="slide14.xml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9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76212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山    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蒲松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438280" cy="217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57913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历历在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忽大风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1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2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一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一行有五点明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7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9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0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agf059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838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0" y="2881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hssl-1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7238880" cy="259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68604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hssl-7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4209840" cy="298764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724280" y="3733920"/>
            <a:ext cx="3961800" cy="703440"/>
            <a:chOff x="4724280" y="3733920"/>
            <a:chExt cx="3961800" cy="703440"/>
          </a:xfrm>
        </p:grpSpPr>
        <p:sp>
          <p:nvSpPr>
            <p:cNvPr id="308" name=""/>
            <p:cNvSpPr/>
            <p:nvPr/>
          </p:nvSpPr>
          <p:spPr>
            <a:xfrm>
              <a:off x="4724280" y="3743280"/>
              <a:ext cx="3961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3733920"/>
              <a:ext cx="396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1988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年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月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16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日凌晨，登州海面一次奇特的日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hssl-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hssl-4" descr=""/>
          <p:cNvPicPr/>
          <p:nvPr/>
        </p:nvPicPr>
        <p:blipFill>
          <a:blip r:embed="rId3"/>
          <a:stretch/>
        </p:blipFill>
        <p:spPr>
          <a:xfrm>
            <a:off x="4495680" y="3200400"/>
            <a:ext cx="44197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4952880" y="762120"/>
            <a:ext cx="3809520" cy="642600"/>
            <a:chOff x="4952880" y="762120"/>
            <a:chExt cx="3809520" cy="642600"/>
          </a:xfrm>
        </p:grpSpPr>
        <p:sp>
          <p:nvSpPr>
            <p:cNvPr id="321" name=""/>
            <p:cNvSpPr/>
            <p:nvPr/>
          </p:nvSpPr>
          <p:spPr>
            <a:xfrm>
              <a:off x="4952880" y="762120"/>
              <a:ext cx="3809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762120"/>
              <a:ext cx="380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南长山岛以西海面出现一片蒙胧的工厂区幻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52280" y="3657600"/>
            <a:ext cx="4571280" cy="703440"/>
            <a:chOff x="152280" y="3657600"/>
            <a:chExt cx="4571280" cy="703440"/>
          </a:xfrm>
        </p:grpSpPr>
        <p:sp>
          <p:nvSpPr>
            <p:cNvPr id="324" name=""/>
            <p:cNvSpPr/>
            <p:nvPr/>
          </p:nvSpPr>
          <p:spPr>
            <a:xfrm>
              <a:off x="152280" y="3657600"/>
              <a:ext cx="457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280" y="3657600"/>
              <a:ext cx="457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莱阁东部海面蓬出现似古堡、舰船景物，闪闪发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2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3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hssl-5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21624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4648320" y="762120"/>
            <a:ext cx="8380440" cy="703440"/>
            <a:chOff x="4648320" y="762120"/>
            <a:chExt cx="8380440" cy="703440"/>
          </a:xfrm>
        </p:grpSpPr>
        <p:grpSp>
          <p:nvGrpSpPr>
            <p:cNvPr id="335" name=""/>
            <p:cNvGrpSpPr/>
            <p:nvPr/>
          </p:nvGrpSpPr>
          <p:grpSpPr>
            <a:xfrm>
              <a:off x="4648320" y="762120"/>
              <a:ext cx="4128480" cy="703440"/>
              <a:chOff x="4648320" y="762120"/>
              <a:chExt cx="4128480" cy="703440"/>
            </a:xfrm>
          </p:grpSpPr>
          <p:sp>
            <p:nvSpPr>
              <p:cNvPr id="336" name=""/>
              <p:cNvSpPr/>
              <p:nvPr/>
            </p:nvSpPr>
            <p:spPr>
              <a:xfrm>
                <a:off x="4648320" y="762120"/>
                <a:ext cx="4128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48320" y="762120"/>
                <a:ext cx="41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Times New Roman"/>
                  </a:rPr>
                  <a:t>     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8777520" y="762120"/>
              <a:ext cx="4251240" cy="457560"/>
              <a:chOff x="8777520" y="762120"/>
              <a:chExt cx="4251240" cy="457560"/>
            </a:xfrm>
          </p:grpSpPr>
          <p:sp>
            <p:nvSpPr>
              <p:cNvPr id="339" name=""/>
              <p:cNvSpPr/>
              <p:nvPr/>
            </p:nvSpPr>
            <p:spPr>
              <a:xfrm>
                <a:off x="8777520" y="762120"/>
                <a:ext cx="4251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777520" y="762120"/>
                <a:ext cx="4251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ssl-6" descr=""/>
          <p:cNvPicPr/>
          <p:nvPr/>
        </p:nvPicPr>
        <p:blipFill>
          <a:blip r:embed="rId3"/>
          <a:stretch/>
        </p:blipFill>
        <p:spPr>
          <a:xfrm>
            <a:off x="0" y="3276720"/>
            <a:ext cx="5334120" cy="322236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410080" y="3657600"/>
            <a:ext cx="3124080" cy="1739880"/>
            <a:chOff x="5410080" y="3657600"/>
            <a:chExt cx="3124080" cy="1739880"/>
          </a:xfrm>
        </p:grpSpPr>
        <p:sp>
          <p:nvSpPr>
            <p:cNvPr id="344" name=""/>
            <p:cNvSpPr/>
            <p:nvPr/>
          </p:nvSpPr>
          <p:spPr>
            <a:xfrm>
              <a:off x="5410080" y="3657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365760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海岛上突然出现了两棵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形似迎客松的景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00600" y="685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诸多小岛顶部延伸架起了一座“多孔长桥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4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5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" name="agf059" descr=""/>
          <p:cNvPicPr/>
          <p:nvPr/>
        </p:nvPicPr>
        <p:blipFill>
          <a:blip r:embed="rId4"/>
          <a:stretch/>
        </p:blipFill>
        <p:spPr>
          <a:xfrm>
            <a:off x="7772400" y="6248520"/>
            <a:ext cx="9144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0(3)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523880" cy="1265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5720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出现的全过程分为几个阶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95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初生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从孤塔高耸到宫殿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828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发展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2362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高潮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危楼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从开始到最后是怎样一步步变化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581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3581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何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3581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未几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35812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3434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既而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3434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逾时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4343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倏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51814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出现的原理是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7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b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858000" cy="396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33520" y="457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尾的作用是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914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结尾一段写山上的“鬼市”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是补笔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有照应开头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1981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是蒲松龄亲眼所见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句话能看出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289548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总结</a:t>
            </a: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篇文章是根据目击者的叙述写的。它历历如画地再现了山市由生成到消失的过程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论大笔勾勒或工笔描摹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都能曲尽其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572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一共描绘了几幅画面，你能选一个镜头画下来吗？也可以用语言描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857240" y="3274920"/>
            <a:ext cx="5429160" cy="360"/>
            <a:chOff x="1857240" y="3274920"/>
            <a:chExt cx="5429160" cy="360"/>
          </a:xfrm>
        </p:grpSpPr>
        <p:sp>
          <p:nvSpPr>
            <p:cNvPr id="381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8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8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agf059" descr=""/>
          <p:cNvPicPr/>
          <p:nvPr/>
        </p:nvPicPr>
        <p:blipFill>
          <a:blip r:embed="rId3"/>
          <a:stretch/>
        </p:blipFill>
        <p:spPr>
          <a:xfrm>
            <a:off x="8153280" y="6095880"/>
            <a:ext cx="68580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209680" y="609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15238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生字、词的积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片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4290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翻译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4343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文精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6040" y="3114720"/>
            <a:ext cx="5429160" cy="360"/>
            <a:chOff x="1886040" y="3114720"/>
            <a:chExt cx="5429160" cy="360"/>
          </a:xfrm>
        </p:grpSpPr>
        <p:sp>
          <p:nvSpPr>
            <p:cNvPr id="396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8" name="gaofeng64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6094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1886040" y="3114720"/>
            <a:ext cx="5429160" cy="360"/>
            <a:chOff x="1886040" y="3114720"/>
            <a:chExt cx="5429160" cy="360"/>
          </a:xfrm>
        </p:grpSpPr>
        <p:sp>
          <p:nvSpPr>
            <p:cNvPr id="400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86040" y="31147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gaofeng64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447920" y="1523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03" name="gaofeng644" descr=""/>
          <p:cNvPicPr/>
          <p:nvPr/>
        </p:nvPicPr>
        <p:blipFill>
          <a:blip r:embed="rId6"/>
          <a:stretch/>
        </p:blipFill>
        <p:spPr>
          <a:xfrm>
            <a:off x="144792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04" name="gaofeng64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447920" y="3429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05" name="gaofeng64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447920" y="24382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06" name="gaofeng644" descr=""/>
          <p:cNvPicPr/>
          <p:nvPr/>
        </p:nvPicPr>
        <p:blipFill>
          <a:blip r:embed="rId11"/>
          <a:stretch/>
        </p:blipFill>
        <p:spPr>
          <a:xfrm>
            <a:off x="1447920" y="5334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86000" y="5334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言词语的归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agf059" descr=""/>
          <p:cNvPicPr/>
          <p:nvPr/>
        </p:nvPicPr>
        <p:blipFill>
          <a:blip r:embed="rId12"/>
          <a:stretch/>
        </p:blipFill>
        <p:spPr>
          <a:xfrm>
            <a:off x="8153280" y="6095880"/>
            <a:ext cx="68580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304920"/>
            <a:ext cx="6019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蒲松龄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（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1640—1715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），清代文学家，字留仙，世称“聊斋先生”，淄川人（现在山东淄博），出身商人家庭，早岁即有文名，但屡试不第，至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71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岁方为贡生。长期穷愁潦倒，以教书为业。代表作《聊斋志异》。该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y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954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396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以讲狐说鬼的浪漫主义手法，揭露抨击封建礼教的束缚，科举制度的腐朽以及封建统治的黑暗，主张个性自由，深刻反映了封建社会末期的现实生活，艺术成就达到古代文言小说的高峰，一向为后世所称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889600"/>
            <a:ext cx="10731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r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590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青冥   飞甍   高垣 睥 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méng        yuán pì n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2193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6858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762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查点、计算     数不胜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、数目         数以万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u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屡次                数见不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8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819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895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ā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街巷名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牌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505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á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手工业的工作场所   作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41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舍弃、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029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房屋、宿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43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身不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、就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28640" y="5410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意、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7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036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9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6094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孤塔耸起  高插青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2096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碧瓦飞甍  历历在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9625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直接霄汉  黯然缥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4480" y="3124080"/>
            <a:ext cx="298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风定天清  一切乌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73480" y="4800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恒不一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0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0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agf059" descr=""/>
          <p:cNvPicPr/>
          <p:nvPr/>
        </p:nvPicPr>
        <p:blipFill>
          <a:blip r:embed="rId2"/>
          <a:stretch/>
        </p:blipFill>
        <p:spPr>
          <a:xfrm>
            <a:off x="7772400" y="6019920"/>
            <a:ext cx="1143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宋体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0574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数至八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古今词义不同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霄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一直连接到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词类活用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一词多义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3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agf059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838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19680" y="561960"/>
            <a:ext cx="52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9625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惊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13800" y="685800"/>
            <a:ext cx="48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未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睥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" name="agf059" descr=""/>
          <p:cNvPicPr/>
          <p:nvPr/>
        </p:nvPicPr>
        <p:blipFill>
          <a:blip r:embed="rId2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6:47:41Z</dcterms:created>
  <dc:creator>wutao</dc:creator>
  <dc:description/>
  <dc:language>en-US</dc:language>
  <cp:lastModifiedBy>zyb</cp:lastModifiedBy>
  <dcterms:modified xsi:type="dcterms:W3CDTF">2004-12-02T02:28:20Z</dcterms:modified>
  <cp:revision>100</cp:revision>
  <dc:subject/>
  <dc:title>PowerPoint 演示文稿</dc:title>
</cp:coreProperties>
</file>