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666520" y="3565080"/>
            <a:ext cx="586764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66652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67324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0480" y="3808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34800" y="3808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666520" y="35650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650480" y="35650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34800" y="35650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DCAA-81FB-4833-A757-76898E43B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830D-19DF-490D-B568-BA74225D6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71D1-DE45-4E43-A2DE-B5C182214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5001-8AE0-4CA1-964D-58471F5E0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4010-45A6-4D48-ADE7-D9FF62874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09120" y="7828560"/>
            <a:ext cx="12956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3A74-14F9-48DB-91E7-756BA38C4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66652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1325-A3E8-4DF4-B684-324C3E18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67324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6606-C7B9-4641-971E-4A0FB4B4B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666520" y="3565080"/>
            <a:ext cx="586764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7E8A-7A0F-4863-9582-5E8DBC91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666520" y="3565080"/>
            <a:ext cx="586764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F8FC-6D0C-4635-980B-7F7E5AFCD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66652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67324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34B3-FE40-4EE7-AF31-43A39D222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0480" y="3808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34800" y="3808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666520" y="35650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650480" y="35650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634800" y="35650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7682-2B44-45EE-985B-B3970DF27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09120" y="7828560"/>
            <a:ext cx="12956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66652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7324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666520" y="3565080"/>
            <a:ext cx="586764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R02" descr=""/>
          <p:cNvPicPr/>
          <p:nvPr/>
        </p:nvPicPr>
        <p:blipFill>
          <a:blip r:embed="rId2"/>
          <a:stretch/>
        </p:blipFill>
        <p:spPr>
          <a:xfrm>
            <a:off x="0" y="4303800"/>
            <a:ext cx="9144000" cy="2554200"/>
          </a:xfrm>
          <a:prstGeom prst="rect">
            <a:avLst/>
          </a:prstGeom>
          <a:ln w="0">
            <a:noFill/>
          </a:ln>
        </p:spPr>
      </p:pic>
      <p:pic>
        <p:nvPicPr>
          <p:cNvPr id="1" name="R04" descr=""/>
          <p:cNvPicPr/>
          <p:nvPr/>
        </p:nvPicPr>
        <p:blipFill>
          <a:blip r:embed="rId3"/>
          <a:stretch/>
        </p:blipFill>
        <p:spPr>
          <a:xfrm>
            <a:off x="60948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1" name="R02" descr=""/>
            <p:cNvPicPr/>
            <p:nvPr/>
          </p:nvPicPr>
          <p:blipFill>
            <a:blip r:embed="rId2"/>
            <a:stretch/>
          </p:blipFill>
          <p:spPr>
            <a:xfrm>
              <a:off x="1676520" y="4772160"/>
              <a:ext cx="7467480" cy="20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R04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685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R01" descr=""/>
            <p:cNvPicPr/>
            <p:nvPr/>
          </p:nvPicPr>
          <p:blipFill>
            <a:blip r:embed="rId4"/>
            <a:stretch/>
          </p:blipFill>
          <p:spPr>
            <a:xfrm>
              <a:off x="304920" y="1371600"/>
              <a:ext cx="8534160" cy="377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EF767-7675-4AF5-8915-DEF1C25202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550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876920" y="5791320"/>
            <a:ext cx="1447560" cy="380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95480" y="5791320"/>
            <a:ext cx="1447920" cy="380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666880" y="2666880"/>
            <a:ext cx="3505320" cy="1917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行楷"/>
              </a:rPr>
              <a:t>山市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88" name=""/>
          <p:cNvSpPr txBox="1"/>
          <p:nvPr/>
        </p:nvSpPr>
        <p:spPr>
          <a:xfrm rot="3418800">
            <a:off x="7543800" y="3352680"/>
            <a:ext cx="533520" cy="533520"/>
          </a:xfrm>
          <a:prstGeom prst="rect">
            <a:avLst/>
          </a:prstGeom>
        </p:spPr>
        <p:txBody>
          <a:bodyPr wrap="none" lIns="90000" rIns="90000" tIns="46800" bIns="46800" anchor="t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蒲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89" name=""/>
          <p:cNvSpPr txBox="1"/>
          <p:nvPr/>
        </p:nvSpPr>
        <p:spPr>
          <a:xfrm rot="3623400">
            <a:off x="6963120" y="3703320"/>
            <a:ext cx="507960" cy="457200"/>
          </a:xfrm>
          <a:prstGeom prst="rect">
            <a:avLst/>
          </a:prstGeom>
        </p:spPr>
        <p:txBody>
          <a:bodyPr wrap="none" lIns="90000" rIns="90000" tIns="46800" bIns="46800" anchor="t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90" name=""/>
          <p:cNvSpPr txBox="1"/>
          <p:nvPr/>
        </p:nvSpPr>
        <p:spPr>
          <a:xfrm rot="3491400">
            <a:off x="6390720" y="4124160"/>
            <a:ext cx="533520" cy="514440"/>
          </a:xfrm>
          <a:prstGeom prst="rect">
            <a:avLst/>
          </a:prstGeom>
        </p:spPr>
        <p:txBody>
          <a:bodyPr wrap="none" lIns="90000" rIns="90000" tIns="46800" bIns="46800" anchor="t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龄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91" name=""/>
          <p:cNvSpPr/>
          <p:nvPr/>
        </p:nvSpPr>
        <p:spPr>
          <a:xfrm>
            <a:off x="2895480" y="571500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作者简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76920" y="5715000"/>
            <a:ext cx="1600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相关资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 rot="5400000">
            <a:off x="-1333800" y="2933640"/>
            <a:ext cx="556236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/>
                  </a:outerShdw>
                </a:effectLst>
                <a:latin typeface="宋体"/>
              </a:rPr>
              <a:t>作者简介</a:t>
            </a:r>
            <a:endParaRPr b="0" lang="en-US" sz="60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7696080" y="617220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楷体_GB2312"/>
              </a:rPr>
              <a:t>返回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1066680"/>
            <a:ext cx="6324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666666"/>
                </a:solidFill>
                <a:latin typeface="新宋体"/>
                <a:ea typeface="新宋体"/>
              </a:rPr>
              <a:t>    </a:t>
            </a:r>
            <a:r>
              <a:rPr b="0" lang="zh-CN" sz="2300" spc="-1" strike="noStrike">
                <a:solidFill>
                  <a:srgbClr val="666666"/>
                </a:solidFill>
                <a:latin typeface="新宋体"/>
                <a:ea typeface="新宋体"/>
              </a:rPr>
              <a:t>蒲松龄（</a:t>
            </a:r>
            <a:r>
              <a:rPr b="0" lang="zh-CN" sz="2300" spc="-1" strike="noStrike">
                <a:solidFill>
                  <a:srgbClr val="666666"/>
                </a:solidFill>
                <a:latin typeface="新宋体"/>
                <a:ea typeface="新宋体"/>
              </a:rPr>
              <a:t>1640-1715</a:t>
            </a:r>
            <a:r>
              <a:rPr b="0" lang="zh-CN" sz="2300" spc="-1" strike="noStrike">
                <a:solidFill>
                  <a:srgbClr val="666666"/>
                </a:solidFill>
                <a:latin typeface="新宋体"/>
                <a:ea typeface="新宋体"/>
              </a:rPr>
              <a:t>年），山东淄川蒲家庄人，字留仙，号柳泉，世称聊斋先生。《聊斋》多是运用浪漫主义的创作方法，具有想象丰富、构思奇特，情节曲折，境界瑰异的特色。虽然讲仙叙神，评妖品孽、谈狐说鬼，实际上揭露封建社会性的黑暗，强有力地批判了封建社会不合理的科举制度，婚姻制度和社会上的种种丑恶现象。《聊斋志异》在中国古典名著中“人竞传写，远迩借求”、奇葩异放、光彩辉煌。不愧为祖国传统文学宝库中的一块艳丽夺目、灿烂辉煌的瑰宝 。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57200" y="12193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山市其实就是我们常说的“海市蜃楼”，下面，就让我们来看一看海市蜃楼的形成吧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" action="ppaction://hlinkshowjump?jump=nextslide"/>
          </p:cNvPr>
          <p:cNvSpPr/>
          <p:nvPr/>
        </p:nvSpPr>
        <p:spPr>
          <a:xfrm>
            <a:off x="7772400" y="60199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2514600" y="2209680"/>
            <a:ext cx="6324480" cy="4437720"/>
            <a:chOff x="2514600" y="2209680"/>
            <a:chExt cx="6324480" cy="4437720"/>
          </a:xfrm>
        </p:grpSpPr>
        <p:pic>
          <p:nvPicPr>
            <p:cNvPr id="101" name="海%202" descr=""/>
            <p:cNvPicPr/>
            <p:nvPr/>
          </p:nvPicPr>
          <p:blipFill>
            <a:blip r:embed="rId1"/>
            <a:stretch/>
          </p:blipFill>
          <p:spPr>
            <a:xfrm>
              <a:off x="2514600" y="2209680"/>
              <a:ext cx="6172200" cy="374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2666880" y="6248520"/>
              <a:ext cx="617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                            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重庆市的海市蜃楼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3960" y="304920"/>
            <a:ext cx="200916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海   市   蜃   楼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14600" y="45720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海市蜃楼是一种自然现象。《史记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·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天官书》里有记载：“海旁蜃气象楼台，广野气成宫阙然；云气各象其山川人民所聚积。”由此可见，海市蜃楼是多么美丽和壮观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590920" y="1600200"/>
            <a:ext cx="609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八十年代中期，被称为“人间仙境”的蓬莱阁对面的海域上，就出现了这种几十见难得一见的奇观。从蓬莱阁向北望去，在长达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多里的辽阔海面上，忽而显现出从未见过的岛屿，其间有清晰的高楼大厦，周围有冒烟的烟囱，在波涛万顷的海面上展现出一幅多姿多彩的画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 rot="5400000">
            <a:off x="-1067040" y="2819160"/>
            <a:ext cx="5029200" cy="10666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蓬莱仙境</a:t>
            </a:r>
            <a:endParaRPr b="0" lang="en-US" sz="6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 rot="5400000">
            <a:off x="-1122840" y="2799360"/>
            <a:ext cx="5105160" cy="1030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1">
              <a:avLst>
                <a:gd name="adj1" fmla="val 0"/>
                <a:gd name="adj2" fmla="val 6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形成原因</a:t>
            </a:r>
            <a:endParaRPr b="0" lang="en-US" sz="6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8" name=""/>
          <p:cNvSpPr/>
          <p:nvPr/>
        </p:nvSpPr>
        <p:spPr>
          <a:xfrm>
            <a:off x="2438280" y="213372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那么，这神秘的海市蜃楼又是怎样产生的呢？在古代，由于社会生产力极为低下，人们无法认识海市蜃楼的真实原因。就猜测是海底的蜃打呵欠时吐出的气凝聚而成的。这就是海市蜃楼名称的由来。其实，海市蜃楼是光的折射产生的一种现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33520" y="322200"/>
            <a:ext cx="7543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假使在东方地平线下有一艘轮船，一般情况是看不到它的。但由于夏天海面附近的温度比高空低，空气由于热胀冷缩，上层的空气就比海面附近的空气稀疏，来自船舶的光线 先由密的气层，逐渐折射进入稀的气层，并在上层发生全反射，又折回到下层密的气层中来；经过这样弯曲的线路，最后投入我们的眼中，我们就能看见它的像。由于人的视觉总是感到物像是来自直线方面的，因此，我们所看到的轮船映像比实物抬高了许多，这种蜃景又叫做上现蜃景，多在海面上或江面上发生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762120" y="3581280"/>
            <a:ext cx="6781680" cy="2819520"/>
            <a:chOff x="762120" y="3581280"/>
            <a:chExt cx="6781680" cy="2819520"/>
          </a:xfrm>
        </p:grpSpPr>
        <p:sp>
          <p:nvSpPr>
            <p:cNvPr id="111" name=""/>
            <p:cNvSpPr/>
            <p:nvPr/>
          </p:nvSpPr>
          <p:spPr>
            <a:xfrm>
              <a:off x="3429000" y="3962520"/>
              <a:ext cx="2590920" cy="2438280"/>
            </a:xfrm>
            <a:prstGeom prst="ellipse">
              <a:avLst/>
            </a:prstGeom>
            <a:gradFill rotWithShape="0">
              <a:gsLst>
                <a:gs pos="0">
                  <a:srgbClr val="ffebfa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5943600" y="4647960"/>
              <a:ext cx="609480" cy="838440"/>
              <a:chOff x="5943600" y="4647960"/>
              <a:chExt cx="609480" cy="838440"/>
            </a:xfrm>
          </p:grpSpPr>
          <p:sp>
            <p:nvSpPr>
              <p:cNvPr id="113" name=""/>
              <p:cNvSpPr/>
              <p:nvPr/>
            </p:nvSpPr>
            <p:spPr>
              <a:xfrm flipV="1">
                <a:off x="5943600" y="464796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172200" y="464832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flipV="1">
                <a:off x="6019560" y="5333760"/>
                <a:ext cx="1522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172200" y="5334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172200" y="4876920"/>
                <a:ext cx="2286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00800" y="5105520"/>
                <a:ext cx="152280" cy="152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6934320" y="49528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6629400" y="51814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1" name=""/>
            <p:cNvGraphicFramePr/>
            <p:nvPr/>
          </p:nvGraphicFramePr>
          <p:xfrm>
            <a:off x="2133720" y="3809880"/>
            <a:ext cx="609480" cy="5414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2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133720" y="3809880"/>
                      <a:ext cx="609480" cy="541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3" name=""/>
            <p:cNvSpPr/>
            <p:nvPr/>
          </p:nvSpPr>
          <p:spPr>
            <a:xfrm>
              <a:off x="2819520" y="3962520"/>
              <a:ext cx="312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2120" y="38098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人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6172200" y="3581280"/>
              <a:ext cx="685800" cy="609840"/>
              <a:chOff x="6172200" y="3581280"/>
              <a:chExt cx="685800" cy="609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6172200" y="3581280"/>
                <a:ext cx="685800" cy="609840"/>
                <a:chOff x="6172200" y="3581280"/>
                <a:chExt cx="685800" cy="60984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6172200" y="3886200"/>
                  <a:ext cx="7632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6172200" y="3886200"/>
                  <a:ext cx="68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 flipH="1">
                  <a:off x="6781680" y="3886200"/>
                  <a:ext cx="7632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6248520" y="4191120"/>
                  <a:ext cx="533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 flipH="1">
                  <a:off x="6705360" y="4114800"/>
                  <a:ext cx="7596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6400800" y="3733920"/>
                  <a:ext cx="38088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6553080" y="3581280"/>
                  <a:ext cx="152640" cy="1526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4" name=""/>
              <p:cNvSpPr/>
              <p:nvPr/>
            </p:nvSpPr>
            <p:spPr>
              <a:xfrm>
                <a:off x="6172200" y="3886200"/>
                <a:ext cx="7632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09480" y="5335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海市蜃楼这种现象，不光在夏天的海面上可以出现，在四季燥热的沙漠里有时也会发生。不同的是，这是倒影，位于实物的下面，所以又叫下现蜃景。它常常折射出绿洲、河渠、房舍来，这就会给沙漠中的旅行者带来危险。这时，只要在面前燃起一堆篝火，燃烧产生的热力就会引起上下层空气的搅动混合，上下层空气密度的差异减小，光线失去了异常折射和全反射的条件，那么，所有幻景就立刻消失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海市蜃楼%201" descr=""/>
          <p:cNvPicPr/>
          <p:nvPr/>
        </p:nvPicPr>
        <p:blipFill>
          <a:blip r:embed="rId2"/>
          <a:stretch/>
        </p:blipFill>
        <p:spPr>
          <a:xfrm>
            <a:off x="1523880" y="3429000"/>
            <a:ext cx="6019920" cy="30988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362320" y="3809880"/>
            <a:ext cx="4724280" cy="1981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20120" y="4724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0773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蜃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2T14:54:27Z</dcterms:created>
  <dc:creator>wutao</dc:creator>
  <dc:description/>
  <dc:language>en-US</dc:language>
  <cp:lastModifiedBy>qq</cp:lastModifiedBy>
  <dcterms:modified xsi:type="dcterms:W3CDTF">2003-11-17T03:51:20Z</dcterms:modified>
  <cp:revision>100</cp:revision>
  <dc:subject/>
  <dc:title>PowerPoint 演示文稿</dc:title>
</cp:coreProperties>
</file>