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CD0-0CDD-4F48-ADF9-DC5AD4D7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0B4-1A31-41B6-A59B-79B18D6E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EF1-9CD3-4484-A823-FE521BBA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48A-CDB0-4AA9-B58A-B353FA06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752B-19D0-4C00-A42C-A6D1CA92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50B9-8C03-443C-B1C8-A10C0424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98E8-6B90-4F6F-9A2C-F782EB1F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FEC0-F34D-4E28-89BB-A471B679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B58F-0EC8-4D9E-A81D-2199D222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695B-53B4-463B-BA3A-E87CB9FC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66DB-6480-47C2-B736-560180F6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099-2F7F-4EB5-89DF-A9FE9375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C028-427F-4505-9C76-49CA5C0E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A9A5-7394-4CD6-8A77-4E914FC2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1BED-079E-4C33-9FF0-18F52AFE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D919-160C-48D6-A67B-2701D0AA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C775-2D32-4ADD-A1C0-CA60BD66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348-557D-4319-8036-B5552AC3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307-BA97-45FF-B5BB-17A2DCD2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843-3E06-49DE-928E-E82E33C9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A07-8799-442B-99B2-E809C524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732-D3CF-498E-9A46-A5D745B0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BDF-C9F8-492F-81BD-78517CB2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274-E044-4AA2-8773-5F26DA37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2567-A21A-46D4-8454-725C0DEF6DCA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9413-5055-4371-891E-EB80FA94ACBA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1788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年，拿破仑率军进攻埃及。在一天，法军在行进途中，突然看见前面有一片模糊的湖光山景。景物倒悬在空中，不一会儿，湖泊又消失得无影无踪。随后，他们又看到草叶变成了棕榈树丛。这种变幻莫测的影像使法军十分惊慌、不知所措。士兵们个个被吓得跪 在地上祷告，企求上帝保佑。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0028_" descr=""/>
          <p:cNvPicPr/>
          <p:nvPr/>
        </p:nvPicPr>
        <p:blipFill>
          <a:blip r:embed="rId3"/>
          <a:stretch/>
        </p:blipFill>
        <p:spPr>
          <a:xfrm>
            <a:off x="1066680" y="228600"/>
            <a:ext cx="13716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奂        冥       甍       垣      睥  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         睨       亘         倏      郭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2376000"/>
            <a:ext cx="77691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青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近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无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莽莽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屑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304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3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é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304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228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近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青天，天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久，不一会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43434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里形容尘土很大 。莽莽，广大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4724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急匆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1523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思 考</a:t>
            </a:r>
            <a:br>
              <a:rPr sz="2800"/>
            </a:br>
            <a:br>
              <a:rPr sz="2800"/>
            </a:b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作者描绘山市时，是以什么为序的</a:t>
            </a:r>
            <a:r>
              <a:rPr b="0" lang="zh-CN" sz="3200" spc="-1" strike="noStrike">
                <a:solidFill>
                  <a:srgbClr val="050246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666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是以时间为序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9625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表示时间的词语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49528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无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未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既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思考</a:t>
            </a:r>
            <a:br>
              <a:rPr sz="1600"/>
            </a:br>
            <a:br>
              <a:rPr sz="1600"/>
            </a:b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、作者是怎样描绘山市的变化的？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00400"/>
            <a:ext cx="776448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确：作者是以目击者的口气来描写山市的变化的，这样可以增强文章的真实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具体变化如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3962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宫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3962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城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危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4648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高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4648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如拳如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可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孤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考</a:t>
            </a:r>
            <a:br>
              <a:rPr sz="4800"/>
            </a:b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4824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482400"/>
                </a:solidFill>
                <a:latin typeface="Times New Roman"/>
              </a:rPr>
              <a:t>、山市的变化是快还是缓慢？从哪些词语可以看出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2133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从哪些词语中可以看出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971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971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无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971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未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既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2971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逾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倏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0600" y="2147760"/>
            <a:ext cx="2741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山市的变化很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971800"/>
            <a:ext cx="6629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971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505320"/>
            <a:ext cx="6629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2971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6576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表明山市出现得很迅速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419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倏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4343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表明山市的景象变化突然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5627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何  未几  既而  逾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表示极短的时间，表明山市的景象变化很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06632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4300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5029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990720" y="5562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396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648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 考</a:t>
            </a:r>
            <a:br>
              <a:rPr sz="4400"/>
            </a:b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文章对山市景象的描写生动形象，作者运用了哪些修辞方法以达到这种效果？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1640" y="1918800"/>
            <a:ext cx="7769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2590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惟危楼一座，直接霄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夸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505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至八层，裁如星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排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495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楼若者，堂若者，坊若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Times New Roman"/>
              </a:rPr>
              <a:t>使文章语文简洁而富有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274320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考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、本文在写法上有什么特点？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1640" y="3366720"/>
            <a:ext cx="776916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描绘的是动景，抓住山市景象变幻莫测的特点来写，因而是 按照时间顺序来描绘景象的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这是怎么回事呢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现象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答   案</a:t>
            </a:r>
            <a:endParaRPr b="0" lang="en-US" sz="8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在沙漠里，在海湾上，或是在广阔的陆地和 水域上空，有时在远处涌现树木房屋、街道行人、车马船舶等景象，好像一个热闹的集市，很快又自行消失。古代人们不了解它的成因，以为是神仙住所、蛟龙吐气，故而名为海市蜃楼，亦称蓬莱仙境。气象学上称为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蜃景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它是怎样形成的？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海市蜃楼现象形成的主要原因是：地面强烈增热或强烈辐射冷却，使得近地空气层的密度，上下差异很大，当地面景物的光像在这种疏密不同的空气中传播时，由于光线的反射率、折射率的强烈变化而曲线投影到很远的地方成像。不少的沙漠旅行者或海洋航行者都受到过这种幻影的迷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海市蜃楼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824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2002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日下午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时左右 。青岛海面上出现了一座现  代化海港，吊杆林立，灯火闪耀，亦幻亦真让人真假难辨。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海市蜃楼02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  <a:ea typeface="楷体_GB2312"/>
              </a:rPr>
              <a:t>青岛市民一睹蜃景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海市蜃楼03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2002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年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7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月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29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日，在我国甘肃的沙漠中，出现海市蜃楼。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海市蜃楼08" descr=""/>
          <p:cNvPicPr/>
          <p:nvPr/>
        </p:nvPicPr>
        <p:blipFill>
          <a:blip r:embed="rId2"/>
          <a:stretch/>
        </p:blipFill>
        <p:spPr>
          <a:xfrm>
            <a:off x="-228600" y="-685800"/>
            <a:ext cx="9372600" cy="7543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9067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日正午时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分左右，一驾驶员  驱车刚进入重庆，猛抬头发现重庆变了样。熟悉的城市怎么一下多出那么多空中楼阁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1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山  市</a:t>
            </a:r>
            <a:endParaRPr b="0" lang="en-US" sz="17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97180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蒲松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23623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640—171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清朝著名文学家。字留仙，又字剑臣，别号柳泉居士，又因为他著有的文言小说集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《聊斋志异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世人称他为</a:t>
            </a: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聊斋先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9:09:23Z</dcterms:created>
  <dc:creator>wutao</dc:creator>
  <dc:description/>
  <dc:language>en-US</dc:language>
  <cp:lastModifiedBy>WRH</cp:lastModifiedBy>
  <dcterms:modified xsi:type="dcterms:W3CDTF">2002-11-26T00:26:02Z</dcterms:modified>
  <cp:revision>100</cp:revision>
  <dc:subject/>
  <dc:title>PowerPoint 演示文稿</dc:title>
</cp:coreProperties>
</file>