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61B42-5FEC-46B1-9CE7-6A7218D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7DC4-DDC3-4AA2-BBC4-6F00F85B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49072-133A-4428-931B-32FB83D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A76B-1A23-45AA-849F-8D70155F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9D1E-0377-45A1-A33C-F8F4DD7C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6018B-FCFC-4A3B-B420-B0C9B8E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C8AF4-63A4-4002-BA27-BBF333B1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1C3E4-1375-4C80-BEFE-14F5946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88A10-A809-4C64-B735-2D8D06B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1B72-EFD2-44FE-93ED-2DED5F9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E070-843A-4563-A45E-B62D95D2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34940-8DAE-44B4-8FA6-86CBF268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C29D-697F-464C-BFE1-CEB1B3821700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19520" y="1249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33"/>
                </a:solidFill>
                <a:latin typeface="隶书"/>
                <a:ea typeface="隶书"/>
              </a:rPr>
              <a:t>风  筝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535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3c39f"/>
                </a:solidFill>
                <a:latin typeface="隶书"/>
                <a:ea typeface="隶书"/>
              </a:rPr>
              <a:t>鲁 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295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读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3-4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7664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找出描写小兄弟的有关语句，说说作者笔下的“小兄弟” 是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个怎样的形象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找找描写“我”的有关语句，“我”又是一个怎样的形象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”为什么不让小兄弟放风筝，为什么要破坏他做的风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兄弟做风筝被发现时，为什么会“惊惶”？想像一下小兄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弟当时的处境和心情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部分一些动词和形容词用得很贴切传神，找出来，说说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为什么用得好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0560" y="137160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读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5-10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0574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看到一本外国的讲论儿童的行为的书，为什么说是“不幸”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何理解不许小兄弟放风筝是“对于精神的虐杀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当我明白了儿童游戏意义后，心情沉重，总想补过，这说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明什么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”想了几种补过的方法？后来补过了没有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兄弟还记得这件事吗？你认为他为什么会把这件事情给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忘了呢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对于小兄弟的“全然忘却，毫无怨恨”，作者感到轻松了吗？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你认为这是为什么呢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7640" y="121932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读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1-2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、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11-12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828800"/>
            <a:ext cx="8153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-2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段，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画出描写故乡风筝时节的“春光明媚”的句子，说说作者  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为什么把往事的回忆放在这样的画面中展开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为什么说“久经诀别的故乡的久经逝去的春天，却就在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这（北京的）天空中荡漾了”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读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1-12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段，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何理解“故乡的春天““带着无可把握的悲哀”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②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倒不如躲到肃杀的严冬中去吧，——但是，四面又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明明是严冬，正给我非常的寒威和冷气。” 体现出“我”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怎样的感情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" name="back" descr=""/>
          <p:cNvPicPr/>
          <p:nvPr/>
        </p:nvPicPr>
        <p:blipFill>
          <a:blip r:embed="rId2"/>
          <a:stretch/>
        </p:blipFill>
        <p:spPr>
          <a:xfrm>
            <a:off x="7467480" y="631188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2666880"/>
            <a:ext cx="7238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足情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游戏对于儿童的意义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“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”的自省精神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兄弟无怨恨的思想内容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78264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170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本文的意蕴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504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惊呼跳跃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27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可鄙气恨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0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惊惶绝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71920" y="2743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悔恨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想补过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50878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忘却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2757600"/>
            <a:ext cx="9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悲哀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077320" y="3428280"/>
            <a:ext cx="228600" cy="1523880"/>
          </a:xfrm>
          <a:prstGeom prst="downArrow">
            <a:avLst>
              <a:gd name="adj1" fmla="val 50000"/>
              <a:gd name="adj2" fmla="val 166654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429000"/>
            <a:ext cx="255600" cy="1511280"/>
          </a:xfrm>
          <a:prstGeom prst="downArrow">
            <a:avLst>
              <a:gd name="adj1" fmla="val 50000"/>
              <a:gd name="adj2" fmla="val 147817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78264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70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文章的感情线索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671920"/>
            <a:ext cx="1752480" cy="947160"/>
          </a:xfrm>
          <a:prstGeom prst="rect">
            <a:avLst/>
          </a:prstGeom>
          <a:noFill/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我”的感情变化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400" y="5105520"/>
            <a:ext cx="1341720" cy="520560"/>
          </a:xfrm>
          <a:prstGeom prst="rect">
            <a:avLst/>
          </a:prstGeom>
          <a:noFill/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小兄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600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我”的“悲哀”的内蕴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7621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502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小时侯自己对弟弟那样管束，无异是“精神的虐杀”。当年，“虐杀者”与“被虐杀者”都被愚昧观念所支配，彼此都不以为有什么错。现在“虐杀者”有了觉悟而后悔痛苦，而“被虐杀者”已经全然忘却。课文一再强调“我”的沉重和悲哀，不仅表现个人的悔恨，更是对这种普遍的精神麻木状态的忧虑和痛惜。在今天，我们仍然可以从中得到极大的教育意义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9" name="back" descr=""/>
          <p:cNvPicPr/>
          <p:nvPr/>
        </p:nvPicPr>
        <p:blipFill>
          <a:blip r:embed="rId2"/>
          <a:stretch/>
        </p:blipFill>
        <p:spPr>
          <a:xfrm>
            <a:off x="7543800" y="617220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25146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有一回，我们会面的时候，是脸上都已添刻了许多“生”的辛苦的条纹……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但此时地上的杨柳已经发芽，早的山桃也多吐蕾，和孩子们的天上的点缀相照应，打成一片春日的温和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远处的蟹风筝突然落下来了，他惊呼；两个瓦片风筝的缠绕解开了，他高兴得跳跃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也知道补过的方法的：送他风筝，赞成他放，劝他放，我和他一同放。我们嚷着，跑着，笑着。——然而他其时已经和我一样，早已有了胡子了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6094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咀嚼语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71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  <a:ea typeface="黑体"/>
              </a:rPr>
              <a:t>品味下面的语句。再从本文找出你喜欢的语言，说说理由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304920" y="23623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鲁迅简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42900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背景知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4956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字音词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12952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感知课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342900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3623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51656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咀嚼语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2952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课堂导入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76840" y="609480"/>
          <a:ext cx="4214880" cy="563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609480"/>
                    <a:ext cx="42148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8794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有一首老歌这样唱到：“又是一年三月三，风筝飞满天，牵着我的思念和梦幻走回到童年。”提到风筝，我们总会想起那天真烂漫的童年。其实，我们每个人也象飞在空中的风筝，无论我们走得多远，总有一根绳线牵系着你，那就是割不断的亲情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今天我们学习的这篇文章讲述的便是与风筝有关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误解与冲突中也有亲情的故事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back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9240" y="594360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52680" y="619200"/>
            <a:ext cx="5562720" cy="2654280"/>
          </a:xfrm>
          <a:prstGeom prst="rect">
            <a:avLst/>
          </a:prstGeom>
          <a:solidFill>
            <a:srgbClr val="fff4d5">
              <a:alpha val="50000"/>
            </a:srgbClr>
          </a:solidFill>
          <a:ln w="3240">
            <a:solidFill>
              <a:srgbClr val="fff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鲁迅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1881—1936)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学家、思想家和革命家。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原名周树人，字豫才，浙江绍兴人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02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去日本学医，后弃医从文，企图用以改变国民精神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，首次用笔名“鲁迅”发表中国现代文学史上第一篇白话小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狂人日记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大胆揭露人吃人的封建礼教，奠定了新文学运动的基石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代陆续出版了《呐喊》《坟》《热风》《彷徨》《野草》《朝花夕拾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华盖集》《华盖集续篇》等专集，表现出爱国主义和彻底的革命民主主义的思想。其中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篇小说《阿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Q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传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中国现代文学史上的杰作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36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日病逝于上海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4600" y="1011240"/>
            <a:ext cx="3025800" cy="4170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1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岁的鲁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back" descr=""/>
          <p:cNvPicPr/>
          <p:nvPr/>
        </p:nvPicPr>
        <p:blipFill>
          <a:blip r:embed="rId3"/>
          <a:stretch/>
        </p:blipFill>
        <p:spPr>
          <a:xfrm>
            <a:off x="814320" y="617220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8589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背景知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06856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风筝》选自散文诗集《野草》。该集收录了鲁迅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24—1926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所作的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篇散文诗，主要是用曲折幽暗的象征手法表达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代作者内心世界的苦闷和对现实社会的抗争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风筝》写于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25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日，恰逢农历正月初一，发表后因其对传统的封建的儿童教育思想的强烈抨击，深受读者尤其是青少年读者的欢迎和喜爱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back" descr=""/>
          <p:cNvPicPr/>
          <p:nvPr/>
        </p:nvPicPr>
        <p:blipFill>
          <a:blip r:embed="rId2"/>
          <a:stretch/>
        </p:blipFill>
        <p:spPr>
          <a:xfrm>
            <a:off x="7391520" y="600696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1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0840" y="229068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xián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嫌恶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088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29720" y="30780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zhuàn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赚钱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2590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868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40080" y="39672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诀别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5428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40080" y="4653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决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22600" y="535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40080" y="5364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抉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241880"/>
            <a:ext cx="228600" cy="787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87320"/>
              <a:gd name="textAreaBottom" fmla="*/ 76680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412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29720" y="39672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duò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堕落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97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4360" y="471492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zhuì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下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191120"/>
            <a:ext cx="152280" cy="15224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2440"/>
              <a:gd name="textAreaBottom" fmla="*/ 1482840 h 15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544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62400" y="3078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ù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宽恕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62400" y="2286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ù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愤怒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1560" y="233856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怒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590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303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形  似  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447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20960" y="24987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í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0320" y="2498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什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0320" y="333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什么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9600" y="295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4449600"/>
            <a:ext cx="212760" cy="1067040"/>
          </a:xfrm>
          <a:custGeom>
            <a:avLst/>
            <a:gdLst>
              <a:gd name="textAreaLeft" fmla="*/ 136080 w 212760"/>
              <a:gd name="textAreaRight" fmla="*/ 213120 w 2127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6440" y="333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é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1960" y="463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400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劳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81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137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模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73280" y="371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47280" y="2879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4240" y="2874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凶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364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4240" y="364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恶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73840" y="445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w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424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嫌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27734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57920" y="323064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68580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多  音  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50200" y="1371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孤独；没有依靠。文中指风筝少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00280" y="182880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本指人瘦弱，面色不好看。此指风筝色彩黯淡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33440" y="2286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指苦心钻研，到了别人所达不到的地步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71720" y="2743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分别（多指不易相见的离别）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148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可以拿来取笑的资料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93280" y="5943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令人鄙视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99640" y="3657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虐待人而致死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77840" y="41148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寒冷、受惊而蜷缩或兼抖动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8544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形容忽然醒悟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6920" y="5486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惊慌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31440" y="5029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书）形容秋冬天气寒冷，草木枯落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96400" y="1390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伶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6400" y="182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憔悴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19880" y="2286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苦心孤诣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640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诀别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9640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笑柄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40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虐杀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6400" y="594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可鄙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96400" y="548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惊惶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6400" y="41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瑟缩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19880" y="457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恍然大悟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640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肃杀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3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解释下列词语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back" descr=""/>
          <p:cNvPicPr/>
          <p:nvPr/>
        </p:nvPicPr>
        <p:blipFill>
          <a:blip r:embed="rId2"/>
          <a:stretch/>
        </p:blipFill>
        <p:spPr>
          <a:xfrm>
            <a:off x="7391520" y="609588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40760" y="3124080"/>
            <a:ext cx="15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读读课文，谈谈你对这篇文章的感受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0520" y="412920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文中有你不太理解的地方吗？指出来让大家帮帮你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92320" y="205740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33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篇散文写什么事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用自已的话说说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7621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隶书"/>
              </a:rPr>
              <a:t>初步感知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back" descr=""/>
          <p:cNvPicPr/>
          <p:nvPr/>
        </p:nvPicPr>
        <p:blipFill>
          <a:blip r:embed="rId2"/>
          <a:stretch/>
        </p:blipFill>
        <p:spPr>
          <a:xfrm>
            <a:off x="7010280" y="601992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1:19:36Z</dcterms:created>
  <dc:creator>wutao</dc:creator>
  <dc:description/>
  <dc:language>en-US</dc:language>
  <cp:lastModifiedBy>zyb</cp:lastModifiedBy>
  <dcterms:modified xsi:type="dcterms:W3CDTF">2004-12-02T06:56:26Z</dcterms:modified>
  <cp:revision>100</cp:revision>
  <dc:subject/>
  <dc:title>幻灯片 1</dc:title>
</cp:coreProperties>
</file>