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7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7.png" ContentType="image/png"/>
  <Override PartName="/ppt/media/image14.gif" ContentType="image/gif"/>
  <Override PartName="/ppt/media/image3.png" ContentType="image/png"/>
  <Override PartName="/ppt/media/image4.jpeg" ContentType="image/jpeg"/>
  <Override PartName="/ppt/media/image2.png" ContentType="image/pn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DE6-447B-4548-B7C3-B882905B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C24-E5D9-491F-B937-85915CF5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0E2-BC6E-4BA6-8A8C-9E046D8F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B35-D078-4E85-B7D5-E163754A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1863-945D-47F9-9577-A81FB796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6812-99E0-4823-8D02-6C9F2577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BA26-4E11-417C-8DFE-FA07EB2F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EB85-347D-4CA6-9E89-C9DFC695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D652-C228-457A-9640-E1AFEC9D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BF56-2495-471D-BAF9-1DB2F542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014-C491-4902-A31D-4D51DCF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FB8-7509-4D5C-8F96-2F27A145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A86B-9795-4FD9-9153-0949CFE9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025D-9A67-4CCB-B1B9-59C7E91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3F0F-A2B0-4B74-859B-52A6D535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35EE-D5FC-43B1-9E35-03885FB5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6AD6-2FFD-453D-A5DF-1928CC9E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EA1-CDC8-4D27-A483-3FC87D8B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AEE-54DD-42F4-8727-5B85E2EA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1D1-4B28-479E-B66A-B76D7BF6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68E-A2AF-4C3F-B4DA-F327E140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771-1A6C-414A-82DC-5D6A3F2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3F7-81A7-4DFB-B05D-521C4527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273-0148-45FE-AE25-DA4833B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7C9-BC63-4DE8-933C-78541358E55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1E1E-B8A9-48F9-8656-BFF1051C9C5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49985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68709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隶书"/>
              </a:rPr>
              <a:t>什么事情让“我”再见到风筝时如此“悲哀”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019160" cy="1081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30360" y="1700280"/>
            <a:ext cx="42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9933"/>
                </a:solidFill>
                <a:latin typeface="Comic Sans MS"/>
              </a:rPr>
              <a:t>、“我”和弟弟对于放风筝的观点是否一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835280" y="2349360"/>
          <a:ext cx="5905440" cy="3519720"/>
        </p:xfrm>
        <a:graphic>
          <a:graphicData uri="http://schemas.openxmlformats.org/drawingml/2006/table">
            <a:tbl>
              <a:tblPr/>
              <a:tblGrid>
                <a:gridCol w="2087280"/>
                <a:gridCol w="2017800"/>
                <a:gridCol w="180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　　　对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比较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弟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我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平时对风筝的态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我”发现弟弟偷做风筝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b1ae6"/>
                          </a:solidFill>
                          <a:latin typeface="Comic Sans MS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24360" y="3284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张着小嘴、呆看、惊呼、跳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3408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笑柄、可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24360" y="414972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惊惶、失了色瑟缩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19840" y="414972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愤怒、折断掷、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0240" y="522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傲然走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40360" y="5013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绝望地站在小屋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Comic Sans MS"/>
                <a:ea typeface="隶书"/>
              </a:rPr>
              <a:t>什么事情让“我”再见到风筝时如此“悲哀”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1547640" y="198900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1ae6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4b1ae6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4b1ae6"/>
                </a:solidFill>
                <a:latin typeface="Comic Sans MS"/>
              </a:rPr>
              <a:t>“我”的骄傲是否维持下去呢？当“我”看到一本外国的讲论儿童的书，为什么说是“不幸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1019160" cy="108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35280" y="3500280"/>
            <a:ext cx="66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答：“我”的骄傲没有维持下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我”一向以为管弟弟管得对，现在见到书上的道理，心情一下子沉重起来，受到惩罚了，对明理之前的“我”来说，良心受了谴责，可谓“不幸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87280" y="2060640"/>
            <a:ext cx="7128000" cy="3384360"/>
          </a:xfrm>
          <a:prstGeom prst="flowChartPunchedTape">
            <a:avLst/>
          </a:prstGeom>
          <a:gradFill rotWithShape="0">
            <a:gsLst>
              <a:gs pos="0">
                <a:srgbClr val="86e0de"/>
              </a:gs>
              <a:gs pos="100000">
                <a:srgbClr val="ffffff"/>
              </a:gs>
            </a:gsLst>
            <a:lin ang="5400000"/>
          </a:grad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60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什么事情让“我”再见到</a:t>
            </a:r>
            <a:br>
              <a:rPr sz="4400"/>
            </a:b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风筝时如此“悲哀”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1019160" cy="1081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332000" y="2781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Comic Sans MS"/>
              </a:rPr>
              <a:t>4</a:t>
            </a:r>
            <a:r>
              <a:rPr b="0" lang="zh-CN" sz="4000" spc="-1" strike="noStrike">
                <a:solidFill>
                  <a:srgbClr val="ff9900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9900"/>
                </a:solidFill>
                <a:latin typeface="Comic Sans MS"/>
              </a:rPr>
              <a:t>对于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隶书"/>
              </a:rPr>
              <a:t>“游戏是儿童最正当的行为，玩具是儿童的天使”</a:t>
            </a:r>
            <a:r>
              <a:rPr b="1" lang="zh-CN" sz="4000" spc="-1" strike="noStrike">
                <a:solidFill>
                  <a:srgbClr val="ff9900"/>
                </a:solidFill>
                <a:latin typeface="Comic Sans MS"/>
              </a:rPr>
              <a:t>这句话，你有何体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63640" y="476280"/>
            <a:ext cx="590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9966"/>
                </a:solidFill>
                <a:uFillTx/>
                <a:latin typeface="Comic Sans MS"/>
                <a:ea typeface="隶书"/>
              </a:rPr>
              <a:t>“</a:t>
            </a:r>
            <a:r>
              <a:rPr b="0" lang="zh-CN" sz="2800" spc="-1" strike="noStrike" u="sng">
                <a:solidFill>
                  <a:srgbClr val="ff9966"/>
                </a:solidFill>
                <a:uFillTx/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6200" y="189000"/>
            <a:ext cx="1297080" cy="1081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948360" y="5300640"/>
            <a:ext cx="1440000" cy="1200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35280" y="148428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、鲁迅先生在明白了自己的错误之后感到了深深的自责，并且努力想办法去弥补自己的错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28526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办法一：</a:t>
            </a:r>
            <a:r>
              <a:rPr b="1" lang="zh-CN" sz="2400" spc="-1" strike="noStrike">
                <a:solidFill>
                  <a:srgbClr val="ff33cc"/>
                </a:solidFill>
                <a:latin typeface="Comic Sans MS"/>
              </a:rPr>
              <a:t>送他风筝，一同放风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Comic Sans MS"/>
              </a:rPr>
              <a:t>　　　　－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3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办法二：</a:t>
            </a:r>
            <a:r>
              <a:rPr b="1" lang="zh-CN" sz="2400" spc="-1" strike="noStrike">
                <a:solidFill>
                  <a:srgbClr val="ff33cc"/>
                </a:solidFill>
                <a:latin typeface="Comic Sans MS"/>
              </a:rPr>
              <a:t>“讨他的宽恕”－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22600" y="342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隶书"/>
              </a:rPr>
              <a:t>失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0720" y="314172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940360" y="4149360"/>
            <a:ext cx="93528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98c1b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b98c1b"/>
                </a:solidFill>
                <a:latin typeface="Comic Sans MS"/>
              </a:rPr>
              <a:t>他和我一样，早已有胡子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87640" y="4941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98c1b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b98c1b"/>
                </a:solidFill>
                <a:latin typeface="Comic Sans MS"/>
              </a:rPr>
              <a:t>他什么也不记得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692360" y="549360"/>
            <a:ext cx="590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224000" cy="1020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835280" y="191628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cc6600"/>
                </a:solidFill>
                <a:latin typeface="Comic Sans MS"/>
              </a:rPr>
              <a:t>、待到弟弟惊异地笑着说“有过这样的事吗”，为什么“我”不觉得轻松反而觉得“沉重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350028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</a:rPr>
              <a:t>弟弟受到“精神的虐杀”，但弟弟并不这样认为，反而把兄长的行径视为合情合理，时过境迁，忘得一干二净，我也无从补过，因而觉得“沉重”。从中也可看出鲁迅先生是多么严厉的解剖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905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224000" cy="1020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05120" y="198108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、为什么“</a:t>
            </a:r>
            <a:r>
              <a:rPr b="1" lang="zh-CN" sz="2800" spc="-1" strike="noStrike">
                <a:solidFill>
                  <a:srgbClr val="b98c1b"/>
                </a:solidFill>
                <a:latin typeface="Comic Sans MS"/>
              </a:rPr>
              <a:t>我倒不如躲到肃杀的严冬中去吧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3284640"/>
            <a:ext cx="57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b98c1b"/>
                </a:solidFill>
                <a:latin typeface="Comic Sans MS"/>
              </a:rPr>
              <a:t>躲到肃杀的严冬中去</a:t>
            </a:r>
            <a:r>
              <a:rPr b="1" lang="zh-CN" sz="2800" spc="-1" strike="noStrike">
                <a:solidFill>
                  <a:srgbClr val="ff33cc"/>
                </a:solidFill>
                <a:latin typeface="Comic Sans MS"/>
              </a:rPr>
              <a:t>”，就是不要望见春天，不要望见风筝，这才能忘却，才能摆脱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rot="1948800">
            <a:off x="861840" y="71280"/>
            <a:ext cx="7382160" cy="616608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763640" y="476280"/>
            <a:ext cx="6050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dff"/>
                </a:solidFill>
                <a:latin typeface="Comic Sans MS"/>
                <a:ea typeface="隶书"/>
              </a:rPr>
              <a:t>“</a:t>
            </a:r>
            <a:r>
              <a:rPr b="0" lang="zh-CN" sz="4400" spc="-1" strike="noStrike">
                <a:solidFill>
                  <a:srgbClr val="703dff"/>
                </a:solidFill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1763640" cy="1470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35280" y="285264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Comic Sans MS"/>
              </a:rPr>
              <a:t>4</a:t>
            </a:r>
            <a:r>
              <a:rPr b="1" lang="zh-CN" sz="4400" spc="-1" strike="noStrike">
                <a:solidFill>
                  <a:srgbClr val="6600ff"/>
                </a:solidFill>
                <a:latin typeface="Comic Sans MS"/>
              </a:rPr>
              <a:t>、 “</a:t>
            </a:r>
            <a:r>
              <a:rPr b="1" lang="zh-CN" sz="4400" spc="-1" strike="noStrike">
                <a:solidFill>
                  <a:srgbClr val="ff33cc"/>
                </a:solidFill>
                <a:latin typeface="Comic Sans MS"/>
              </a:rPr>
              <a:t>非常的寒威和冷气</a:t>
            </a:r>
            <a:r>
              <a:rPr b="1" lang="zh-CN" sz="4400" spc="-1" strike="noStrike">
                <a:solidFill>
                  <a:srgbClr val="6600ff"/>
                </a:solidFill>
                <a:latin typeface="Comic Sans MS"/>
              </a:rPr>
              <a:t>”，除形容天气之外，还有没有别的含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 rot="16200000">
            <a:off x="2428560" y="-149040"/>
            <a:ext cx="6337440" cy="7093080"/>
          </a:xfrm>
          <a:prstGeom prst="horizontalScroll">
            <a:avLst>
              <a:gd name="adj" fmla="val 23300"/>
            </a:avLst>
          </a:prstGeom>
          <a:gradFill rotWithShape="0">
            <a:gsLst>
              <a:gs pos="0">
                <a:srgbClr val="8fe97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413160" cy="3672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250920" y="333360"/>
            <a:ext cx="144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03d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鲁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4" name=""/>
          <p:cNvSpPr/>
          <p:nvPr/>
        </p:nvSpPr>
        <p:spPr>
          <a:xfrm>
            <a:off x="24840" y="9810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(1881--19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0880"/>
            <a:ext cx="4535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文学家，思想家、革命家，原名周树人，字豫才，浙江绍兴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1676520"/>
            <a:ext cx="524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98c1b"/>
                </a:solidFill>
                <a:latin typeface="Comic Sans MS"/>
              </a:rPr>
              <a:t>1918</a:t>
            </a:r>
            <a:r>
              <a:rPr b="1" lang="zh-CN" sz="2800" spc="-1" strike="noStrike">
                <a:solidFill>
                  <a:srgbClr val="b98c1b"/>
                </a:solidFill>
                <a:latin typeface="Comic Sans MS"/>
              </a:rPr>
              <a:t>年，首次用笔名“鲁迅”发表中国现代文学史上第一篇白话小说《狂人日记》。代表作品有小说集《呐喊》《彷徨》；散文集《朝花夕拾》；散文诗集《野草》；杂文集《坟》《热风》《华盖集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4495680"/>
            <a:ext cx="4800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本文选自《野草》，《野草》书前有一篇题辞，以曲折幽晦的象征表达了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年代中期作者内心世界的苦闷和对现实社会的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619280" y="404280"/>
            <a:ext cx="6121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dff"/>
                </a:solidFill>
                <a:latin typeface="Comic Sans MS"/>
                <a:ea typeface="隶书"/>
              </a:rPr>
              <a:t>“</a:t>
            </a:r>
            <a:r>
              <a:rPr b="0" lang="zh-CN" sz="3600" spc="-1" strike="noStrike">
                <a:solidFill>
                  <a:srgbClr val="703dff"/>
                </a:solidFill>
                <a:latin typeface="Comic Sans MS"/>
                <a:ea typeface="隶书"/>
              </a:rPr>
              <a:t>我”是否想过办法去摆脱这种“悲哀”的境地呢？效果如何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763640" cy="1470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403280" y="206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98c1b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b98c1b"/>
                </a:solidFill>
                <a:latin typeface="Comic Sans MS"/>
              </a:rPr>
              <a:t>、 “非常的寒威和冷气”，除形容天气之外，还有没有别的含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328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  <a:ea typeface="黑体"/>
              </a:rPr>
              <a:t>虐杀者与被虐杀者都被愚昧观念所支配，彼此都不以为有什么错，现在虐杀者觉悟了，深感自责，而被虐杀者已全然忘却。觉悟者永远无法补过，还是尤其悲哀的，使人不寒而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47640" y="249228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Comic Sans MS"/>
              </a:rPr>
              <a:t>1</a:t>
            </a:r>
            <a:r>
              <a:rPr b="1" lang="zh-CN" sz="5400" spc="-1" strike="noStrike">
                <a:solidFill>
                  <a:srgbClr val="ff9900"/>
                </a:solidFill>
                <a:latin typeface="Comic Sans MS"/>
              </a:rPr>
              <a:t>、文章的开头和结尾可否删去？为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1224000" cy="1120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2771640" y="333360"/>
            <a:ext cx="4176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讨论深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27640" y="4653000"/>
            <a:ext cx="12193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47640" y="191628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Comic Sans MS"/>
              </a:rPr>
              <a:t>2</a:t>
            </a:r>
            <a:r>
              <a:rPr b="1" lang="zh-CN" sz="5400" spc="-1" strike="noStrike">
                <a:solidFill>
                  <a:srgbClr val="ff9900"/>
                </a:solidFill>
                <a:latin typeface="Comic Sans MS"/>
              </a:rPr>
              <a:t>、鲁迅先生在回忆往事时，如何描写“我”来表现兄弟之间的亲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1224000" cy="1120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771640" y="333360"/>
            <a:ext cx="41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讨论深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227640" y="4653000"/>
            <a:ext cx="12193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636440" y="6165720"/>
            <a:ext cx="8316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Comic Sans MS"/>
              </a:rPr>
              <a:t>试从语言、主题、写法上比较课文及《我的兄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60360" y="291960"/>
            <a:ext cx="1224000" cy="1121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914560" y="404640"/>
            <a:ext cx="3529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拓展与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3" name=""/>
          <p:cNvSpPr txBox="1"/>
          <p:nvPr/>
        </p:nvSpPr>
        <p:spPr>
          <a:xfrm rot="5400000">
            <a:off x="-1046160" y="3141720"/>
            <a:ext cx="338472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比较阅读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"/>
          <p:cNvSpPr/>
          <p:nvPr/>
        </p:nvSpPr>
        <p:spPr>
          <a:xfrm rot="19870800">
            <a:off x="971280" y="1557360"/>
            <a:ext cx="574560" cy="216000"/>
          </a:xfrm>
          <a:prstGeom prst="rightArrow">
            <a:avLst>
              <a:gd name="adj1" fmla="val 50000"/>
              <a:gd name="adj2" fmla="val 66500"/>
            </a:avLst>
          </a:prstGeom>
          <a:solidFill>
            <a:srgbClr val="4b1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03280" y="162864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1800" spc="-1" strike="noStrike">
                <a:solidFill>
                  <a:srgbClr val="703dff"/>
                </a:solidFill>
                <a:latin typeface="Comic Sans MS"/>
              </a:rPr>
              <a:t>　</a:t>
            </a: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我是不喜欢放风筝的，我的一个小兄弟是喜欢放风筝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的父亲死去之后，家里没有钱了。我的兄弟无论怎么热心，也得不到一个风筝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一天午后，我走到一间从来不用的屋子里，看见我的兄弟，正躲在里面糊风筝，有支竹丝，是自己削的，几张皮纸，是自己买的，有四个风轮，已经糊好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是不喜欢放风筝的，也最讨厌他放风筝。我便生气，踏碎了风轮，拆了竹丝，将纸也撕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的兄弟哭着出去了，悄然地在廊下坐着，以后怎样，我那时没有理会，都不知道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后来悟到我的错处，我的兄弟却将我这错处全忘了，他总是很要好的叫我“哥哥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我很抱歉，将这事说给他听，他却连影子都记不起了。他仍是很要好的叫“哥哥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阿！我的兄弟。你没有记得我的错处，我能请你原谅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Comic Sans MS"/>
              </a:rPr>
              <a:t>　　然而还是请你原谅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635280" y="1125360"/>
            <a:ext cx="175752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的兄弟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902120" y="196992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Comic Sans MS"/>
              </a:rPr>
              <a:t>试从语言、主题、写法上比较课文及《我的兄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835280" y="2637000"/>
          <a:ext cx="6480000" cy="3041640"/>
        </p:xfrm>
        <a:graphic>
          <a:graphicData uri="http://schemas.openxmlformats.org/drawingml/2006/table">
            <a:tbl>
              <a:tblPr/>
              <a:tblGrid>
                <a:gridCol w="1871640"/>
                <a:gridCol w="2089080"/>
                <a:gridCol w="2519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　　文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比较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课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《我的兄弟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语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主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Comic Sans MS"/>
                        </a:rPr>
                        <a:t>写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1ae6"/>
                      </a:solidFill>
                    </a:lnL>
                    <a:lnR w="5760">
                      <a:solidFill>
                        <a:srgbClr val="4b1ae6"/>
                      </a:solidFill>
                    </a:lnR>
                    <a:lnT w="5760">
                      <a:solidFill>
                        <a:srgbClr val="4b1ae6"/>
                      </a:solidFill>
                    </a:lnT>
                    <a:lnB w="5760">
                      <a:solidFill>
                        <a:srgbClr val="4b1ae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1224000" cy="1120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3203640" y="333360"/>
            <a:ext cx="35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拓展与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1" name=""/>
          <p:cNvSpPr txBox="1"/>
          <p:nvPr/>
        </p:nvSpPr>
        <p:spPr>
          <a:xfrm rot="5400000">
            <a:off x="-901440" y="3213000"/>
            <a:ext cx="338436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比较阅读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2" name=""/>
          <p:cNvSpPr/>
          <p:nvPr/>
        </p:nvSpPr>
        <p:spPr>
          <a:xfrm>
            <a:off x="1260360" y="213372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4b1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2732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平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84960" y="3716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形象、生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22100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主题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思想深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3640" y="4437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单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00840" y="51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以小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3480" y="5157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简单地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356000" y="2637000"/>
            <a:ext cx="36576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4464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f9900"/>
                </a:solidFill>
                <a:latin typeface="Comic Sans MS"/>
                <a:ea typeface="隶书"/>
              </a:rPr>
              <a:t>风　筝</a:t>
            </a:r>
            <a:endParaRPr b="0" lang="en-US" sz="9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096800" y="342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方正舒体"/>
              </a:rPr>
              <a:t>鲁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272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fb5df"/>
                </a:solidFill>
                <a:latin typeface="Comic Sans MS"/>
              </a:rPr>
              <a:t>令我</a:t>
            </a:r>
            <a:r>
              <a:rPr b="0" lang="zh-CN" sz="6600" spc="-1" strike="noStrike" u="sng">
                <a:solidFill>
                  <a:srgbClr val="2fb5df"/>
                </a:solidFill>
                <a:uFillTx/>
                <a:latin typeface="Comic Sans MS"/>
              </a:rPr>
              <a:t>　　　</a:t>
            </a:r>
            <a:r>
              <a:rPr b="0" lang="zh-CN" sz="6600" spc="-1" strike="noStrike">
                <a:solidFill>
                  <a:srgbClr val="2fb5df"/>
                </a:solidFill>
                <a:latin typeface="Comic Sans MS"/>
              </a:rPr>
              <a:t>的风筝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51280" y="1989000"/>
            <a:ext cx="86508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272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fb5df"/>
                </a:solidFill>
                <a:latin typeface="Comic Sans MS"/>
              </a:rPr>
              <a:t>令我</a:t>
            </a:r>
            <a:r>
              <a:rPr b="0" lang="zh-CN" sz="6600" spc="-1" strike="noStrike" u="sng">
                <a:solidFill>
                  <a:srgbClr val="2fb5df"/>
                </a:solidFill>
                <a:uFillTx/>
                <a:latin typeface="Comic Sans MS"/>
              </a:rPr>
              <a:t>　　　</a:t>
            </a:r>
            <a:r>
              <a:rPr b="0" lang="zh-CN" sz="6600" spc="-1" strike="noStrike">
                <a:solidFill>
                  <a:srgbClr val="2fb5df"/>
                </a:solidFill>
                <a:latin typeface="Comic Sans MS"/>
              </a:rPr>
              <a:t>的风筝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41640" y="2492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Arial"/>
                <a:ea typeface="华文行楷"/>
              </a:rPr>
              <a:t>悲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5400000">
            <a:off x="1653840" y="9000"/>
            <a:ext cx="5977080" cy="6767640"/>
          </a:xfrm>
          <a:prstGeom prst="flowChartMultidocument">
            <a:avLst/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dfb26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5f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360" y="691920"/>
            <a:ext cx="6192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什么事情让“我”再见到风筝时如此“</a:t>
            </a:r>
            <a:r>
              <a:rPr b="0" lang="zh-CN" sz="4800" spc="-1" strike="noStrike">
                <a:solidFill>
                  <a:srgbClr val="ff33cc"/>
                </a:solidFill>
                <a:latin typeface="Comic Sans MS"/>
                <a:ea typeface="隶书"/>
              </a:rPr>
              <a:t>悲哀</a:t>
            </a: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”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22560" y="3141720"/>
            <a:ext cx="5905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我”是否想过办法去摆脱这种“</a:t>
            </a:r>
            <a:r>
              <a:rPr b="0" lang="zh-CN" sz="4800" spc="-1" strike="noStrike">
                <a:solidFill>
                  <a:srgbClr val="ff33cc"/>
                </a:solidFill>
                <a:latin typeface="Comic Sans MS"/>
                <a:ea typeface="隶书"/>
              </a:rPr>
              <a:t>悲哀</a:t>
            </a: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”的境地呢？效果如何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297080" cy="10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1224000" cy="10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56040" y="148428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、注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7240" y="2517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秃</a:t>
            </a:r>
            <a:r>
              <a:rPr b="1" lang="zh-CN" sz="2400" spc="-1" strike="noStrike">
                <a:solidFill>
                  <a:srgbClr val="00b200"/>
                </a:solidFill>
                <a:latin typeface="Comic Sans MS"/>
              </a:rPr>
              <a:t>树</a:t>
            </a: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丫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64920" y="32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嫌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9560" y="396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200"/>
                </a:solidFill>
                <a:latin typeface="Comic Sans MS"/>
              </a:rPr>
              <a:t>苦心孤</a:t>
            </a: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51080" y="2517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憔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27440" y="32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瑟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0440" y="395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4000" y="3957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虐</a:t>
            </a:r>
            <a:r>
              <a:rPr b="1" lang="zh-CN" sz="2400" spc="-1" strike="noStrike">
                <a:solidFill>
                  <a:srgbClr val="00b200"/>
                </a:solidFill>
                <a:latin typeface="Comic Sans MS"/>
              </a:rPr>
              <a:t>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2372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700360" y="260280"/>
            <a:ext cx="33116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检查预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79" name=""/>
          <p:cNvSpPr/>
          <p:nvPr/>
        </p:nvSpPr>
        <p:spPr>
          <a:xfrm>
            <a:off x="3090960" y="25178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tū   yā   c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040" y="251784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qiáo   c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5280" y="32385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xián   w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24280" y="323856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d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9920" y="323856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sè  s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38600" y="395748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30840" y="39574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ü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26240" y="3957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00720" y="4869000"/>
            <a:ext cx="12477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51320" y="141300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隶书"/>
              </a:rPr>
              <a:t>、解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37000" y="285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伶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3700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嫌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0640" y="414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苦心孤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37000" y="220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憔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1336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诀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65720" y="350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肃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700360" y="260280"/>
            <a:ext cx="33116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检查预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96" name=""/>
          <p:cNvSpPr/>
          <p:nvPr/>
        </p:nvSpPr>
        <p:spPr>
          <a:xfrm>
            <a:off x="4303800" y="2852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孤独，没有依靠；瘦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56080" y="2205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形容人瘦弱，面色不好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52480" y="47242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厌恶、反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9084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决绝，断绝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43360" y="4149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煞费苦心，煞有介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2960" y="3500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形容秋冬天气寒冷，草木枯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732720" y="4941720"/>
            <a:ext cx="1247760" cy="1409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476360" y="260280"/>
            <a:ext cx="1133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  <a:ea typeface="隶书"/>
              </a:rPr>
              <a:t>什么事情让“我”再见到风筝时如此“悲哀”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019160" cy="1081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24922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ff9966"/>
                </a:solidFill>
                <a:latin typeface="Comic Sans MS"/>
              </a:rPr>
              <a:t>、默读课文第三、四段，准备复述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516720" y="4724280"/>
            <a:ext cx="1942920" cy="1509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95280" y="1628640"/>
            <a:ext cx="1655640" cy="3816360"/>
          </a:xfrm>
          <a:custGeom>
            <a:avLst/>
            <a:gdLst>
              <a:gd name="textAreaLeft" fmla="*/ 221760 w 1655640"/>
              <a:gd name="textAreaRight" fmla="*/ 1433880 w 1655640"/>
              <a:gd name="textAreaTop" fmla="*/ 745200 h 3816360"/>
              <a:gd name="textAreaBottom" fmla="*/ 26136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37" stAng="-5400000" swAng="-5400000"/>
                <a:lnTo>
                  <a:pt x="0" y="10574"/>
                </a:lnTo>
                <a:arcTo wR="21600" hR="8437" stAng="10800000" swAng="-2993142"/>
                <a:lnTo>
                  <a:pt x="14848" y="21177"/>
                </a:lnTo>
                <a:lnTo>
                  <a:pt x="21600" y="17943"/>
                </a:lnTo>
                <a:lnTo>
                  <a:pt x="14848" y="13862"/>
                </a:lnTo>
                <a:lnTo>
                  <a:pt x="14848" y="16451"/>
                </a:lnTo>
                <a:arcTo wR="21600" hR="8437" stAng="7806858" swAng="2821847"/>
                <a:lnTo>
                  <a:pt x="174" y="9506"/>
                </a:lnTo>
                <a:arcTo wR="21600" hR="8437" stAng="-10628704" swAng="5228704"/>
                <a:close/>
              </a:path>
              <a:path fill="darkenLess" w="21600" h="21600">
                <a:moveTo>
                  <a:pt x="21600" y="0"/>
                </a:moveTo>
                <a:arcTo wR="21600" hR="8437" stAng="-5400000" swAng="-5400000"/>
                <a:lnTo>
                  <a:pt x="0" y="8437"/>
                </a:lnTo>
                <a:arcTo wR="21600" hR="8437" stAng="10800000" swAng="-171296"/>
                <a:lnTo>
                  <a:pt x="174" y="9506"/>
                </a:lnTo>
                <a:arcTo wR="21600" hR="8437" stAng="-10628704" swAng="5228704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371628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ff33cc"/>
                </a:solidFill>
                <a:latin typeface="Comic Sans MS"/>
              </a:rPr>
              <a:t>注意：记叙的六要素及对人物的细节描写</a:t>
            </a:r>
            <a:r>
              <a:rPr b="1" lang="zh-CN" sz="3600" spc="-1" strike="noStrike">
                <a:solidFill>
                  <a:srgbClr val="ff9966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00:34:49Z</dcterms:created>
  <dc:creator>wutao</dc:creator>
  <dc:description/>
  <dc:language>en-US</dc:language>
  <cp:lastModifiedBy>haha</cp:lastModifiedBy>
  <dcterms:modified xsi:type="dcterms:W3CDTF">2003-04-22T02:49:49Z</dcterms:modified>
  <cp:revision>100</cp:revision>
  <dc:subject/>
  <dc:title>幻灯片 1</dc:title>
</cp:coreProperties>
</file>