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0A0-C3F8-4ED1-A0AA-518D03D9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464-827D-46C3-A5C7-478FD18C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769-266F-4492-AEE3-306642A0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FAB-BA08-4786-8EF6-7BDC9CA3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D3E-294C-4A29-95F9-C929F583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63E-1CF8-4502-8F46-AFC3D10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A43-5106-4079-AC96-A792A89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F6B-76C9-412A-9F22-6FBB953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97F-5C56-45C4-8AAA-AEC3D65C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BF8-B754-42B8-B5BF-B5C2793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015-D178-4C92-BB3F-463AE11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91D-1870-49ED-A7D7-00CFFEE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783-07FD-429D-9F75-674A4FB30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600200"/>
            <a:ext cx="6095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欢迎您走进语文课堂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47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0" y="0"/>
            <a:ext cx="118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124080"/>
            <a:ext cx="63244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</a:rPr>
              <a:t>放风筝的感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z1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0" y="501588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16600" y="0"/>
            <a:ext cx="2374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风    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04800" y="215280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鲁  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91540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3280" y="99324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演一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9080" y="2057400"/>
            <a:ext cx="41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小兄弟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: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爱风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1000" y="3236760"/>
            <a:ext cx="51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兄    长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:</a:t>
            </a:r>
            <a:r>
              <a:rPr b="0" lang="zh-CN" sz="7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蛮横无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06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我相反的是我的小兄弟，他那时大概十岁内外罢，多病，瘦得不堪，然而最喜欢风筝，自己买不起，我又不许放，他只得张着小嘴，呆看着空中出神，有时至于小半日。远处的蟹风筝突然落下来，他惊呼；两个瓦片风筝的缠绕解开了，他高兴得跳跃。他的这些，在我看来都是笑柄，可鄙的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我恍然大悟似的，便跑向少有人去的一间堆积杂物的小屋去，推开门，果然就在尘封的什物堆中发见了他。他向着大方凳，坐在小凳上；便很惊惶地站了起来，失了色瑟缩着。大方凳旁靠着一个胡蝶风筝的竹骨，还没有糊上纸，凳上是一对做眼睛用的小风轮，正用红纸条装饰着，将要完工了。我在破获秘密的满足中，又很愤怒他的瞒了我的眼睛，这样苦心孤诣地来偷做没出息孩子的玩艺。我即刻伸手抓断了胡蝶的一支翅骨，又将风轮掷在地下，踏扁了。论长幼，论力气，他是都敌不过我的，我当然得到完全的胜利，于是傲然走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9600" y="99324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议一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鲁迅爱不爱他的小兄弟？他为什么要把小兄弟的风筝踩扁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429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鲁迅的悲哀还表现在哪些方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ck003" descr=""/>
          <p:cNvPicPr/>
          <p:nvPr/>
        </p:nvPicPr>
        <p:blipFill>
          <a:blip r:embed="rId2"/>
          <a:stretch/>
        </p:blipFill>
        <p:spPr>
          <a:xfrm>
            <a:off x="7924680" y="2895480"/>
            <a:ext cx="343080" cy="331920"/>
          </a:xfrm>
          <a:prstGeom prst="rect">
            <a:avLst/>
          </a:prstGeom>
          <a:ln w="0">
            <a:noFill/>
          </a:ln>
        </p:spPr>
      </p:pic>
      <p:pic>
        <p:nvPicPr>
          <p:cNvPr id="58" name="Back003" descr=""/>
          <p:cNvPicPr/>
          <p:nvPr/>
        </p:nvPicPr>
        <p:blipFill>
          <a:blip r:embed="rId3"/>
          <a:stretch/>
        </p:blipFill>
        <p:spPr>
          <a:xfrm>
            <a:off x="7924680" y="51055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22480" y="380880"/>
            <a:ext cx="3437640" cy="2075040"/>
            <a:chOff x="2922480" y="380880"/>
            <a:chExt cx="3437640" cy="2075040"/>
          </a:xfrm>
        </p:grpSpPr>
        <p:sp>
          <p:nvSpPr>
            <p:cNvPr id="60" name=""/>
            <p:cNvSpPr/>
            <p:nvPr/>
          </p:nvSpPr>
          <p:spPr>
            <a:xfrm>
              <a:off x="2922480" y="380880"/>
              <a:ext cx="322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风   筝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04600" y="17524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鲁  迅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44000" y="335268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悲  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0920" y="342900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亲  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962520"/>
            <a:ext cx="1752840" cy="304560"/>
          </a:xfrm>
          <a:prstGeom prst="rightArrow">
            <a:avLst>
              <a:gd name="adj1" fmla="val 50000"/>
              <a:gd name="adj2" fmla="val 1438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ck003" descr=""/>
          <p:cNvPicPr/>
          <p:nvPr/>
        </p:nvPicPr>
        <p:blipFill>
          <a:blip r:embed="rId2"/>
          <a:stretch/>
        </p:blipFill>
        <p:spPr>
          <a:xfrm>
            <a:off x="7810560" y="652608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6" name="Back003" descr=""/>
          <p:cNvPicPr/>
          <p:nvPr/>
        </p:nvPicPr>
        <p:blipFill>
          <a:blip r:embed="rId3"/>
          <a:stretch/>
        </p:blipFill>
        <p:spPr>
          <a:xfrm>
            <a:off x="8115480" y="652608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7" name="Back003" descr=""/>
          <p:cNvPicPr/>
          <p:nvPr/>
        </p:nvPicPr>
        <p:blipFill>
          <a:blip r:embed="rId4"/>
          <a:stretch/>
        </p:blipFill>
        <p:spPr>
          <a:xfrm>
            <a:off x="8420040" y="653580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68" name="Back003" descr=""/>
          <p:cNvPicPr/>
          <p:nvPr/>
        </p:nvPicPr>
        <p:blipFill>
          <a:blip r:embed="rId5"/>
          <a:stretch/>
        </p:blipFill>
        <p:spPr>
          <a:xfrm>
            <a:off x="8686800" y="6526080"/>
            <a:ext cx="34308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9440" y="0"/>
            <a:ext cx="118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展开回忆，当你的一件心爱的玩具被无缘无故地破坏了，你会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523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中虽然提到外国介绍儿童的书中说：“游戏是儿童最正当的行为，玩具是儿童的天使。”但小兄弟当年有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认识，请从文中找出依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ack003" descr=""/>
          <p:cNvPicPr/>
          <p:nvPr/>
        </p:nvPicPr>
        <p:blipFill>
          <a:blip r:embed="rId2"/>
          <a:stretch/>
        </p:blipFill>
        <p:spPr>
          <a:xfrm>
            <a:off x="8724960" y="6526080"/>
            <a:ext cx="342720" cy="33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47920" y="3733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小兄弟知道游戏是儿童最正当的行为，他就不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8769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小兄弟知道玩具是儿童的天使，他就不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72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拓展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39320" y="1371600"/>
            <a:ext cx="410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——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换个角度看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放飞你心灵的风筝，你还能从这篇文章中感悟些什么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Legend User</cp:lastModifiedBy>
  <dcterms:modified xsi:type="dcterms:W3CDTF">2004-04-18T07:58:23Z</dcterms:modified>
  <cp:revision>100</cp:revision>
  <dc:subject/>
  <dc:title>PowerPoint Presentation</dc:title>
</cp:coreProperties>
</file>