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6.jpeg" ContentType="image/jpeg"/>
  <Override PartName="/ppt/media/chimes.wav" ContentType="audio/x-wav"/>
  <Override PartName="/ppt/media/image8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185-EB7E-4A20-8BE2-3CD4DA2A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C0D-F035-494D-B5EA-968F03B5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02B-306B-4019-865B-7FCB72A0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3D5-0325-4E73-8DC5-36A1FBCF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060-7E8B-455A-AC8C-52009B65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8E0-9BAC-4441-8975-199A2BA4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EB9-8D37-477D-95BD-AAD75D63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40A-6E36-429D-AEF3-8E35FBC3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062-583C-40FB-B6F4-75B0E1AA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350-6309-4D7D-AA8F-515E4942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EC3-62EA-4E1F-8306-547E6E66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182-41C6-4EF7-9C44-485DD319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6A74-1BBC-4C10-953C-B448C0C421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1527120"/>
            <a:ext cx="829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欢迎进入语文课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8392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077320" y="6019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33520"/>
            <a:ext cx="489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交流反思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860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文中说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“游戏是儿童最正当的行为，玩具是儿童的天使”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小时候也做过许多游戏，玩过不少玩具吧？请你选一个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最难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说给同学们听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89280" y="2666880"/>
            <a:ext cx="577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隶书"/>
              </a:rPr>
              <a:t>尊重、理解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0348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14400" y="777960"/>
            <a:ext cx="18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5596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600200" y="838080"/>
            <a:ext cx="54864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风筝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48520" y="525780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鲁迅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997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9640" y="260280"/>
            <a:ext cx="547344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鲁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881-193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文学家、思想家和革命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原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周树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字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豫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浙江绍兴人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，首次用笔名“鲁迅”发表中国现代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文学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第一篇白话文小说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《狂人日记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奠定了新文化运动的基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221000"/>
            <a:ext cx="8353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主要作品集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说集《呐喊》、《彷徨》、《故事新编》；散文集《朝花夕拾》；散文诗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《野草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杂文集《二心集》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39840" y="1995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844640"/>
            <a:ext cx="792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筝    秃     蟹     蕾     堕     丫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寂寞     憔悴     肃杀      </a:t>
            </a: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黑体"/>
              </a:rPr>
              <a:t>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别    荡漾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笑柄      可鄙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物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惊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缩     傲然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杀     宽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恕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189000"/>
            <a:ext cx="165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读一读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12682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3789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378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5013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013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ü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67640" y="501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5013360"/>
            <a:ext cx="8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04920" y="53352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整体感知：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125360"/>
            <a:ext cx="852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本文回忆的是什么事情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?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请你</a:t>
            </a:r>
            <a:r>
              <a:rPr b="1" lang="zh-CN" sz="3200" spc="-1" strike="noStrike">
                <a:solidFill>
                  <a:srgbClr val="9900cc"/>
                </a:solidFill>
                <a:latin typeface="隶书"/>
                <a:ea typeface="隶书"/>
              </a:rPr>
              <a:t>概述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一下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你读了本文以后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有哪些</a:t>
            </a:r>
            <a:r>
              <a:rPr b="1" lang="zh-CN" sz="3200" spc="-1" strike="noStrike">
                <a:solidFill>
                  <a:srgbClr val="00ccff"/>
                </a:solidFill>
                <a:latin typeface="隶书"/>
                <a:ea typeface="隶书"/>
              </a:rPr>
              <a:t>感受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92360" y="476280"/>
            <a:ext cx="5904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自主质疑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2096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　　以四人小组为单位，小组内互问互答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请把小组内意见分歧或不能解决的问题记在纸上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大家一起讨论解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1219320"/>
            <a:ext cx="831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听第四小节录音，思考哪些词语用得好。并说明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理由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２、“我”看到了一本外国的讲论儿童的书，为什么说是“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不幸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３、“我”讨弟弟的宽恕，弟弟全然忘记了，为什么“我”的心情反而“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沉重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４、末段为什么说“悲哀”是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无可把握的悲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？为什么说“我倒不如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躲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到肃杀的严冬中去吧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?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但是，四面又明明是严冬，正给我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非常的寒威和冷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”中的“非常的寒威与冷气”除形容天气外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没有别的含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 rot="20755200">
            <a:off x="178920" y="333000"/>
            <a:ext cx="2040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问题探究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6858000"/>
            <a:ext cx="9144000" cy="74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59040" y="1095840"/>
            <a:ext cx="8506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毁风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13716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14520" y="608040"/>
            <a:ext cx="790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弟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40960" y="57312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愤怒、满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362320"/>
            <a:ext cx="32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悲痛、绝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1523880"/>
            <a:ext cx="55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抓断、掷、踏、傲然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68720" y="29718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惊惶、失色、瑟缩、绝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28600"/>
            <a:ext cx="549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75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380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cc00"/>
                </a:solidFill>
                <a:latin typeface="Arial"/>
                <a:ea typeface="楷体_GB2312"/>
              </a:rPr>
              <a:t>拓展延伸</a:t>
            </a:r>
            <a:r>
              <a:rPr b="0" lang="zh-CN" sz="8000" spc="-1" strike="noStrike">
                <a:solidFill>
                  <a:srgbClr val="ffcc00"/>
                </a:solidFill>
                <a:latin typeface="Arial"/>
              </a:rPr>
              <a:t>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4382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9900cc"/>
                </a:solidFill>
                <a:latin typeface="Arial"/>
              </a:rPr>
              <a:t>用“从——句（段），我看到了一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9900cc"/>
                </a:solidFill>
                <a:latin typeface="Arial"/>
              </a:rPr>
              <a:t>的鲁迅”的句式说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01:50:11Z</dcterms:created>
  <dc:creator>wutao</dc:creator>
  <dc:description/>
  <dc:language>en-US</dc:language>
  <cp:lastModifiedBy>多媒体教室</cp:lastModifiedBy>
  <dcterms:modified xsi:type="dcterms:W3CDTF">2002-03-10T11:55:46Z</dcterms:modified>
  <cp:revision>100</cp:revision>
  <dc:subject/>
  <dc:title>没有幻灯片标题</dc:title>
</cp:coreProperties>
</file>