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jpeg" ContentType="image/jpeg"/>
  <Override PartName="/ppt/media/image20.png" ContentType="image/png"/>
  <Override PartName="/ppt/media/image8.jpeg" ContentType="image/jpeg"/>
  <Override PartName="/ppt/media/image13.wmf" ContentType="image/x-wmf"/>
  <Override PartName="/ppt/media/Music8.wav" ContentType="audio/x-wav"/>
  <Override PartName="/ppt/media/image10.gif" ContentType="image/gif"/>
  <Override PartName="/ppt/media/image5.gif" ContentType="image/gif"/>
  <Override PartName="/ppt/media/chimes.wav" ContentType="audio/x-wav"/>
  <Override PartName="/ppt/media/image6.jpeg" ContentType="image/jpeg"/>
  <Override PartName="/ppt/media/image19.gif" ContentType="image/gif"/>
  <Override PartName="/ppt/media/image18.gif" ContentType="image/gif"/>
  <Override PartName="/ppt/media/image12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EA9F-8A4D-4CFC-976A-789AE83314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E30-AC12-48A2-A8CB-A6C67778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FA2-052F-41BE-A11A-F002DD5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207-B7E9-4E70-8366-369DC95A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F3C-2E6A-489F-AC47-17D3E1C0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24B-AECB-4AE3-9220-CB5CD0A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D1C-3BAD-46AC-98FE-34F993B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4DE-3D79-485D-982E-59417AFE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8F7-590A-44B3-AD24-73CFB34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8F1-4DC1-442D-88C2-B9FB960A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C67-674B-4E87-87C9-5E8E7AE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783-88A4-4A50-AFA2-140BA65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396-3A3E-4161-A4A5-D1D900A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759-4CC3-49A1-8F64-64B7438584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slide20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Music8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28600"/>
            <a:ext cx="66294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长城特粗宋体"/>
                <a:ea typeface="长城特粗宋体"/>
              </a:rPr>
              <a:t>谜语</a:t>
            </a:r>
            <a:r>
              <a:rPr b="1" lang="zh-CN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</a:t>
            </a:r>
            <a:r>
              <a:rPr b="1" lang="zh-CN" sz="3200" spc="-1" strike="noStrike">
                <a:solidFill>
                  <a:srgbClr val="ff3300"/>
                </a:solidFill>
                <a:latin typeface="长城特粗宋体"/>
                <a:ea typeface="长城特粗宋体"/>
              </a:rPr>
              <a:t>（猜一物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放飞一个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放飞一个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蓝天真小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快活的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正在悄悄靠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们在说悄悄话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把耳朵贴在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54992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于小弟放风筝，当时“我”是什么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2051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为什么“我”小时候会把放风筝看成没出息孩子所做的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24080"/>
            <a:ext cx="76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为什么“我”不许小弟放风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9172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我”当时是怎么做的？试找出重点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01-01-004-03.gif (13904 字节)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讨论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事隔几十年后，“我”又是怎么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205000"/>
            <a:ext cx="78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为什么说不许小弟放风筝是“对于精神的虐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50028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事隔几十年后，小弟对于这件事是什么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65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小弟为什么全然忘却，毫无怨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54832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小弟不怨恨我，“我”为什么更加感到悲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01-01-004-03.gif (13904 字节)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喜欢文中的“我”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5157720"/>
            <a:ext cx="6481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反抗封建教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2781360"/>
            <a:ext cx="563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手足情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4005360"/>
            <a:ext cx="4681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知错就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合作探究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哥哥面前，小弟的表现有哪些？试找出有关语句读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263680" cy="17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3284640"/>
            <a:ext cx="522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怎样看待小弟的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0680" y="4508640"/>
            <a:ext cx="300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是你，你会怎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2360" y="4952880"/>
            <a:ext cx="39146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814400" y="0"/>
            <a:ext cx="7329600" cy="6858000"/>
            <a:chOff x="1814400" y="0"/>
            <a:chExt cx="73296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814400" y="0"/>
              <a:ext cx="7329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6539040" y="4876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7148520" y="304920"/>
              <a:ext cx="198108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162920" y="1295280"/>
            <a:ext cx="153828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80600" y="7621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792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28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0574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76520" y="2209680"/>
            <a:ext cx="990000" cy="304920"/>
            <a:chOff x="1676520" y="2209680"/>
            <a:chExt cx="990000" cy="304920"/>
          </a:xfrm>
        </p:grpSpPr>
        <p:sp>
          <p:nvSpPr>
            <p:cNvPr id="112" name=""/>
            <p:cNvSpPr/>
            <p:nvPr/>
          </p:nvSpPr>
          <p:spPr>
            <a:xfrm>
              <a:off x="2666520" y="2209680"/>
              <a:ext cx="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2209680"/>
              <a:ext cx="990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334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出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0481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70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许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44000" y="32767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抓断 掷 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5960" y="304812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满足 愤怒 傲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正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0384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87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悔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98560" y="43434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过  讨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3160" y="5105520"/>
            <a:ext cx="29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小兄弟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忘却  无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10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07040" y="4191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3526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021080" y="2121840"/>
            <a:ext cx="1523520" cy="1846440"/>
            <a:chOff x="7021080" y="2121840"/>
            <a:chExt cx="1523520" cy="1846440"/>
          </a:xfrm>
        </p:grpSpPr>
        <p:sp>
          <p:nvSpPr>
            <p:cNvPr id="133" name=""/>
            <p:cNvSpPr/>
            <p:nvPr/>
          </p:nvSpPr>
          <p:spPr>
            <a:xfrm flipV="1">
              <a:off x="8523000" y="2139840"/>
              <a:ext cx="21600" cy="1828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21080" y="2121840"/>
              <a:ext cx="1523520" cy="18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7675560" y="3958200"/>
              <a:ext cx="847080" cy="10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33000">
            <a:off x="2366640" y="1671480"/>
            <a:ext cx="226800" cy="2065320"/>
          </a:xfrm>
          <a:custGeom>
            <a:avLst/>
            <a:gdLst>
              <a:gd name="textAreaLeft" fmla="*/ 66600 w 226800"/>
              <a:gd name="textAreaRight" fmla="*/ 227160 w 226800"/>
              <a:gd name="textAreaTop" fmla="*/ 86040 h 2065320"/>
              <a:gd name="textAreaBottom" fmla="*/ 1979280 h 206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课    堂    小    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82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59594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写一写，说一说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59640" y="5710320"/>
            <a:ext cx="2743200" cy="114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2637000"/>
            <a:ext cx="59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01-01-004-03.gif (13904 字节)"/>
          <p:cNvPicPr/>
          <p:nvPr/>
        </p:nvPicPr>
        <p:blipFill>
          <a:blip r:embed="rId4"/>
          <a:stretch/>
        </p:blipFill>
        <p:spPr>
          <a:xfrm>
            <a:off x="6877080" y="508464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9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文中说“游戏是儿童最正当的行为，玩具是儿童的天使。”你小时候也做过许多游戏，玩过不少玩具吧？选一个你最难忘的写一写，注意写出自己的见解，然后说给同学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5516280"/>
            <a:ext cx="14616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你喜欢这篇文章吗？（请说出理由，好的句子不妨读出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16000" y="10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5640" y="4952880"/>
            <a:ext cx="39146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你生活中遇到过像这对兄弟类似的事吗？你当时的感受怎样？ 如果你犯了错，你会怎么办呢？你会不会像鲁迅一样在事隔多年以后仍然去进行深刻的反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讨论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748720" cy="1225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读完这篇课文后，你认为鲁迅先生要告诉我们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3573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参考（可以从以下角度去思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鲁迅对于小兄弟的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对于自己的错误该怎么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怎样看待游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阅读周粲的《满天的风筝》，将他的这篇文章和本文做比较，看看两篇文章在表达的感情上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84720" y="5445000"/>
            <a:ext cx="2743200" cy="11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92720" y="2637000"/>
            <a:ext cx="1376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宋体"/>
              </a:rPr>
              <a:t>鲁迅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549360"/>
            <a:ext cx="3006720" cy="25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风筝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2.gif (5038 字节)"/>
          <p:cNvPicPr/>
          <p:nvPr/>
        </p:nvPicPr>
        <p:blipFill>
          <a:blip r:embed="rId3"/>
          <a:stretch/>
        </p:blipFill>
        <p:spPr>
          <a:xfrm>
            <a:off x="-128520" y="476280"/>
            <a:ext cx="1824120" cy="638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3.gif (2415 字节)"/>
          <p:cNvPicPr/>
          <p:nvPr/>
        </p:nvPicPr>
        <p:blipFill>
          <a:blip r:embed="rId4"/>
          <a:stretch/>
        </p:blipFill>
        <p:spPr>
          <a:xfrm>
            <a:off x="6804000" y="-458640"/>
            <a:ext cx="129528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38280" y="2133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再 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228600"/>
            <a:ext cx="62182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73152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952720"/>
            <a:ext cx="4419360" cy="3905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22920" y="3213000"/>
            <a:ext cx="4321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1918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年初，鲁迅参加了陈独秀主编的《新青年》的编辑工作，置身于当时的大力倡导民主和科学，反对旧礼教和旧文学的伟大斗争的前列。同年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月，他在这个刊物上，发表了第一篇白话小说《狂人日记》，揭露了封建“家族制度和礼教的弊害”，指出中国社会的历史是人吃人的历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现代文学家、思想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1881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年诞生于浙江省绍兴县城一个逐渐没落的封建家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404640"/>
            <a:ext cx="1155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请同学们快速地把课文默读一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这篇课文作者说了一件什么事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838080"/>
            <a:ext cx="2438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ffa14"/>
                    </a:gs>
                  </a:gsLst>
                  <a:lin ang="5400000"/>
                </a:gradFill>
                <a:latin typeface="宋体"/>
              </a:rPr>
              <a:t>自读课文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ffa14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914400"/>
            <a:ext cx="6324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的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准字音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停顿恰当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出感情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读出重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43800" y="5562720"/>
            <a:ext cx="112068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19520" y="3428640"/>
            <a:ext cx="396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0000"/>
              </a:solidFill>
              <a:latin typeface="Times New Roman"/>
              <a:ea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14475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这篇课文作者说了一件什么事情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6200000">
            <a:off x="7112880" y="542484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8000" y="4952880"/>
            <a:ext cx="3915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505320" y="137124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37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记叙了“我”毁掉了弟弟的（       ），后来我知道自己（       ），准备向弟弟道歉，而弟弟却（        ）。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209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错   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96252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记得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这篇课文作者说了一件什么事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480060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2:39:02Z</dcterms:created>
  <dc:creator>wutao</dc:creator>
  <dc:description/>
  <dc:language>en-US</dc:language>
  <cp:lastModifiedBy>a</cp:lastModifiedBy>
  <dcterms:modified xsi:type="dcterms:W3CDTF">2004-12-16T05:51:38Z</dcterms:modified>
  <cp:revision>100</cp:revision>
  <dc:subject/>
  <dc:title>没有幻灯片标题</dc:title>
</cp:coreProperties>
</file>