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gif" ContentType="image/gif"/>
  <Override PartName="/ppt/media/image24.gif" ContentType="image/gif"/>
  <Override PartName="/ppt/media/image17.png" ContentType="image/png"/>
  <Override PartName="/ppt/media/image21.gif" ContentType="image/gif"/>
  <Override PartName="/ppt/media/image10.jpeg" ContentType="image/jpeg"/>
  <Override PartName="/ppt/media/image27.jpeg" ContentType="image/jpeg"/>
  <Override PartName="/ppt/media/image33.jpeg" ContentType="image/jpeg"/>
  <Override PartName="/ppt/media/image5.jpeg" ContentType="image/jpeg"/>
  <Override PartName="/ppt/media/image35.png" ContentType="image/png"/>
  <Override PartName="/ppt/media/image8.png" ContentType="image/png"/>
  <Override PartName="/ppt/media/image19.gif" ContentType="image/gif"/>
  <Override PartName="/ppt/media/image14.jpeg" ContentType="image/jpeg"/>
  <Override PartName="/ppt/media/image7.gif" ContentType="image/gif"/>
  <Override PartName="/ppt/media/image29.jpeg" ContentType="image/jpeg"/>
  <Override PartName="/ppt/media/image9.png" ContentType="image/png"/>
  <Override PartName="/ppt/media/image11.jpeg" ContentType="image/jpeg"/>
  <Override PartName="/ppt/media/image31.gif" ContentType="image/gif"/>
  <Override PartName="/ppt/media/image30.jpeg" ContentType="image/jpeg"/>
  <Override PartName="/ppt/media/image34.png" ContentType="image/png"/>
  <Override PartName="/ppt/media/image12.jpeg" ContentType="image/jpeg"/>
  <Override PartName="/ppt/media/image13.gif" ContentType="image/gif"/>
  <Override PartName="/ppt/media/image4.jpeg" ContentType="image/jpeg"/>
  <Override PartName="/ppt/media/image25.png" ContentType="image/png"/>
  <Override PartName="/ppt/media/image1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3.gif" ContentType="image/gif"/>
  <Override PartName="/ppt/media/image16.gif" ContentType="image/gif"/>
  <Override PartName="/ppt/media/image6.jpeg" ContentType="image/jpeg"/>
  <Override PartName="/ppt/media/type.wav" ContentType="audio/x-wav"/>
  <Override PartName="/ppt/media/image18.gif" ContentType="image/gif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EBE-202F-4460-BC08-159679BE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7E4-4276-4E16-8BA2-F003657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1C3-1DD3-4FC8-81D6-0D444810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696-A564-4B61-A303-0B0E5E7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DD1-4E4B-4BBB-B79B-1E6069C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A9B-6330-4D08-9E87-7D9BB10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4075-84F9-4BD8-88B6-ED3BDA05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120-D6B8-4F34-9392-7BA00C5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0700-C5CA-45C7-B3D1-575F11A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960B-01BF-48A9-8ED4-5E5B169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A507-02C6-4DEC-8590-BF9FEAD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57A-5BD6-4B16-BC68-5138AC1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FC8-AF42-49EA-A517-9BC5D390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467F-C7A2-48A6-83C5-BB8B40DD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DC5D-BE72-456D-8934-D2DBDF4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57D-C455-43BA-A4F9-45EF3AF6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022D-7E46-474E-A22A-6795C0AB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CE5-9B5D-4EE0-B011-6935C8E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395-9B25-43D1-9681-FE72885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2A3-EFC2-4CD5-8CB3-1B602EC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9EC-B99F-4A7E-B768-A52BFB9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EF8-2A93-47F5-8A1E-3702228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105-7AD8-4D70-8FFD-62FD7DE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8DF-3678-4D52-9D1B-8BB644E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9A1-BB69-448F-A4E6-7C331880DE5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F664-FDEB-421B-A786-40BDF267335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12.xm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ak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40280" y="990720"/>
            <a:ext cx="3746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cc0000"/>
                </a:solidFill>
                <a:latin typeface="Tahoma"/>
                <a:ea typeface="隶书"/>
              </a:rPr>
              <a:t>风筝</a:t>
            </a:r>
            <a:endParaRPr b="0" lang="en-US" sz="117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3240" y="2743200"/>
            <a:ext cx="1094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ahoma"/>
                <a:ea typeface="隶书"/>
              </a:rPr>
              <a:t>鲁迅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981080"/>
            <a:ext cx="15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嫌恶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19051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喜欢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81080" y="1143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1066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小兄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1240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毁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0481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偷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野蛮、粗暴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0384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天真、活泼、聪明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 flipH="1" rot="10800000">
            <a:off x="5486400" y="2362320"/>
            <a:ext cx="9907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 flipH="1" rot="10800000">
            <a:off x="5486400" y="3274560"/>
            <a:ext cx="106668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84360" y="5791320"/>
            <a:ext cx="41450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278400" y="4602240"/>
            <a:ext cx="2179800" cy="2179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2558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如果你是“我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你会这样做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39960" y="3581280"/>
            <a:ext cx="68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如果你是“小兄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又会怎样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什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80060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中你体会到了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5661000"/>
            <a:ext cx="42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认真思考呵！！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85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143000"/>
            <a:ext cx="6781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我为何要这样做？小兄弟为何不反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219320"/>
            <a:ext cx="1066680" cy="42670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小兄弟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1430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前提：玩风筝没出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600" y="213372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天经地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1981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鄙视、傲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惊惶、瑟缩、绝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1880" y="1295280"/>
            <a:ext cx="164268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</a:rPr>
              <a:t>封建教育毒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1295640" cy="206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952560" cy="533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9548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兄弟情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82200" y="6012000"/>
            <a:ext cx="901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0666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后来我的想法发生了怎样的变化？造成我思想变化的原因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GIF127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333760" cy="1436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96252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戏是儿童最正当的行为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玩具是儿童的天使。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如果你是哥哥，当弟弟说不记得风筝被毁坏的事时，你的反应是怎样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像文中的作者一样，心情依旧沉重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立即高兴地大喊：“真的吗？太好了！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给弟弟一个热情的拥抱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再三追问弟弟是否真的忘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553080" y="3862440"/>
            <a:ext cx="1389240" cy="253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228600"/>
            <a:ext cx="8610480" cy="6248520"/>
          </a:xfrm>
          <a:custGeom>
            <a:avLst/>
            <a:gdLst>
              <a:gd name="textAreaLeft" fmla="*/ 736200 w 8610480"/>
              <a:gd name="textAreaRight" fmla="*/ 7874280 w 8610480"/>
              <a:gd name="textAreaTop" fmla="*/ 736200 h 6248520"/>
              <a:gd name="textAreaBottom" fmla="*/ 5512320 h 6248520"/>
            </a:gdLst>
            <a:ahLst/>
            <a:rect l="textAreaLeft" t="textAreaTop" r="textAreaRight" b="textAreaBottom"/>
            <a:pathLst>
              <a:path w="297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64" y="21600"/>
                </a:lnTo>
                <a:arcTo wR="3600" hR="3600" stAng="10800000" swAng="5400000"/>
                <a:lnTo>
                  <a:pt x="29764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4800600"/>
            <a:ext cx="670572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429000"/>
            <a:ext cx="7621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3352680"/>
            <a:ext cx="152424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7621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我”得到宽恕了吗？得不到宽恕的我当时有什么感觉？为什么会有这样的想法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286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28600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小兄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毁坏风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5268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悲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沉重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2767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全然忘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毫无怨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876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对被虐杀者的的麻木不仁的精神状态的担忧和痛惜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7" name="GIF026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26640" y="838080"/>
            <a:ext cx="11552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内容总结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5448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浓浓手足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8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对被虐者麻木不仁的精神状态的          忧虑和痛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23064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勇于自剖，严于自省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GIF053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93" name="GIF053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94" name="GIF053" descr=""/>
          <p:cNvPicPr/>
          <p:nvPr/>
        </p:nvPicPr>
        <p:blipFill>
          <a:blip r:embed="rId3"/>
          <a:stretch/>
        </p:blipFill>
        <p:spPr>
          <a:xfrm>
            <a:off x="2590920" y="182880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944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风筝琐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9864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精神虐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820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寻求宽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9000" y="160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悲哀沉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79560" y="160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躲避春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认识到自己的错误后，深切自责，却又无可挽救，所以消极地表示“倒不如躲到肃杀的严冬中去吧”，希望逃避不愉快的回忆和自责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者始终逃不过内疚和自责，本文最后说“四面又明明是严冬，正给我非常的寒威和冷气”，暗示作者心情沉重，感到有如处身于肃杀的严冬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80060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只凭风力健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不假羽毛丰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红线凌空去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青云有路通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隶书"/>
                <a:ea typeface="隶书"/>
              </a:rPr>
              <a:t>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11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出与下列意思相对应的本课中的词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形容秋冬天气寒冷，草木枯落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虐待人致死。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费尽心思钻研或经营。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忽然醒悟、明白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97720" y="1965240"/>
            <a:ext cx="243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肃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虐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苦心孤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恍然大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666880" y="762120"/>
            <a:ext cx="4496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描写景物的作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营造气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暗示情节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烘托心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构文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14300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思维拓展训练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、当年的鲁迅把自己的好恶强加给别人，这是一种什么做法，是什么思想在做祟？你的身边、生活中有没有类似例子，试举例说明。</a:t>
            </a:r>
            <a:br>
              <a:rPr sz="3200"/>
            </a:b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、虐杀者的行为为什么能得逞，是什么助长了这些人的坏习性，在生活中有这样的例子吗？正确的做法该如何？试举例说明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143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（任选一题讨论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章开篇触景生情，由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北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冬天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想起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故乡的风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节，想起那件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伤心难过的往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为全文笼罩上了一种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悲哀、悲凉的感情基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然后，作者用一种冷俊的笔调叙述了他的一种心路历程，表现了他的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痛悔与自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作者想要赎罪而不得，心情只得</a:t>
            </a: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沉重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文章末尾又从回忆中走到现实，走到严冬中，四面仍是逃避不掉的寒威和冷气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 flipH="1">
            <a:off x="6826320" y="5104800"/>
            <a:ext cx="1326960" cy="1477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20" y="1402920"/>
            <a:ext cx="78984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课文小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k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2286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学了本文后，你有什么收获？试比较课后《满天的风筝》说说，两文所蕴含的情感有什么不同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３．课外搜集关于作家鲁迅相关资料，同学之间互相交流．积累古诗词中关于风筝的句子，抄到资料本中去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3880" y="5410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作业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743200" y="45720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《村居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高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草长莺飞二月天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拂堤杨柳醉春烟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儿童放学归来早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忙趁东风放纸鸢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16" descr="16.GIF (2010 字节)"/>
            <p:cNvPicPr/>
            <p:nvPr/>
          </p:nvPicPr>
          <p:blipFill>
            <a:blip r:embed="rId2"/>
            <a:stretch/>
          </p:blipFill>
          <p:spPr>
            <a:xfrm>
              <a:off x="5334120" y="380880"/>
              <a:ext cx="3352680" cy="1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16" descr="16.GIF (2010 字节)"/>
            <p:cNvPicPr/>
            <p:nvPr/>
          </p:nvPicPr>
          <p:blipFill>
            <a:blip r:embed="rId3"/>
            <a:stretch/>
          </p:blipFill>
          <p:spPr>
            <a:xfrm>
              <a:off x="228600" y="6400800"/>
              <a:ext cx="3429000" cy="1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red-005" descr=""/>
          <p:cNvPicPr/>
          <p:nvPr/>
        </p:nvPicPr>
        <p:blipFill>
          <a:blip r:embed="rId4"/>
          <a:stretch/>
        </p:blipFill>
        <p:spPr>
          <a:xfrm>
            <a:off x="0" y="0"/>
            <a:ext cx="48830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876920" y="16002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阶下儿童仰面看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清明装点最堪宜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丝一断浑无力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莫向东风怨别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08480" y="4411800"/>
            <a:ext cx="11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曹雪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1066680"/>
            <a:ext cx="74678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纸花如雪满天飞，             娇女秋千打四围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五色罗裙风摆动，              好将蝴蝶斗春归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郑板桥《怀潍县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036800"/>
            <a:ext cx="91440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风鸢放出万人看，</a:t>
            </a:r>
            <a:endParaRPr b="0" lang="en-US" sz="5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千丈麻绳系竹竿。</a:t>
            </a:r>
            <a:endParaRPr b="0" lang="en-US" sz="5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天下太平新样巧，</a:t>
            </a:r>
            <a:endParaRPr b="0" lang="en-US" sz="5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一行飞上碧云端。</a:t>
            </a:r>
            <a:endParaRPr b="0" lang="en-US" sz="5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《北京竹枝词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990720"/>
            <a:ext cx="7467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草长莺飞二月天，         拂堤杨柳醉春烟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儿童放学归来早，          忙趁东风放纸鸢。               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高鼎《村居》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838080"/>
            <a:ext cx="7543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伴儿童裤褶红，          手提线索骂天公；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人人夸你春来早，          欠我风筝五丈风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孔尚任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990720"/>
            <a:ext cx="8991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江北江南低鹞齐，            线长线短回高低；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春风自古无凭据，             一伍骑夫弄笛儿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徐渭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228600"/>
            <a:ext cx="8458200" cy="59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只凭风力健，                  不假羽毛丰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红线凌空去，                    青云有路通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吴友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38088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软红无数落成泥，      庭前催春绿渐齐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窗外忽传鹦鹉语，       风筝吹落屋檐西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－陈长生《春是信笔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6" descr="16.GIF (2010 字节)"/>
            <p:cNvPicPr/>
            <p:nvPr/>
          </p:nvPicPr>
          <p:blipFill>
            <a:blip r:embed="rId2"/>
            <a:stretch/>
          </p:blipFill>
          <p:spPr>
            <a:xfrm>
              <a:off x="5334120" y="380880"/>
              <a:ext cx="3352680" cy="1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6" descr="16.GIF (2010 字节)"/>
            <p:cNvPicPr/>
            <p:nvPr/>
          </p:nvPicPr>
          <p:blipFill>
            <a:blip r:embed="rId3"/>
            <a:stretch/>
          </p:blipFill>
          <p:spPr>
            <a:xfrm>
              <a:off x="228600" y="6400800"/>
              <a:ext cx="3429000" cy="1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kite-2" descr=""/>
          <p:cNvPicPr/>
          <p:nvPr/>
        </p:nvPicPr>
        <p:blipFill>
          <a:blip r:embed="rId4"/>
          <a:stretch/>
        </p:blipFill>
        <p:spPr>
          <a:xfrm>
            <a:off x="0" y="-533520"/>
            <a:ext cx="9144000" cy="76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6" descr="16.GIF (2010 字节)"/>
            <p:cNvPicPr/>
            <p:nvPr/>
          </p:nvPicPr>
          <p:blipFill>
            <a:blip r:embed="rId2"/>
            <a:stretch/>
          </p:blipFill>
          <p:spPr>
            <a:xfrm>
              <a:off x="5334120" y="380880"/>
              <a:ext cx="3352680" cy="1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16" descr="16.GIF (2010 字节)"/>
            <p:cNvPicPr/>
            <p:nvPr/>
          </p:nvPicPr>
          <p:blipFill>
            <a:blip r:embed="rId3"/>
            <a:stretch/>
          </p:blipFill>
          <p:spPr>
            <a:xfrm>
              <a:off x="228600" y="6400800"/>
              <a:ext cx="3429000" cy="1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lux01" descr=""/>
          <p:cNvPicPr/>
          <p:nvPr/>
        </p:nvPicPr>
        <p:blipFill>
          <a:blip r:embed="rId4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066lx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56040" y="148428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、注音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240" y="2517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秃</a:t>
            </a:r>
            <a:r>
              <a:rPr b="1" lang="zh-CN" sz="2400" spc="-1" strike="noStrike">
                <a:solidFill>
                  <a:srgbClr val="b0ae6a"/>
                </a:solidFill>
                <a:latin typeface="Comic Sans MS"/>
              </a:rPr>
              <a:t>树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丫杈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4920" y="32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嫌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956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0ae6a"/>
                </a:solidFill>
                <a:latin typeface="Comic Sans MS"/>
              </a:rPr>
              <a:t>苦心孤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诣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1080" y="251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憔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2744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瑟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0440" y="39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4000" y="39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虐</a:t>
            </a:r>
            <a:r>
              <a:rPr b="1" lang="zh-CN" sz="2400" spc="-1" strike="noStrike">
                <a:solidFill>
                  <a:srgbClr val="b0ae6a"/>
                </a:solidFill>
                <a:latin typeface="Comic Sans MS"/>
              </a:rPr>
              <a:t>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2372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00360" y="260280"/>
            <a:ext cx="3311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检查预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20" name=""/>
          <p:cNvSpPr/>
          <p:nvPr/>
        </p:nvSpPr>
        <p:spPr>
          <a:xfrm>
            <a:off x="3090960" y="25178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tū   yā   ch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02040" y="25178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qiáo   cu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5280" y="32385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xián   w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24280" y="323856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du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9920" y="323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sè  su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38600" y="39574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y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0840" y="39574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ü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26240" y="3957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zh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00720" y="4869000"/>
            <a:ext cx="12477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出与下列意思相对应的本课中的词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形容秋冬天气寒冷，草木枯落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虐待人致死。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费尽心思钻研或经营。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忽然醒悟、明白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7720" y="1965240"/>
            <a:ext cx="243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肃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虐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苦心孤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Times New Roman"/>
              </a:rPr>
              <a:t>恍然大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0030331140443515-4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pic>
        <p:nvPicPr>
          <p:cNvPr id="134" name="GIF-516" descr=""/>
          <p:cNvPicPr/>
          <p:nvPr/>
        </p:nvPicPr>
        <p:blipFill>
          <a:blip r:embed="rId2"/>
          <a:stretch/>
        </p:blipFill>
        <p:spPr>
          <a:xfrm>
            <a:off x="6477120" y="762120"/>
            <a:ext cx="2209680" cy="168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36684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听课文朗读，感知课文，请概述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课文内容。再说说“我”和“小兄弟”各是怎样的人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5:54:10Z</dcterms:modified>
  <cp:revision>100</cp:revision>
  <dc:subject/>
  <dc:title>PowerPoint Presentation</dc:title>
</cp:coreProperties>
</file>