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11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D060-DE48-4AC8-9B8A-BDDE7093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A58-FF55-4B5A-A382-3648D21D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347E-82E5-4209-B3D1-7E66BFF7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D75B-6BBC-4390-B7A4-0AE7198B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57BA-6903-484D-A3BA-58466177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7701-115C-4322-A8B7-9C955E04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B3A3-7276-48CA-A6EA-74322DCC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0455-9F6E-4F7F-9B9C-18D0EC1A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4AC4-9BD7-440B-81BE-6F7CC051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022C-EBDC-4FC8-9C88-BA2FBAF6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0693-9B81-4115-9C0D-092C2725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661-9E46-49AC-B190-D5A68033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C174-F2C7-43BA-8DEF-3112455E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A670-3A2C-452C-BFBF-7651710F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E08A-8E0E-4BDE-8BD1-483D2606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522F-4305-4AAD-9D73-2BFA0778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840E-F5ED-4D33-AAB1-110F30CA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7709-010E-4E20-A66E-3E953F54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33B-1006-4465-8B1B-9D664D08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FDB-5816-42C2-9571-ADC90BFF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E4DF-D907-4B46-9A93-B8C421B6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706-A42F-440D-827C-211A4FDC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DE6-0414-429A-BAD9-7E33B907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55B1-1F89-4A36-A292-9EF6C95B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CC8B-0442-4424-9068-BF07BCB6115E}" type="slidenum"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9892-E1D0-4BAD-A760-09C8946395CE}" type="slidenum"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风筝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077320" y="6095880"/>
            <a:ext cx="609480" cy="457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美术边框1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743200" y="228600"/>
            <a:ext cx="4419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关于文章的主题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31240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、儿童教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411480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、批判封建教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1814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、作者的自我解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2209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、兄弟手足之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美术边框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838080" y="609480"/>
            <a:ext cx="34290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课外拓展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2209680"/>
            <a:ext cx="82296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zh-CN" sz="7200" spc="-1" strike="noStrike">
                <a:solidFill>
                  <a:srgbClr val="ff0066"/>
                </a:solidFill>
                <a:latin typeface="Times New Roman"/>
              </a:rPr>
              <a:t>课外阅读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</a:rPr>
              <a:t>《朝花夕拾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2728800" y="2695680"/>
            <a:ext cx="3686400" cy="14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方正舒体"/>
              </a:rPr>
              <a:t>再见！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方正舒体"/>
              <a:ea typeface="方正舒体"/>
            </a:endParaRPr>
          </a:p>
        </p:txBody>
      </p:sp>
      <p:pic>
        <p:nvPicPr>
          <p:cNvPr id="161" name="gifbj0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234" descr=""/>
          <p:cNvPicPr/>
          <p:nvPr/>
        </p:nvPicPr>
        <p:blipFill>
          <a:blip r:embed="rId1"/>
          <a:stretch/>
        </p:blipFill>
        <p:spPr>
          <a:xfrm>
            <a:off x="-838080" y="0"/>
            <a:ext cx="10820160" cy="7332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105520" y="838080"/>
            <a:ext cx="402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草长莺飞二月天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拂堤杨柳醉春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儿童放学归来早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忙趁东风放纸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-185760"/>
          <a:ext cx="19354680" cy="704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85760"/>
                    <a:ext cx="19354680" cy="704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2666880" y="457200"/>
            <a:ext cx="3733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隶书"/>
              </a:rPr>
              <a:t>风   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2133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鲁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背景1" descr=""/>
          <p:cNvPicPr/>
          <p:nvPr/>
        </p:nvPicPr>
        <p:blipFill>
          <a:blip r:embed="rId1"/>
          <a:stretch/>
        </p:blipFill>
        <p:spPr>
          <a:xfrm>
            <a:off x="0" y="-122400"/>
            <a:ext cx="9144000" cy="6980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429000" y="1523880"/>
            <a:ext cx="5715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鲁迅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：原名周树人，浙江绍兴人。我国现代伟大的文学家、思想家、革命家</a:t>
            </a:r>
            <a:r>
              <a:rPr b="1" lang="zh-CN" sz="9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lu036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3124080" cy="4724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5800" y="380880"/>
            <a:ext cx="323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880" y="0"/>
            <a:ext cx="403884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作者知多少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3581280"/>
            <a:ext cx="5638680" cy="30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周氏三兄弟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周树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88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936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周作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885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967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散文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周建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888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984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生物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家、社会活动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美术边框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352680" y="304920"/>
            <a:ext cx="3429000" cy="14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整体感知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1676520"/>
            <a:ext cx="609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Times New Roman"/>
              </a:rPr>
              <a:t>听课文录音，思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312408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本文作文回忆的是一件什么事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5791320"/>
            <a:ext cx="7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背景1" descr=""/>
          <p:cNvPicPr/>
          <p:nvPr/>
        </p:nvPicPr>
        <p:blipFill>
          <a:blip r:embed="rId1"/>
          <a:stretch/>
        </p:blipFill>
        <p:spPr>
          <a:xfrm>
            <a:off x="0" y="-122400"/>
            <a:ext cx="9144000" cy="7102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3808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华文彩云"/>
              </a:rPr>
              <a:t>阅读一、二自然段，讨论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  <a:ea typeface="华文彩云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90512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我”看到“远处有一二风筝浮动”时，是一种什么样的心情？为什么会有这种心情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花" descr=""/>
          <p:cNvPicPr/>
          <p:nvPr/>
        </p:nvPicPr>
        <p:blipFill>
          <a:blip r:embed="rId2"/>
          <a:stretch/>
        </p:blipFill>
        <p:spPr>
          <a:xfrm>
            <a:off x="5627520" y="3276720"/>
            <a:ext cx="351648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背景1" descr=""/>
          <p:cNvPicPr/>
          <p:nvPr/>
        </p:nvPicPr>
        <p:blipFill>
          <a:blip r:embed="rId1"/>
          <a:stretch/>
        </p:blipFill>
        <p:spPr>
          <a:xfrm>
            <a:off x="0" y="-122400"/>
            <a:ext cx="9144000" cy="6980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228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阅读三、四自然段，思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47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、“我”对小兄弟放风筝是什么态度？为什么会有这样的态度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8954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、小兄弟对待风筝又是什么态度？你从哪些地方看出来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419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、“我”对小兄弟放风筝采取了哪些措施进行严厉管教？小兄弟自己认为放风筝对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黄花" descr=""/>
          <p:cNvPicPr/>
          <p:nvPr/>
        </p:nvPicPr>
        <p:blipFill>
          <a:blip r:embed="rId2"/>
          <a:stretch/>
        </p:blipFill>
        <p:spPr>
          <a:xfrm>
            <a:off x="8515440" y="525780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139" name="黄花" descr=""/>
          <p:cNvPicPr/>
          <p:nvPr/>
        </p:nvPicPr>
        <p:blipFill>
          <a:blip r:embed="rId3"/>
          <a:stretch/>
        </p:blipFill>
        <p:spPr>
          <a:xfrm>
            <a:off x="7772400" y="622944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140" name="黄花" descr=""/>
          <p:cNvPicPr/>
          <p:nvPr/>
        </p:nvPicPr>
        <p:blipFill>
          <a:blip r:embed="rId4"/>
          <a:stretch/>
        </p:blipFill>
        <p:spPr>
          <a:xfrm>
            <a:off x="6553080" y="6019920"/>
            <a:ext cx="628920" cy="628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5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背景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3520" y="38088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阅读</a:t>
            </a: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5—12</a:t>
            </a: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段，讨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371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9933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9933ff"/>
                </a:solidFill>
                <a:latin typeface="Times New Roman"/>
              </a:rPr>
              <a:t>、“我”后来如何知道自己做错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9933ff"/>
                </a:solidFill>
                <a:latin typeface="Times New Roman"/>
              </a:rPr>
              <a:t>、“我”知道错了应该改正，也渴望补过，结果怎样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43434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9933ff"/>
                </a:solidFill>
                <a:latin typeface="Times New Roman"/>
              </a:rPr>
              <a:t>、作者最后为什么说“悲哀”是“无可把握的悲哀”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花" descr=""/>
          <p:cNvPicPr/>
          <p:nvPr/>
        </p:nvPicPr>
        <p:blipFill>
          <a:blip r:embed="rId2"/>
          <a:stretch/>
        </p:blipFill>
        <p:spPr>
          <a:xfrm>
            <a:off x="6980400" y="4191120"/>
            <a:ext cx="21636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背景1" descr=""/>
          <p:cNvPicPr/>
          <p:nvPr/>
        </p:nvPicPr>
        <p:blipFill>
          <a:blip r:embed="rId1"/>
          <a:stretch/>
        </p:blipFill>
        <p:spPr>
          <a:xfrm>
            <a:off x="0" y="-122400"/>
            <a:ext cx="9144000" cy="6980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609480" y="380880"/>
            <a:ext cx="46720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讨论，探究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266688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66ff"/>
                </a:solidFill>
                <a:latin typeface="Times New Roman"/>
                <a:ea typeface="隶书"/>
              </a:rPr>
              <a:t>        </a:t>
            </a:r>
            <a:r>
              <a:rPr b="1" lang="zh-CN" sz="4800" spc="-1" strike="noStrike">
                <a:solidFill>
                  <a:srgbClr val="6666ff"/>
                </a:solidFill>
                <a:latin typeface="Times New Roman"/>
                <a:ea typeface="隶书"/>
              </a:rPr>
              <a:t>你怎样评价文中的“我”和小兄弟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花" descr=""/>
          <p:cNvPicPr/>
          <p:nvPr/>
        </p:nvPicPr>
        <p:blipFill>
          <a:blip r:embed="rId2"/>
          <a:stretch/>
        </p:blipFill>
        <p:spPr>
          <a:xfrm>
            <a:off x="5784840" y="3657600"/>
            <a:ext cx="31417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3:34:48Z</dcterms:created>
  <dc:creator>wutao</dc:creator>
  <dc:description/>
  <dc:language>en-US</dc:language>
  <cp:lastModifiedBy>zyb</cp:lastModifiedBy>
  <dcterms:modified xsi:type="dcterms:W3CDTF">2004-12-02T06:58:31Z</dcterms:modified>
  <cp:revision>100</cp:revision>
  <dc:subject/>
  <dc:title>PowerPoint 演示文稿</dc:title>
</cp:coreProperties>
</file>