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683-1DEC-4543-BD6A-A32E821A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752-FC73-4EE6-967E-14787AD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783-5312-4C90-B9B3-6F55F44A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106-30B9-4656-9028-FED864A4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4C4B-9A1F-42F6-9475-9AA8A60E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8029-F2DA-408D-B703-62709DC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DA6-21C1-44DB-9873-EF020E2A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2CE-18D1-433F-A8F2-9A3CD886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545-1C3D-4271-8BF8-F78E8D3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1A8-30BD-4D9C-96D0-8D2F446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0D01-D3C6-4EF3-BA68-C57F45A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48E-CCDF-4558-8E8F-21470C6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389-5FBD-49BC-B512-9385E28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591-8A27-45F1-A45F-50A26A3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8C5-9F38-49C5-8A65-3AADD39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835F-9A8B-4403-9115-A9CAB8C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0F6-F833-4FC3-87F3-39EB6BD5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D7A-26B4-426C-A8AC-1BF2A3DF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3C5-A398-4E6F-BDFE-D5DCCC9E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1C5-44B5-482C-B470-070DF54C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DAF-B62C-4080-BF2D-A9694A7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0AC-6ACE-450A-B25C-18AC0CD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02F-0D4B-40EE-A28C-87D59A3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659-8175-4EDB-9A54-B58A9D3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FD7-A48A-4A53-BE74-4CBF3DF3D6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B3D2-C21E-4A51-8899-94A678BD5C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38480" y="1599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隶书"/>
              </a:rPr>
              <a:t>风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隶书"/>
              </a:rPr>
              <a:t>筝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05520" y="5067360"/>
            <a:ext cx="64008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8040" y="-2427120"/>
            <a:ext cx="8469360" cy="360"/>
            <a:chOff x="338040" y="-2427120"/>
            <a:chExt cx="8469360" cy="360"/>
          </a:xfrm>
        </p:grpSpPr>
        <p:sp>
          <p:nvSpPr>
            <p:cNvPr id="91" name=""/>
            <p:cNvSpPr/>
            <p:nvPr/>
          </p:nvSpPr>
          <p:spPr>
            <a:xfrm>
              <a:off x="338040" y="-2427120"/>
              <a:ext cx="8469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38040" y="-2427120"/>
              <a:ext cx="8469360" cy="360"/>
              <a:chOff x="338040" y="-2427120"/>
              <a:chExt cx="8469360" cy="360"/>
            </a:xfrm>
          </p:grpSpPr>
          <p:sp>
            <p:nvSpPr>
              <p:cNvPr id="93" name=""/>
              <p:cNvSpPr/>
              <p:nvPr/>
            </p:nvSpPr>
            <p:spPr>
              <a:xfrm>
                <a:off x="338040" y="-2427120"/>
                <a:ext cx="8469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8040" y="-2427120"/>
                <a:ext cx="8469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5" name="zhan-cp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4767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中国现代文学之父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-----</a:t>
            </a: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鲁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问题：根据你调查的资料，你对鲁迅有多少认识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lu001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作 者 简 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鲁迅  原名周树人，文学家，思想家和革命家，字豫才，浙江绍兴人，出身于破落的封建家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91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月，发表了中国第一篇白话小说《狂人日记》，大胆揭露了封建礼教的人吃人现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基 础 知 识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憔悴     荡漾     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瑟缩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堕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诀别      苦心孤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诣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恍然大悟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丫杈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嫩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自主合作探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课文主要回忆的是什么事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读了这篇课文，你自己有什么感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自己从课文中找出最喜欢的一个句子，并说明理由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多角度探讨本文的主题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  <a:ea typeface="隶书"/>
              </a:rPr>
              <a:t>提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封建儿童教育和陈腐观念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自我解剖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亲情的角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4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追求美好事物的角度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探讨主题的答案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批判了一些人对儿童教育的不正确的态度和教育方法，对封建教育思想和陈腐的观念给予了强烈的抨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赞扬了鲁迅敢于自我批评，自我解剖的精神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当年不许兄弟放风筝，是为希望他有出息，是恨铁不成钢。一点知道自己错了，希望兄弟宽恕自己，手足之情溢于言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风筝是故乡春天的象征，是美好青春的象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语 言 训 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憔悴可怜的模样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恍然大悟似的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论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论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他都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一幕，忽然在眼前展开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7:49:24Z</dcterms:created>
  <dc:creator>wutao</dc:creator>
  <dc:description/>
  <dc:language>en-US</dc:language>
  <cp:lastModifiedBy>a</cp:lastModifiedBy>
  <dcterms:modified xsi:type="dcterms:W3CDTF">2004-12-16T05:55:07Z</dcterms:modified>
  <cp:revision>100</cp:revision>
  <dc:subject/>
  <dc:title>风 筝</dc:title>
</cp:coreProperties>
</file>