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AFB-DB39-4018-B59F-7EED8999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AC0-CE70-4EAB-873F-F6FD894A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DC0-F090-4F83-8712-7AE7D988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069-3684-4B46-9114-21E1D1F6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0C1E-A28D-439E-8A6C-130BA435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156A-8FC9-4ACD-844B-16BDD5B7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2ACA-C3DE-4EE4-BF15-1938644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77E1-83A8-4C71-8A5B-DCE03CF7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1687-3DC5-4434-93EA-51C79356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C060-1B1C-48EB-93DB-F4BA483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1336-B6FD-413A-BF74-8FF0A31F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EF6-F082-4471-B451-DE988F5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F1E1-568F-417D-A277-671BC3B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8CD7-882C-4903-ADCD-04D6555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281D-269A-47B7-9ECB-A386BADE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D8A-D0A6-4DFE-8782-F093E714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A1B7-B773-498E-9533-8B8D91FA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CE9-CB43-4724-86F5-F57F2C7B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4ED-E61F-497F-88AA-F3157CCE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078-3BF1-4FCF-A563-C488BB98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496-2E62-4DB4-A263-3F8524A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B94-9850-4C9E-A1AE-D8AB7E53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88F-D139-4070-BF47-7D578944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8FC-2AA9-4EE4-B37F-3B1F1C42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FCD2-74AC-4118-AE86-0FC108E6D64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3D33-2EE7-4589-B1F7-142914F0EA6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风    筝   </a:t>
            </a: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清朝  高鼎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21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草长莺飞二月天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21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拂堤杨柳醉轻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21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儿童放学归来早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21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忙趁东风放纸鸢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71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真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人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版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22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13280" y="0"/>
            <a:ext cx="423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248160" y="685800"/>
            <a:ext cx="113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鲁迅先生的私塾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491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风                      筝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知课文内容，理解作者思想感情，感受至爱真情，获得思想启迪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多角度有创意地阅读和比较阅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运用自主合作的方式探讨疑难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读读一下字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uo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去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憔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qiaocu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阳平 去声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荡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angya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去声 去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瑟缩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esuo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去声 阴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什物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h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阳平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虐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nve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去声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嫌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nwu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阳平 去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心孤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y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去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恍然大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ua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上声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e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上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7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7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7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7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7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7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小时侯会把放风筝看成没出息孩子做的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说不许小兄弟放风筝是“对于精神的虐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迅对待自己错误的态度与一般人有什么不同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讨论题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“在我是一种惊异和悲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说悲哀是“无可把握的悲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说“我倒不如躲到肃杀的严冬中去吧，——但是，四面又明明是严冬，正给我非常的威寒和冷气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“在我是一种惊异和悲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北京与故乡放风筝的时令，阅读文章中“精神虐杀的一幕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说悲哀是“无可把握的悲哀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调“悲哀”是意想不到的，无法补过，心情一直沉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什么说“我倒不如躲到肃杀的严冬中去吧，——但是，四面又明明是严冬，正给我非常的威寒和冷气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说天气，还说内心深处的悲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怎么看鲁迅小时候的行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了一本外国讲论儿童的书后鲁迅怎么想，你对这时的鲁迅又有何看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侯的“我的小兄弟”为什么会喜欢风筝，甚至敢偷偷的做风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鲁迅摧残了自己做的风筝以后，你认为小兄弟会想了些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鲁迅的弟弟对小时侯这事忘却了，且毫无怨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z1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162560" y="1295280"/>
            <a:ext cx="1447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俯横首眉甘冷为对孺千子夫牛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336840" y="0"/>
            <a:ext cx="5807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32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鲁迅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鲁迅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88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93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〕，中国文学家、思想家和革命家。原 名周树人，字豫才，浙江绍兴人。小说集《呐喊》、《彷徨》、散文诗集《野草》、散文集《朝花夕拾》、杂文集《热风》等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5T13:44:23Z</dcterms:created>
  <dc:creator>wutao</dc:creator>
  <dc:description/>
  <dc:language>en-US</dc:language>
  <cp:lastModifiedBy>虹桥镇一小</cp:lastModifiedBy>
  <dcterms:modified xsi:type="dcterms:W3CDTF">2003-11-18T00:37:54Z</dcterms:modified>
  <cp:revision>100</cp:revision>
  <dc:subject/>
  <dc:title>幻灯片 1</dc:title>
</cp:coreProperties>
</file>