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7697D-EB7A-45D9-90E0-48AF5470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C0C1E-C31E-4AE5-9DC4-EB7B9C86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F30DA-A78E-4B0A-8ACD-4FC83646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27829-1720-4E66-943F-06ADDE87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A1D6B-16D9-4B62-B9F5-606F5F62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3FE1F-7170-4896-BCF2-DD9E9BBF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D8EE2-38D6-4CFE-B19A-87790CFF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4C25E-F7A6-4624-AABD-40CFC862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11185-D645-474F-8B2A-519CADF8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8D773-F072-4589-BD85-4E70E503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3BB1B-5019-4E30-BC1E-B9D22B84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85366-DFD7-465F-BB38-D20C9C3A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175212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D4AF-ABA5-427F-9238-C7F75D7349AD}" type="slidenum"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19520" y="1249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33"/>
                </a:solidFill>
                <a:latin typeface="隶书"/>
                <a:ea typeface="隶书"/>
              </a:rPr>
              <a:t>风  筝</a:t>
            </a:r>
            <a:endParaRPr b="0" lang="en-US" sz="7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35352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3c39f"/>
                </a:solidFill>
                <a:latin typeface="隶书"/>
                <a:ea typeface="隶书"/>
              </a:rPr>
              <a:t>鲁 迅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520" y="47772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精读品析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295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读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3-4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段，思考：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276640"/>
            <a:ext cx="83822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找出描写小兄弟的有关语句，说说作者笔下的“小兄弟” 是</a:t>
            </a:r>
            <a:br>
              <a:rPr sz="2400"/>
            </a:b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个怎样的形象？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找找描写“我”的有关语句，“我”又是一个怎样的形象？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3.“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我”为什么不让小兄弟放风筝，为什么要破坏他做的风筝？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小兄弟做风筝被发现时，为什么会“惊惶”？想像一下小兄</a:t>
            </a:r>
            <a:br>
              <a:rPr sz="2400"/>
            </a:b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弟当时的处境和心情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这部分一些动词和形容词用得很贴切传神，找出来，说说</a:t>
            </a:r>
            <a:br>
              <a:rPr sz="2400"/>
            </a:b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为什么用得好。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3520" y="47772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精读品析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80560" y="1371600"/>
            <a:ext cx="22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读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5-10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段，思考：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2057400"/>
            <a:ext cx="81532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看到一本外国的讲论儿童的行为的书，为什么说是“不幸”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?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如何理解不许小兄弟放风筝是“对于精神的虐杀”？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当我明白了儿童游戏意义后，心情沉重，总想补过，这说</a:t>
            </a:r>
            <a:br>
              <a:rPr sz="2400"/>
            </a:b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明什么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?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4.“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我”想了几种补过的方法？后来补过了没有？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小兄弟还记得这件事吗？你认为他为什么会把这件事情给</a:t>
            </a:r>
            <a:br>
              <a:rPr sz="2400"/>
            </a:b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忘了呢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对于小兄弟的“全然忘却，毫无怨恨”，作者感到轻松了吗？</a:t>
            </a:r>
            <a:br>
              <a:rPr sz="2400"/>
            </a:b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你认为这是为什么呢？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3520" y="47772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精读品析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7640" y="1219320"/>
            <a:ext cx="327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读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1-2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段、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11-12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段，思考：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828800"/>
            <a:ext cx="815328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读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-2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段，思考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画出描写故乡风筝时节的“春光明媚”的句子，说说作者  </a:t>
            </a:r>
            <a:br>
              <a:rPr sz="2400"/>
            </a:b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为什么把往事的回忆放在这样的画面中展开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?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为什么说“久经诀别的故乡的久经逝去的春天，却就在</a:t>
            </a:r>
            <a:br>
              <a:rPr sz="2400"/>
            </a:b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这（北京的）天空中荡漾了”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?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读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1-12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段，思考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如何理解“故乡的春天““带着无可把握的悲哀”？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②“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我倒不如躲到肃杀的严冬中去吧，——但是，四面又</a:t>
            </a:r>
            <a:br>
              <a:rPr sz="2400"/>
            </a:b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明明是严冬，正给我非常的寒威和冷气。” 体现出“我”</a:t>
            </a:r>
            <a:br>
              <a:rPr sz="2400"/>
            </a:b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怎样的感情？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6" name="back" descr=""/>
          <p:cNvPicPr/>
          <p:nvPr/>
        </p:nvPicPr>
        <p:blipFill>
          <a:blip r:embed="rId2"/>
          <a:stretch/>
        </p:blipFill>
        <p:spPr>
          <a:xfrm>
            <a:off x="7467480" y="6311880"/>
            <a:ext cx="862200" cy="31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2666880"/>
            <a:ext cx="72388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手足情；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游戏对于儿童的意义；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3.“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我”的自省精神；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小兄弟无怨恨的思想内容。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……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78264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课堂小结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17064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9900"/>
                </a:solidFill>
                <a:latin typeface="Times New Roman"/>
                <a:ea typeface="黑体"/>
              </a:rPr>
              <a:t>本文的意蕴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905120" y="50436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00"/>
                </a:solidFill>
                <a:latin typeface="Times New Roman"/>
                <a:ea typeface="楷体_GB2312"/>
              </a:rPr>
              <a:t>惊呼跳跃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2757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可鄙气恨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5043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00"/>
                </a:solidFill>
                <a:latin typeface="Times New Roman"/>
                <a:ea typeface="楷体_GB2312"/>
              </a:rPr>
              <a:t>惊惶绝望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71920" y="274320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悔恨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2895480"/>
            <a:ext cx="685800" cy="228600"/>
          </a:xfrm>
          <a:custGeom>
            <a:avLst/>
            <a:gdLst>
              <a:gd name="textAreaLeft" fmla="*/ 8568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2743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想补过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772400" y="5087880"/>
            <a:ext cx="9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00"/>
                </a:solidFill>
                <a:latin typeface="Times New Roman"/>
                <a:ea typeface="楷体_GB2312"/>
              </a:rPr>
              <a:t>忘却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772400" y="2757600"/>
            <a:ext cx="9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悲哀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077320" y="3428280"/>
            <a:ext cx="228600" cy="1523880"/>
          </a:xfrm>
          <a:prstGeom prst="downArrow">
            <a:avLst>
              <a:gd name="adj1" fmla="val 50000"/>
              <a:gd name="adj2" fmla="val 166654"/>
            </a:avLst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86600" y="2895480"/>
            <a:ext cx="685800" cy="228600"/>
          </a:xfrm>
          <a:custGeom>
            <a:avLst/>
            <a:gdLst>
              <a:gd name="textAreaLeft" fmla="*/ 8568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048120" y="3429000"/>
            <a:ext cx="255600" cy="1511280"/>
          </a:xfrm>
          <a:prstGeom prst="downArrow">
            <a:avLst>
              <a:gd name="adj1" fmla="val 50000"/>
              <a:gd name="adj2" fmla="val 147817"/>
            </a:avLst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78264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课堂小结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17064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9900"/>
                </a:solidFill>
                <a:latin typeface="Times New Roman"/>
                <a:ea typeface="黑体"/>
              </a:rPr>
              <a:t>文章的感情线索：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671920"/>
            <a:ext cx="1752480" cy="947160"/>
          </a:xfrm>
          <a:prstGeom prst="rect">
            <a:avLst/>
          </a:prstGeom>
          <a:noFill/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我”的感情变化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3400" y="5105520"/>
            <a:ext cx="1341720" cy="520560"/>
          </a:xfrm>
          <a:prstGeom prst="rect">
            <a:avLst/>
          </a:prstGeom>
          <a:noFill/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小兄弟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895480"/>
            <a:ext cx="685800" cy="228600"/>
          </a:xfrm>
          <a:custGeom>
            <a:avLst/>
            <a:gdLst>
              <a:gd name="textAreaLeft" fmla="*/ 8568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16002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9900"/>
                </a:solidFill>
                <a:latin typeface="Times New Roman"/>
                <a:ea typeface="黑体"/>
              </a:rPr>
              <a:t>“</a:t>
            </a:r>
            <a:r>
              <a:rPr b="0" lang="zh-CN" sz="3200" spc="-1" strike="noStrike">
                <a:solidFill>
                  <a:srgbClr val="cc9900"/>
                </a:solidFill>
                <a:latin typeface="Times New Roman"/>
                <a:ea typeface="黑体"/>
              </a:rPr>
              <a:t>我”的“悲哀”的内蕴：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76212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课堂小结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250200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小时侯自己对弟弟那样管束，无异是“精神的虐杀”。当年，“虐杀者”与“被虐杀者”都被愚昧观念所支配，彼此都不以为有什么错。现在“虐杀者”有了觉悟而后悔痛苦，而“被虐杀者”已经全然忘却。课文一再强调“我”的沉重和悲哀，不仅表现个人的悔恨，更是对这种普遍的精神麻木状态的忧虑和痛惜。在今天，我们仍然可以从中得到极大的教育意义。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9" name="back" descr=""/>
          <p:cNvPicPr/>
          <p:nvPr/>
        </p:nvPicPr>
        <p:blipFill>
          <a:blip r:embed="rId2"/>
          <a:stretch/>
        </p:blipFill>
        <p:spPr>
          <a:xfrm>
            <a:off x="7543800" y="6172200"/>
            <a:ext cx="861840" cy="31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3520" y="251460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有一回，我们会面的时候，是脸上都已添刻了许多“生”的辛苦的条纹……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但此时地上的杨柳已经发芽，早的山桃也多吐蕾，和孩子们的天上的点缀相照应，打成一片春日的温和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远处的蟹风筝突然落下来了，他惊呼；两个瓦片风筝的缠绕解开了，他高兴得跳跃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我也知道补过的方法的：送他风筝，赞成他放，劝他放，我和他一同放。我们嚷着，跑着，笑着。——然而他其时已经和我一样，早已有了胡子了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60948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咀嚼语言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3716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9900"/>
                </a:solidFill>
                <a:latin typeface="Times New Roman"/>
                <a:ea typeface="黑体"/>
              </a:rPr>
              <a:t>品味下面的语句。再从本文找出你喜欢的语言，说说理由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304920" y="236232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隶书"/>
              </a:rPr>
              <a:t>鲁迅简介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342900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背景知识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449568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字音词义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66880" y="129528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感知课文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342900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课堂小结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236232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精读品析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451656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咀嚼语言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29528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隶书"/>
              </a:rPr>
              <a:t>课堂导入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776840" y="609480"/>
          <a:ext cx="4214880" cy="563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76840" y="609480"/>
                    <a:ext cx="421488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879480"/>
            <a:ext cx="8229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有一首老歌这样唱到：“又是一年三月三，风筝飞满天，牵着我的思念和梦幻走回到童年。”提到风筝，我们总会想起那天真烂漫的童年。其实，我们每个人也象飞在空中的风筝，无论我们走得多远，总有一根绳线牵系着你，那就是割不断的亲情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今天我们学习的这篇文章讲述的便是与风筝有关的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误解与冲突中也有亲情的故事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4" name="back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19240" y="5943600"/>
            <a:ext cx="861840" cy="31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352680" y="619200"/>
            <a:ext cx="5562720" cy="2654280"/>
          </a:xfrm>
          <a:prstGeom prst="rect">
            <a:avLst/>
          </a:prstGeom>
          <a:solidFill>
            <a:srgbClr val="fff4d5">
              <a:alpha val="50000"/>
            </a:srgbClr>
          </a:solidFill>
          <a:ln w="3240">
            <a:solidFill>
              <a:srgbClr val="fff0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鲁迅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(1881—1936)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文学家、思想家和革命家。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原名周树人，字豫才，浙江绍兴人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902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年去日本学医，后弃医从文，企图用以改变国民精神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918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月，首次用笔名“鲁迅”发表中国现代文学史上第一篇白话小说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狂人日记》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，大胆揭露人吃人的封建礼教，奠定了新文学运动的基石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年代陆续出版了《呐喊》《坟》《热风》《彷徨》《野草》《朝花夕拾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《华盖集》《华盖集续篇》等专集，表现出爱国主义和彻底的革命民主主义的思想。其中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中篇小说《阿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Q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正传》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是中国现代文学史上的杰作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936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9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日病逝于上海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4600" y="1011240"/>
            <a:ext cx="3025800" cy="4170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2280" y="5257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1</a:t>
            </a:r>
            <a:r>
              <a:rPr b="0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岁的鲁迅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8" name="back" descr=""/>
          <p:cNvPicPr/>
          <p:nvPr/>
        </p:nvPicPr>
        <p:blipFill>
          <a:blip r:embed="rId3"/>
          <a:stretch/>
        </p:blipFill>
        <p:spPr>
          <a:xfrm>
            <a:off x="814320" y="6172200"/>
            <a:ext cx="862200" cy="31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480" y="858960"/>
            <a:ext cx="190512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背景知识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068560"/>
            <a:ext cx="784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《风筝》选自散文诗集《野草》。该集收录了鲁迅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924—1926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年所作的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3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篇散文诗，主要是用曲折幽暗的象征手法表达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年代作者内心世界的苦闷和对现实社会的抗争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《风筝》写于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925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年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月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日，恰逢农历正月初一，发表后因其对传统的封建的儿童教育思想的强烈抨击，深受读者尤其是青少年读者的欢迎和喜爱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1" name="back" descr=""/>
          <p:cNvPicPr/>
          <p:nvPr/>
        </p:nvPicPr>
        <p:blipFill>
          <a:blip r:embed="rId2"/>
          <a:stretch/>
        </p:blipFill>
        <p:spPr>
          <a:xfrm>
            <a:off x="7391520" y="6006960"/>
            <a:ext cx="861840" cy="31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4112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嫌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90840" y="2290680"/>
            <a:ext cx="27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xián 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嫌恶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10880" y="3073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赚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29720" y="3078000"/>
            <a:ext cx="22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zhuàn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赚钱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2590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68680" y="3962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诀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40080" y="396720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jué 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诀别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54280" y="4648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决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40080" y="465300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jué 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决定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22600" y="5359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抉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40080" y="536400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jué 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抉择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4241880"/>
            <a:ext cx="228600" cy="787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520 h 787320"/>
              <a:gd name="textAreaBottom" fmla="*/ 766800 h 78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14120" y="3962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堕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29720" y="3967200"/>
            <a:ext cx="22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duò  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堕落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9720" y="472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坠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84360" y="4714920"/>
            <a:ext cx="22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zhuì 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下坠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4191120"/>
            <a:ext cx="152280" cy="15224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2440"/>
              <a:gd name="textAreaBottom" fmla="*/ 1482840 h 152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5440" y="3073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恕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62400" y="307800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shù 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宽恕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62400" y="228600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nù  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愤怒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81560" y="2338560"/>
            <a:ext cx="7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怒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5909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630360"/>
            <a:ext cx="190512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形  似  字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4479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给下面的字注音并组词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920960" y="249876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shí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80320" y="2498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什物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80320" y="3330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什么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39600" y="2955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什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4449600"/>
            <a:ext cx="212760" cy="1067040"/>
          </a:xfrm>
          <a:custGeom>
            <a:avLst/>
            <a:gdLst>
              <a:gd name="textAreaLeft" fmla="*/ 136080 w 212760"/>
              <a:gd name="textAreaRight" fmla="*/ 213120 w 21276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6440" y="333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shé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21960" y="4632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模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14480" y="4251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mó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4000" y="4251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劳模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78120" y="5135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mú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13720" y="5135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模样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73280" y="3711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恶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47280" y="2879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è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14240" y="28749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凶恶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4720" y="364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ě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14240" y="3649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恶心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73840" y="445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wù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14240" y="4449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嫌恶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76520" y="277344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57920" y="3230640"/>
            <a:ext cx="152280" cy="1600200"/>
          </a:xfrm>
          <a:custGeom>
            <a:avLst/>
            <a:gdLst>
              <a:gd name="textAreaLeft" fmla="*/ 97200 w 152280"/>
              <a:gd name="textAreaRight" fmla="*/ 15264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685800"/>
            <a:ext cx="190512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多  音  字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16002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给下面的字注音并组词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50200" y="13716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孤独；没有依靠。文中指风筝少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00280" y="1828800"/>
            <a:ext cx="65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本指人瘦弱，面色不好看。此指风筝色彩黯淡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33440" y="22860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指苦心钻研，到了别人所达不到的地步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71720" y="27432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分别（多指不易相见的离别）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11480" y="32004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可以拿来取笑的资料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93280" y="59436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令人鄙视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99640" y="36576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虐待人而致死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77840" y="41148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因寒冷、受惊而蜷缩或兼抖动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85440" y="4572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形容忽然醒悟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86920" y="54864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惊慌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31440" y="50292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书）形容秋冬天气寒冷，草木枯落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96400" y="1390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伶仃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96400" y="1828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憔悴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19880" y="2286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苦心孤诣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96400" y="27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诀别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96400" y="3200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笑柄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96400" y="3657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虐杀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96400" y="5943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可鄙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96400" y="5486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惊惶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96400" y="4114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瑟缩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19880" y="4572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恍然大悟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96400" y="5029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肃杀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6238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解释下列词语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1" name="back" descr=""/>
          <p:cNvPicPr/>
          <p:nvPr/>
        </p:nvPicPr>
        <p:blipFill>
          <a:blip r:embed="rId2"/>
          <a:stretch/>
        </p:blipFill>
        <p:spPr>
          <a:xfrm>
            <a:off x="7391520" y="6095880"/>
            <a:ext cx="861840" cy="31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840760" y="3124080"/>
            <a:ext cx="15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读读课文，谈谈你对这篇文章的感受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50520" y="4129200"/>
            <a:ext cx="86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文中有你不太理解的地方吗？指出来让大家帮帮你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92320" y="2057400"/>
            <a:ext cx="28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3333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这篇散文写什么事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用自已的话说说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76212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初步感知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6" name="back" descr=""/>
          <p:cNvPicPr/>
          <p:nvPr/>
        </p:nvPicPr>
        <p:blipFill>
          <a:blip r:embed="rId2"/>
          <a:stretch/>
        </p:blipFill>
        <p:spPr>
          <a:xfrm>
            <a:off x="7010280" y="6019920"/>
            <a:ext cx="862200" cy="31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21:19:36Z</dcterms:created>
  <dc:creator>wutao</dc:creator>
  <dc:description/>
  <dc:language>en-US</dc:language>
  <cp:lastModifiedBy>ymr</cp:lastModifiedBy>
  <dcterms:modified xsi:type="dcterms:W3CDTF">2006-09-06T01:31:27Z</dcterms:modified>
  <cp:revision>101</cp:revision>
  <dc:subject/>
  <dc:title>幻灯片 1</dc:title>
</cp:coreProperties>
</file>