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7.png" ContentType="image/png"/>
  <Override PartName="/ppt/media/image1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6.gif" ContentType="image/gif"/>
  <Override PartName="/ppt/media/image9.wmf" ContentType="image/x-wmf"/>
  <Override PartName="/ppt/media/image11.gif" ContentType="image/gif"/>
  <Override PartName="/ppt/media/image17.png" ContentType="image/png"/>
  <Override PartName="/ppt/media/image14.gif" ContentType="image/gif"/>
  <Override PartName="/ppt/media/image3.png" ContentType="image/png"/>
  <Override PartName="/ppt/media/image4.jpeg" ContentType="image/jpeg"/>
  <Override PartName="/ppt/media/image2.png" ContentType="image/png"/>
  <Override PartName="/ppt/media/image8.gif" ContentType="image/gif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FD3E-4417-4D94-A1C6-6D7139FCA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6D01-8971-4A2C-9D14-AE3EF4C7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D292-67CD-443B-98B5-3B12A2D1F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9736-E718-4D14-88C4-39F2AB990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0250-46C3-43A2-9C33-CB2D11D9B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5A62-D086-4704-9C9D-61D0E5C7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E525-AABB-487E-BB6A-80DB05FC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0ACD6-3B58-4FA0-BE30-CD5C27D5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C568F-94F1-4B37-B18B-9BBFED53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A305-DBA2-4CE5-A1DB-E5A748D6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E0F9-A9CC-4782-931D-218D473F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19F6-A90F-42D7-A007-42666CC5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5D494-C19B-40BD-8502-CA6320ED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53E8-1743-4D43-8B1B-E7C8F0F7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5AA1-FA64-4F68-BF47-7DB1AD01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7950-60FD-4F0A-B8E9-1E457A1D7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297A-19DA-447B-AD8E-A447AB27E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B3AE-CC5F-4E14-819A-30F2DD79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83F0-0217-4347-9B5E-97004A81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BE93-F815-4E3D-85A8-D3B9D051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7D18-B6D8-4503-BE43-418A62F5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30FF-D84E-4460-B851-0254A945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EF30-A6E1-421D-BC0B-41B74B18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6FDC-9F2F-410B-B5A4-4CFCE78D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6AFE-CDEE-4DAC-8036-F9A7B9CF986C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0947-F577-499D-8E97-E8E49197C188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gif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-2523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25092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249985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87280" y="836280"/>
            <a:ext cx="6870960" cy="5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Comic Sans MS"/>
                <a:ea typeface="隶书"/>
              </a:rPr>
              <a:t>什么事情让“我”再见到风筝时如此“悲哀”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1019160" cy="10810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430360" y="1700280"/>
            <a:ext cx="42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Comic Sans MS"/>
              </a:rPr>
              <a:t>2</a:t>
            </a:r>
            <a:r>
              <a:rPr b="1" lang="zh-CN" sz="2400" spc="-1" strike="noStrike">
                <a:solidFill>
                  <a:srgbClr val="ff9933"/>
                </a:solidFill>
                <a:latin typeface="Comic Sans MS"/>
              </a:rPr>
              <a:t>、“我”和弟弟对于放风筝的观点是否一致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835280" y="2349360"/>
          <a:ext cx="5905440" cy="3519720"/>
        </p:xfrm>
        <a:graphic>
          <a:graphicData uri="http://schemas.openxmlformats.org/drawingml/2006/table">
            <a:tbl>
              <a:tblPr/>
              <a:tblGrid>
                <a:gridCol w="2087280"/>
                <a:gridCol w="2017800"/>
                <a:gridCol w="180036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4b1ae6"/>
                          </a:solidFill>
                          <a:latin typeface="Comic Sans MS"/>
                        </a:rPr>
                        <a:t>　　　对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4b1ae6"/>
                          </a:solidFill>
                          <a:latin typeface="Comic Sans MS"/>
                        </a:rPr>
                        <a:t>比较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b1ae6"/>
                          </a:solidFill>
                          <a:latin typeface="Comic Sans MS"/>
                        </a:rPr>
                        <a:t>弟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b1ae6"/>
                          </a:solidFill>
                          <a:latin typeface="Comic Sans MS"/>
                        </a:rPr>
                        <a:t>“</a:t>
                      </a:r>
                      <a:r>
                        <a:rPr b="1" lang="zh-CN" sz="2400" spc="-1" strike="noStrike">
                          <a:solidFill>
                            <a:srgbClr val="4b1ae6"/>
                          </a:solidFill>
                          <a:latin typeface="Comic Sans MS"/>
                        </a:rPr>
                        <a:t>我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4b1ae6"/>
                          </a:solidFill>
                          <a:latin typeface="Comic Sans MS"/>
                        </a:rPr>
                        <a:t>平时对风筝的态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4b1ae6"/>
                          </a:solidFill>
                          <a:latin typeface="Comic Sans MS"/>
                        </a:rPr>
                        <a:t>“</a:t>
                      </a:r>
                      <a:r>
                        <a:rPr b="0" lang="zh-CN" sz="2400" spc="-1" strike="noStrike">
                          <a:solidFill>
                            <a:srgbClr val="4b1ae6"/>
                          </a:solidFill>
                          <a:latin typeface="Comic Sans MS"/>
                        </a:rPr>
                        <a:t>我”发现弟弟偷做风筝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4b1ae6"/>
                          </a:solidFill>
                          <a:latin typeface="Comic Sans MS"/>
                        </a:rPr>
                        <a:t>结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3924360" y="3284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Comic Sans MS"/>
              </a:rPr>
              <a:t>张着小嘴、呆看、惊呼、跳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634080" y="34290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omic Sans MS"/>
              </a:rPr>
              <a:t>笑柄、可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24360" y="4149720"/>
            <a:ext cx="17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omic Sans MS"/>
              </a:rPr>
              <a:t>惊惶、失了色瑟缩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919840" y="4149720"/>
            <a:ext cx="18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omic Sans MS"/>
              </a:rPr>
              <a:t>愤怒、折断掷、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330240" y="5229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omic Sans MS"/>
              </a:rPr>
              <a:t>傲然走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140360" y="501336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omic Sans MS"/>
              </a:rPr>
              <a:t>绝望地站在小屋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Comic Sans MS"/>
                <a:ea typeface="隶书"/>
              </a:rPr>
              <a:t>什么事情让“我”再见到风筝时如此“悲哀”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"/>
          <p:cNvSpPr/>
          <p:nvPr/>
        </p:nvSpPr>
        <p:spPr>
          <a:xfrm>
            <a:off x="1547640" y="1989000"/>
            <a:ext cx="67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b1ae6"/>
                </a:solidFill>
                <a:latin typeface="Comic Sans MS"/>
              </a:rPr>
              <a:t>3</a:t>
            </a:r>
            <a:r>
              <a:rPr b="0" lang="zh-CN" sz="3200" spc="-1" strike="noStrike">
                <a:solidFill>
                  <a:srgbClr val="4b1ae6"/>
                </a:solidFill>
                <a:latin typeface="Comic Sans MS"/>
              </a:rPr>
              <a:t>、</a:t>
            </a:r>
            <a:r>
              <a:rPr b="1" lang="zh-CN" sz="3200" spc="-1" strike="noStrike">
                <a:solidFill>
                  <a:srgbClr val="4b1ae6"/>
                </a:solidFill>
                <a:latin typeface="Comic Sans MS"/>
              </a:rPr>
              <a:t>“我”的骄傲是否维持下去呢？当“我”看到一本外国的讲论儿童的书，为什么说是“不幸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539640" y="1197000"/>
            <a:ext cx="1019160" cy="10810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835280" y="3500280"/>
            <a:ext cx="669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Comic Sans MS"/>
              </a:rPr>
              <a:t>答：“我”的骄傲没有维持下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Comic Sans MS"/>
              </a:rPr>
              <a:t>“</a:t>
            </a:r>
            <a:r>
              <a:rPr b="1" lang="zh-CN" sz="3200" spc="-1" strike="noStrike">
                <a:solidFill>
                  <a:srgbClr val="ff00ff"/>
                </a:solidFill>
                <a:latin typeface="Comic Sans MS"/>
              </a:rPr>
              <a:t>我”一向以为管弟弟管得对，现在见到书上的道理，心情一下子沉重起来，受到惩罚了，对明理之前的“我”来说，良心受了谴责，可谓“不幸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3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87280" y="2060640"/>
            <a:ext cx="7128000" cy="3384360"/>
          </a:xfrm>
          <a:prstGeom prst="flowChartPunchedTape">
            <a:avLst/>
          </a:prstGeom>
          <a:gradFill rotWithShape="0">
            <a:gsLst>
              <a:gs pos="0">
                <a:srgbClr val="86e0de"/>
              </a:gs>
              <a:gs pos="100000">
                <a:srgbClr val="ffffff"/>
              </a:gs>
            </a:gsLst>
            <a:lin ang="5400000"/>
          </a:gradFill>
          <a:ln cap="rnd" w="2844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08000" y="620280"/>
            <a:ext cx="60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什么事情让“我”再见到</a:t>
            </a:r>
            <a:br>
              <a:rPr sz="4400"/>
            </a:b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风筝时如此“悲哀”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1019160" cy="10810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332000" y="2781360"/>
            <a:ext cx="691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Comic Sans MS"/>
              </a:rPr>
              <a:t>4</a:t>
            </a:r>
            <a:r>
              <a:rPr b="0" lang="zh-CN" sz="4000" spc="-1" strike="noStrike">
                <a:solidFill>
                  <a:srgbClr val="ff9900"/>
                </a:solidFill>
                <a:latin typeface="Comic Sans MS"/>
              </a:rPr>
              <a:t>、</a:t>
            </a:r>
            <a:r>
              <a:rPr b="1" lang="zh-CN" sz="4000" spc="-1" strike="noStrike">
                <a:solidFill>
                  <a:srgbClr val="ff9900"/>
                </a:solidFill>
                <a:latin typeface="Comic Sans MS"/>
              </a:rPr>
              <a:t>对于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隶书"/>
              </a:rPr>
              <a:t>“游戏是儿童最正当的行为，玩具是儿童的天使”</a:t>
            </a:r>
            <a:r>
              <a:rPr b="1" lang="zh-CN" sz="4000" spc="-1" strike="noStrike">
                <a:solidFill>
                  <a:srgbClr val="ff9900"/>
                </a:solidFill>
                <a:latin typeface="Comic Sans MS"/>
              </a:rPr>
              <a:t>这句话，你有何体会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763640" y="476280"/>
            <a:ext cx="590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9966"/>
                </a:solidFill>
                <a:uFillTx/>
                <a:latin typeface="Comic Sans MS"/>
                <a:ea typeface="隶书"/>
              </a:rPr>
              <a:t>“</a:t>
            </a:r>
            <a:r>
              <a:rPr b="0" lang="zh-CN" sz="2800" spc="-1" strike="noStrike" u="sng">
                <a:solidFill>
                  <a:srgbClr val="ff9966"/>
                </a:solidFill>
                <a:uFillTx/>
                <a:latin typeface="Comic Sans MS"/>
                <a:ea typeface="隶书"/>
              </a:rPr>
              <a:t>我”是否想过办法去摆脱这种“悲哀”的境地呢？效果如何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06200" y="189000"/>
            <a:ext cx="1297080" cy="10810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6948360" y="5300640"/>
            <a:ext cx="1440000" cy="12002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835280" y="1484280"/>
            <a:ext cx="52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、鲁迅先生在明白了自己的错误之后感到了深深的自责，并且努力想办法去弥补自己的错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2852640"/>
            <a:ext cx="47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办法一：</a:t>
            </a:r>
            <a:r>
              <a:rPr b="1" lang="zh-CN" sz="2400" spc="-1" strike="noStrike">
                <a:solidFill>
                  <a:srgbClr val="ff33cc"/>
                </a:solidFill>
                <a:latin typeface="Comic Sans MS"/>
              </a:rPr>
              <a:t>送他风筝，一同放风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Comic Sans MS"/>
              </a:rPr>
              <a:t>　　　　－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32000" y="436572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办法二：</a:t>
            </a:r>
            <a:r>
              <a:rPr b="1" lang="zh-CN" sz="2400" spc="-1" strike="noStrike">
                <a:solidFill>
                  <a:srgbClr val="ff33cc"/>
                </a:solidFill>
                <a:latin typeface="Comic Sans MS"/>
              </a:rPr>
              <a:t>“讨他的宽恕”－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122600" y="3429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Comic Sans MS"/>
                <a:ea typeface="隶书"/>
              </a:rPr>
              <a:t>失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300720" y="3141720"/>
            <a:ext cx="647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940360" y="4149360"/>
            <a:ext cx="935280" cy="43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19640" y="3284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98c1b"/>
                </a:solidFill>
                <a:latin typeface="Comic Sans MS"/>
              </a:rPr>
              <a:t>“</a:t>
            </a:r>
            <a:r>
              <a:rPr b="1" lang="zh-CN" sz="2400" spc="-1" strike="noStrike">
                <a:solidFill>
                  <a:srgbClr val="b98c1b"/>
                </a:solidFill>
                <a:latin typeface="Comic Sans MS"/>
              </a:rPr>
              <a:t>他和我一样，早已有胡子了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987640" y="49417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98c1b"/>
                </a:solidFill>
                <a:latin typeface="Comic Sans MS"/>
              </a:rPr>
              <a:t>“</a:t>
            </a:r>
            <a:r>
              <a:rPr b="1" lang="zh-CN" sz="2400" spc="-1" strike="noStrike">
                <a:solidFill>
                  <a:srgbClr val="b98c1b"/>
                </a:solidFill>
                <a:latin typeface="Comic Sans MS"/>
              </a:rPr>
              <a:t>他什么也不记得了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mph" presetID="3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8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9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692360" y="549360"/>
            <a:ext cx="5905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Comic Sans MS"/>
                <a:ea typeface="隶书"/>
              </a:rPr>
              <a:t>“</a:t>
            </a:r>
            <a:r>
              <a:rPr b="0" lang="zh-CN" sz="3200" spc="-1" strike="noStrike">
                <a:solidFill>
                  <a:srgbClr val="0000ff"/>
                </a:solidFill>
                <a:latin typeface="Comic Sans MS"/>
                <a:ea typeface="隶书"/>
              </a:rPr>
              <a:t>我”是否想过办法去摆脱这种“悲哀”的境地呢？效果如何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1224000" cy="10209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835280" y="1916280"/>
            <a:ext cx="55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cc6600"/>
                </a:solidFill>
                <a:latin typeface="Comic Sans MS"/>
              </a:rPr>
              <a:t>、待到弟弟惊异地笑着说“有过这样的事吗”，为什么“我”不觉得轻松反而觉得“沉重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79640" y="3500280"/>
            <a:ext cx="56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Comic Sans MS"/>
              </a:rPr>
              <a:t>弟弟受到“精神的虐杀”，但弟弟并不这样认为，反而把兄长的行径视为合情合理，时过境迁，忘得一干二净，我也无从补过，因而觉得“沉重”。从中也可看出鲁迅先生是多么严厉的解剖自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9054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Comic Sans MS"/>
                <a:ea typeface="隶书"/>
              </a:rPr>
              <a:t>“</a:t>
            </a:r>
            <a:r>
              <a:rPr b="0" lang="zh-CN" sz="3200" spc="-1" strike="noStrike">
                <a:solidFill>
                  <a:srgbClr val="0000ff"/>
                </a:solidFill>
                <a:latin typeface="Comic Sans MS"/>
                <a:ea typeface="隶书"/>
              </a:rPr>
              <a:t>我”是否想过办法去摆脱这种“悲哀”的境地呢？效果如何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1224000" cy="10209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905120" y="1981080"/>
            <a:ext cx="539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Comic Sans MS"/>
              </a:rPr>
              <a:t>3</a:t>
            </a:r>
            <a:r>
              <a:rPr b="1" lang="zh-CN" sz="2800" spc="-1" strike="noStrike">
                <a:solidFill>
                  <a:srgbClr val="703dff"/>
                </a:solidFill>
                <a:latin typeface="Comic Sans MS"/>
              </a:rPr>
              <a:t>、为什么“</a:t>
            </a:r>
            <a:r>
              <a:rPr b="1" lang="zh-CN" sz="2800" spc="-1" strike="noStrike">
                <a:solidFill>
                  <a:srgbClr val="b98c1b"/>
                </a:solidFill>
                <a:latin typeface="Comic Sans MS"/>
              </a:rPr>
              <a:t>我倒不如躲到肃杀的严冬中去吧</a:t>
            </a:r>
            <a:r>
              <a:rPr b="1" lang="zh-CN" sz="2800" spc="-1" strike="noStrike">
                <a:solidFill>
                  <a:srgbClr val="703dff"/>
                </a:solidFill>
                <a:latin typeface="Comic Sans MS"/>
              </a:rPr>
              <a:t>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979640" y="3284640"/>
            <a:ext cx="57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Comic Sans MS"/>
              </a:rPr>
              <a:t>“</a:t>
            </a:r>
            <a:r>
              <a:rPr b="1" lang="zh-CN" sz="2800" spc="-1" strike="noStrike">
                <a:solidFill>
                  <a:srgbClr val="b98c1b"/>
                </a:solidFill>
                <a:latin typeface="Comic Sans MS"/>
              </a:rPr>
              <a:t>躲到肃杀的严冬中去</a:t>
            </a:r>
            <a:r>
              <a:rPr b="1" lang="zh-CN" sz="2800" spc="-1" strike="noStrike">
                <a:solidFill>
                  <a:srgbClr val="ff33cc"/>
                </a:solidFill>
                <a:latin typeface="Comic Sans MS"/>
              </a:rPr>
              <a:t>”，就是不要望见春天，不要望见风筝，这才能忘却，才能摆脱悲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 rot="1948800">
            <a:off x="861840" y="71280"/>
            <a:ext cx="7382160" cy="6166080"/>
          </a:xfrm>
          <a:prstGeom prst="horizontalScroll">
            <a:avLst>
              <a:gd name="adj" fmla="val 25000"/>
            </a:avLst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1763640" y="476280"/>
            <a:ext cx="60501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03dff"/>
                </a:solidFill>
                <a:latin typeface="Comic Sans MS"/>
                <a:ea typeface="隶书"/>
              </a:rPr>
              <a:t>“</a:t>
            </a:r>
            <a:r>
              <a:rPr b="0" lang="zh-CN" sz="4400" spc="-1" strike="noStrike">
                <a:solidFill>
                  <a:srgbClr val="703dff"/>
                </a:solidFill>
                <a:latin typeface="Comic Sans MS"/>
                <a:ea typeface="隶书"/>
              </a:rPr>
              <a:t>我”是否想过办法去摆脱这种“悲哀”的境地呢？效果如何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279360"/>
            <a:ext cx="1763640" cy="14702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835280" y="2852640"/>
            <a:ext cx="619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Comic Sans MS"/>
              </a:rPr>
              <a:t>4</a:t>
            </a:r>
            <a:r>
              <a:rPr b="1" lang="zh-CN" sz="4400" spc="-1" strike="noStrike">
                <a:solidFill>
                  <a:srgbClr val="6600ff"/>
                </a:solidFill>
                <a:latin typeface="Comic Sans MS"/>
              </a:rPr>
              <a:t>、 “</a:t>
            </a:r>
            <a:r>
              <a:rPr b="1" lang="zh-CN" sz="4400" spc="-1" strike="noStrike">
                <a:solidFill>
                  <a:srgbClr val="ff33cc"/>
                </a:solidFill>
                <a:latin typeface="Comic Sans MS"/>
              </a:rPr>
              <a:t>非常的寒威和冷气</a:t>
            </a:r>
            <a:r>
              <a:rPr b="1" lang="zh-CN" sz="4400" spc="-1" strike="noStrike">
                <a:solidFill>
                  <a:srgbClr val="6600ff"/>
                </a:solidFill>
                <a:latin typeface="Comic Sans MS"/>
              </a:rPr>
              <a:t>”，除形容天气之外，还有没有别的含意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 rot="16200000">
            <a:off x="2428560" y="-149040"/>
            <a:ext cx="6337440" cy="7093080"/>
          </a:xfrm>
          <a:prstGeom prst="horizontalScroll">
            <a:avLst>
              <a:gd name="adj" fmla="val 23300"/>
            </a:avLst>
          </a:prstGeom>
          <a:gradFill rotWithShape="0">
            <a:gsLst>
              <a:gs pos="0">
                <a:srgbClr val="8fe97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0" y="1628640"/>
            <a:ext cx="3413160" cy="3672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250920" y="333360"/>
            <a:ext cx="1441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703d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鲁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703d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54" name=""/>
          <p:cNvSpPr/>
          <p:nvPr/>
        </p:nvSpPr>
        <p:spPr>
          <a:xfrm>
            <a:off x="24840" y="981000"/>
            <a:ext cx="19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(1881--193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429000" y="380880"/>
            <a:ext cx="4535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Comic Sans MS"/>
              </a:rPr>
              <a:t>文学家，思想家、革命家，原名周树人，字豫才，浙江绍兴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29000" y="1676520"/>
            <a:ext cx="5246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98c1b"/>
                </a:solidFill>
                <a:latin typeface="Comic Sans MS"/>
              </a:rPr>
              <a:t>1918</a:t>
            </a:r>
            <a:r>
              <a:rPr b="1" lang="zh-CN" sz="2800" spc="-1" strike="noStrike">
                <a:solidFill>
                  <a:srgbClr val="b98c1b"/>
                </a:solidFill>
                <a:latin typeface="Comic Sans MS"/>
              </a:rPr>
              <a:t>年，首次用笔名“鲁迅”发表中国现代文学史上第一篇白话小说《狂人日记》。代表作品有小说集《呐喊》《彷徨》；散文集《朝花夕拾》；散文诗集《野草》；杂文集《坟》《热风》《华盖集》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29000" y="4495680"/>
            <a:ext cx="4800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Comic Sans MS"/>
              </a:rPr>
              <a:t>本文选自《野草》，《野草》书前有一篇题辞，以曲折幽晦的象征表达了</a:t>
            </a:r>
            <a:r>
              <a:rPr b="1" lang="zh-CN" sz="2800" spc="-1" strike="noStrike">
                <a:solidFill>
                  <a:srgbClr val="703dff"/>
                </a:solidFill>
                <a:latin typeface="Comic Sans MS"/>
              </a:rPr>
              <a:t>20</a:t>
            </a:r>
            <a:r>
              <a:rPr b="1" lang="zh-CN" sz="2800" spc="-1" strike="noStrike">
                <a:solidFill>
                  <a:srgbClr val="703dff"/>
                </a:solidFill>
                <a:latin typeface="Comic Sans MS"/>
              </a:rPr>
              <a:t>年代中期作者内心世界的苦闷和对现实社会的抗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619280" y="404280"/>
            <a:ext cx="6121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03dff"/>
                </a:solidFill>
                <a:latin typeface="Comic Sans MS"/>
                <a:ea typeface="隶书"/>
              </a:rPr>
              <a:t>“</a:t>
            </a:r>
            <a:r>
              <a:rPr b="0" lang="zh-CN" sz="3600" spc="-1" strike="noStrike">
                <a:solidFill>
                  <a:srgbClr val="703dff"/>
                </a:solidFill>
                <a:latin typeface="Comic Sans MS"/>
                <a:ea typeface="隶书"/>
              </a:rPr>
              <a:t>我”是否想过办法去摆脱这种“悲哀”的境地呢？效果如何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1763640" cy="14702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403280" y="206064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98c1b"/>
                </a:solidFill>
                <a:latin typeface="Comic Sans MS"/>
              </a:rPr>
              <a:t>4</a:t>
            </a:r>
            <a:r>
              <a:rPr b="1" lang="zh-CN" sz="3200" spc="-1" strike="noStrike">
                <a:solidFill>
                  <a:srgbClr val="b98c1b"/>
                </a:solidFill>
                <a:latin typeface="Comic Sans MS"/>
              </a:rPr>
              <a:t>、 “非常的寒威和冷气”，除形容天气之外，还有没有别的含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619280" y="32846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Comic Sans MS"/>
                <a:ea typeface="黑体"/>
              </a:rPr>
              <a:t>虐杀者与被虐杀者都被愚昧观念所支配，彼此都不以为有什么错，现在虐杀者觉悟了，深感自责，而被虐杀者已全然忘却。觉悟者永远无法补过，还是尤其悲哀的，使人不寒而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547640" y="2492280"/>
            <a:ext cx="61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Comic Sans MS"/>
              </a:rPr>
              <a:t>1</a:t>
            </a:r>
            <a:r>
              <a:rPr b="1" lang="zh-CN" sz="5400" spc="-1" strike="noStrike">
                <a:solidFill>
                  <a:srgbClr val="ff9900"/>
                </a:solidFill>
                <a:latin typeface="Comic Sans MS"/>
              </a:rPr>
              <a:t>、文章的开头和结尾可否删去？为什么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1224000" cy="11206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2771640" y="333360"/>
            <a:ext cx="417672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讨论深化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227640" y="4653000"/>
            <a:ext cx="121932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？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mp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338" dur="2000" fill="hold"/>
                                        <p:tgtEl>
                                          <p:spTgt spid="2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547640" y="1916280"/>
            <a:ext cx="61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Comic Sans MS"/>
              </a:rPr>
              <a:t>2</a:t>
            </a:r>
            <a:r>
              <a:rPr b="1" lang="zh-CN" sz="5400" spc="-1" strike="noStrike">
                <a:solidFill>
                  <a:srgbClr val="ff9900"/>
                </a:solidFill>
                <a:latin typeface="Comic Sans MS"/>
              </a:rPr>
              <a:t>、鲁迅先生在回忆往事时，如何描写“我”来表现兄弟之间的亲情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755640" y="620640"/>
            <a:ext cx="1224000" cy="11206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2771640" y="333360"/>
            <a:ext cx="4176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讨论深化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227640" y="4653000"/>
            <a:ext cx="121932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？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5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mp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355" dur="2000" fill="hold"/>
                                        <p:tgtEl>
                                          <p:spTgt spid="2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636440" y="6165720"/>
            <a:ext cx="831600" cy="459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Comic Sans MS"/>
              </a:rPr>
              <a:t>试从语言、主题、写法上比较课文及《我的兄弟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1260360" y="291960"/>
            <a:ext cx="1224000" cy="11210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2914560" y="404640"/>
            <a:ext cx="35290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1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拓展与练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73" name=""/>
          <p:cNvSpPr txBox="1"/>
          <p:nvPr/>
        </p:nvSpPr>
        <p:spPr>
          <a:xfrm rot="5400000">
            <a:off x="-1046160" y="3141720"/>
            <a:ext cx="3384720" cy="790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99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宋体"/>
              </a:rPr>
              <a:t>比较阅读</a:t>
            </a:r>
            <a:endParaRPr b="0" lang="en-US" sz="1800" spc="1" strike="noStrike">
              <a:ln w="12600">
                <a:solidFill>
                  <a:srgbClr val="ff99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4" name=""/>
          <p:cNvSpPr/>
          <p:nvPr/>
        </p:nvSpPr>
        <p:spPr>
          <a:xfrm rot="19870800">
            <a:off x="971280" y="1557360"/>
            <a:ext cx="574560" cy="216000"/>
          </a:xfrm>
          <a:prstGeom prst="rightArrow">
            <a:avLst>
              <a:gd name="adj1" fmla="val 50000"/>
              <a:gd name="adj2" fmla="val 66500"/>
            </a:avLst>
          </a:prstGeom>
          <a:solidFill>
            <a:srgbClr val="4b1a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403280" y="1628640"/>
            <a:ext cx="727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　</a:t>
            </a:r>
            <a:r>
              <a:rPr b="0" lang="zh-CN" sz="1800" spc="-1" strike="noStrike">
                <a:solidFill>
                  <a:srgbClr val="703dff"/>
                </a:solidFill>
                <a:latin typeface="Comic Sans MS"/>
              </a:rPr>
              <a:t>　</a:t>
            </a:r>
            <a:r>
              <a:rPr b="1" lang="zh-CN" sz="1800" spc="-1" strike="noStrike">
                <a:solidFill>
                  <a:srgbClr val="703dff"/>
                </a:solidFill>
                <a:latin typeface="Comic Sans MS"/>
              </a:rPr>
              <a:t>我是不喜欢放风筝的，我的一个小兄弟是喜欢放风筝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dff"/>
                </a:solidFill>
                <a:latin typeface="Comic Sans MS"/>
              </a:rPr>
              <a:t>　　我的父亲死去之后，家里没有钱了。我的兄弟无论怎么热心，也得不到一个风筝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dff"/>
                </a:solidFill>
                <a:latin typeface="Comic Sans MS"/>
              </a:rPr>
              <a:t>　　一天午后，我走到一间从来不用的屋子里，看见我的兄弟，正躲在里面糊风筝，有支竹丝，是自己削的，几张皮纸，是自己买的，有四个风轮，已经糊好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dff"/>
                </a:solidFill>
                <a:latin typeface="Comic Sans MS"/>
              </a:rPr>
              <a:t>　　我是不喜欢放风筝的，也最讨厌他放风筝。我便生气，踏碎了风轮，拆了竹丝，将纸也撕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dff"/>
                </a:solidFill>
                <a:latin typeface="Comic Sans MS"/>
              </a:rPr>
              <a:t>　　我的兄弟哭着出去了，悄然地在廊下坐着，以后怎样，我那时没有理会，都不知道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dff"/>
                </a:solidFill>
                <a:latin typeface="Comic Sans MS"/>
              </a:rPr>
              <a:t>　　我后来悟到我的错处，我的兄弟却将我这错处全忘了，他总是很要好的叫我“哥哥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dff"/>
                </a:solidFill>
                <a:latin typeface="Comic Sans MS"/>
              </a:rPr>
              <a:t>　　我很抱歉，将这事说给他听，他却连影子都记不起了。他仍是很要好的叫“哥哥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dff"/>
                </a:solidFill>
                <a:latin typeface="Comic Sans MS"/>
              </a:rPr>
              <a:t>　　阿！我的兄弟。你没有记得我的错处，我能请你原谅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dff"/>
                </a:solidFill>
                <a:latin typeface="Comic Sans MS"/>
              </a:rPr>
              <a:t>　　然而还是请你原谅罢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635280" y="1125360"/>
            <a:ext cx="1757520" cy="38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我的兄弟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902120" y="1969920"/>
            <a:ext cx="8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Comic Sans MS"/>
              </a:rPr>
              <a:t>试从语言、主题、写法上比较课文及《我的兄弟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1835280" y="2637000"/>
          <a:ext cx="6480000" cy="3041640"/>
        </p:xfrm>
        <a:graphic>
          <a:graphicData uri="http://schemas.openxmlformats.org/drawingml/2006/table">
            <a:tbl>
              <a:tblPr/>
              <a:tblGrid>
                <a:gridCol w="1871640"/>
                <a:gridCol w="2089080"/>
                <a:gridCol w="25192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9999"/>
                          </a:solidFill>
                          <a:latin typeface="Comic Sans MS"/>
                        </a:rPr>
                        <a:t>　　文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9999"/>
                          </a:solidFill>
                          <a:latin typeface="Comic Sans MS"/>
                        </a:rPr>
                        <a:t>比较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1ae6"/>
                      </a:solidFill>
                    </a:lnL>
                    <a:lnR w="5760">
                      <a:solidFill>
                        <a:srgbClr val="4b1ae6"/>
                      </a:solidFill>
                    </a:lnR>
                    <a:lnT w="5760">
                      <a:solidFill>
                        <a:srgbClr val="4b1ae6"/>
                      </a:solidFill>
                    </a:lnT>
                    <a:lnB w="5760">
                      <a:solidFill>
                        <a:srgbClr val="4b1ae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9999"/>
                          </a:solidFill>
                          <a:latin typeface="Comic Sans MS"/>
                        </a:rPr>
                        <a:t>课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1ae6"/>
                      </a:solidFill>
                    </a:lnL>
                    <a:lnR w="5760">
                      <a:solidFill>
                        <a:srgbClr val="4b1ae6"/>
                      </a:solidFill>
                    </a:lnR>
                    <a:lnT w="5760">
                      <a:solidFill>
                        <a:srgbClr val="4b1ae6"/>
                      </a:solidFill>
                    </a:lnT>
                    <a:lnB w="5760">
                      <a:solidFill>
                        <a:srgbClr val="4b1ae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9999"/>
                          </a:solidFill>
                          <a:latin typeface="Comic Sans MS"/>
                        </a:rPr>
                        <a:t>《我的兄弟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1ae6"/>
                      </a:solidFill>
                    </a:lnL>
                    <a:lnR w="5760">
                      <a:solidFill>
                        <a:srgbClr val="4b1ae6"/>
                      </a:solidFill>
                    </a:lnR>
                    <a:lnT w="5760">
                      <a:solidFill>
                        <a:srgbClr val="4b1ae6"/>
                      </a:solidFill>
                    </a:lnT>
                    <a:lnB w="5760">
                      <a:solidFill>
                        <a:srgbClr val="4b1ae6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9999"/>
                          </a:solidFill>
                          <a:latin typeface="Comic Sans MS"/>
                        </a:rPr>
                        <a:t>语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1ae6"/>
                      </a:solidFill>
                    </a:lnL>
                    <a:lnR w="5760">
                      <a:solidFill>
                        <a:srgbClr val="4b1ae6"/>
                      </a:solidFill>
                    </a:lnR>
                    <a:lnT w="5760">
                      <a:solidFill>
                        <a:srgbClr val="4b1ae6"/>
                      </a:solidFill>
                    </a:lnT>
                    <a:lnB w="5760">
                      <a:solidFill>
                        <a:srgbClr val="4b1ae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1ae6"/>
                      </a:solidFill>
                    </a:lnL>
                    <a:lnR w="5760">
                      <a:solidFill>
                        <a:srgbClr val="4b1ae6"/>
                      </a:solidFill>
                    </a:lnR>
                    <a:lnT w="5760">
                      <a:solidFill>
                        <a:srgbClr val="4b1ae6"/>
                      </a:solidFill>
                    </a:lnT>
                    <a:lnB w="5760">
                      <a:solidFill>
                        <a:srgbClr val="4b1ae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1ae6"/>
                      </a:solidFill>
                    </a:lnL>
                    <a:lnR w="5760">
                      <a:solidFill>
                        <a:srgbClr val="4b1ae6"/>
                      </a:solidFill>
                    </a:lnR>
                    <a:lnT w="5760">
                      <a:solidFill>
                        <a:srgbClr val="4b1ae6"/>
                      </a:solidFill>
                    </a:lnT>
                    <a:lnB w="5760">
                      <a:solidFill>
                        <a:srgbClr val="4b1ae6"/>
                      </a:solidFill>
                    </a:lnB>
                    <a:noFill/>
                  </a:tcPr>
                </a:tc>
              </a:tr>
              <a:tr h="88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9999"/>
                          </a:solidFill>
                          <a:latin typeface="Comic Sans MS"/>
                        </a:rPr>
                        <a:t>主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1ae6"/>
                      </a:solidFill>
                    </a:lnL>
                    <a:lnR w="5760">
                      <a:solidFill>
                        <a:srgbClr val="4b1ae6"/>
                      </a:solidFill>
                    </a:lnR>
                    <a:lnT w="5760">
                      <a:solidFill>
                        <a:srgbClr val="4b1ae6"/>
                      </a:solidFill>
                    </a:lnT>
                    <a:lnB w="5760">
                      <a:solidFill>
                        <a:srgbClr val="4b1ae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1ae6"/>
                      </a:solidFill>
                    </a:lnL>
                    <a:lnR w="5760">
                      <a:solidFill>
                        <a:srgbClr val="4b1ae6"/>
                      </a:solidFill>
                    </a:lnR>
                    <a:lnT w="5760">
                      <a:solidFill>
                        <a:srgbClr val="4b1ae6"/>
                      </a:solidFill>
                    </a:lnT>
                    <a:lnB w="5760">
                      <a:solidFill>
                        <a:srgbClr val="4b1ae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1ae6"/>
                      </a:solidFill>
                    </a:lnL>
                    <a:lnR w="5760">
                      <a:solidFill>
                        <a:srgbClr val="4b1ae6"/>
                      </a:solidFill>
                    </a:lnR>
                    <a:lnT w="5760">
                      <a:solidFill>
                        <a:srgbClr val="4b1ae6"/>
                      </a:solidFill>
                    </a:lnT>
                    <a:lnB w="5760">
                      <a:solidFill>
                        <a:srgbClr val="4b1ae6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9999"/>
                          </a:solidFill>
                          <a:latin typeface="Comic Sans MS"/>
                        </a:rPr>
                        <a:t>写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1ae6"/>
                      </a:solidFill>
                    </a:lnL>
                    <a:lnR w="5760">
                      <a:solidFill>
                        <a:srgbClr val="4b1ae6"/>
                      </a:solidFill>
                    </a:lnR>
                    <a:lnT w="5760">
                      <a:solidFill>
                        <a:srgbClr val="4b1ae6"/>
                      </a:solidFill>
                    </a:lnT>
                    <a:lnB w="5760">
                      <a:solidFill>
                        <a:srgbClr val="4b1ae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1ae6"/>
                      </a:solidFill>
                    </a:lnL>
                    <a:lnR w="5760">
                      <a:solidFill>
                        <a:srgbClr val="4b1ae6"/>
                      </a:solidFill>
                    </a:lnR>
                    <a:lnT w="5760">
                      <a:solidFill>
                        <a:srgbClr val="4b1ae6"/>
                      </a:solidFill>
                    </a:lnT>
                    <a:lnB w="5760">
                      <a:solidFill>
                        <a:srgbClr val="4b1ae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1ae6"/>
                      </a:solidFill>
                    </a:lnL>
                    <a:lnR w="5760">
                      <a:solidFill>
                        <a:srgbClr val="4b1ae6"/>
                      </a:solidFill>
                    </a:lnR>
                    <a:lnT w="5760">
                      <a:solidFill>
                        <a:srgbClr val="4b1ae6"/>
                      </a:solidFill>
                    </a:lnT>
                    <a:lnB w="5760">
                      <a:solidFill>
                        <a:srgbClr val="4b1ae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763640" y="620640"/>
            <a:ext cx="1224000" cy="11206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3203640" y="333360"/>
            <a:ext cx="3529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拓展与练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81" name=""/>
          <p:cNvSpPr txBox="1"/>
          <p:nvPr/>
        </p:nvSpPr>
        <p:spPr>
          <a:xfrm rot="5400000">
            <a:off x="-901440" y="3213000"/>
            <a:ext cx="3384360" cy="790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99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宋体"/>
              </a:rPr>
              <a:t>比较阅读</a:t>
            </a:r>
            <a:endParaRPr b="0" lang="en-US" sz="1800" spc="1" strike="noStrike">
              <a:ln w="12600">
                <a:solidFill>
                  <a:srgbClr val="ff99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82" name=""/>
          <p:cNvSpPr/>
          <p:nvPr/>
        </p:nvSpPr>
        <p:spPr>
          <a:xfrm>
            <a:off x="1260360" y="2133720"/>
            <a:ext cx="647640" cy="215640"/>
          </a:xfrm>
          <a:prstGeom prst="rightArrow">
            <a:avLst>
              <a:gd name="adj1" fmla="val 50000"/>
              <a:gd name="adj2" fmla="val 75083"/>
            </a:avLst>
          </a:prstGeom>
          <a:solidFill>
            <a:srgbClr val="4b1a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727320" y="3716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平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584960" y="371628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形象、生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51280" y="4221000"/>
            <a:ext cx="216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主题明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思想深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443640" y="4437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单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00840" y="5157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以小见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513480" y="51577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简单地叙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4356000" y="2637000"/>
            <a:ext cx="365760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谢谢！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407" dur="2000" fill="hold"/>
                                        <p:tgtEl>
                                          <p:spTgt spid="290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71280" y="1628280"/>
            <a:ext cx="4464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900" spc="-1" strike="noStrike">
                <a:solidFill>
                  <a:srgbClr val="ff9900"/>
                </a:solidFill>
                <a:latin typeface="Comic Sans MS"/>
                <a:ea typeface="隶书"/>
              </a:rPr>
              <a:t>风　筝</a:t>
            </a:r>
            <a:endParaRPr b="0" lang="en-US" sz="9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4096800" y="3429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cc"/>
                </a:solidFill>
                <a:latin typeface="Arial"/>
                <a:ea typeface="方正舒体"/>
              </a:rPr>
              <a:t>鲁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54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58560" y="1844280"/>
            <a:ext cx="727236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2fb5df"/>
                </a:solidFill>
                <a:latin typeface="Comic Sans MS"/>
              </a:rPr>
              <a:t>令我</a:t>
            </a:r>
            <a:r>
              <a:rPr b="0" lang="zh-CN" sz="6600" spc="-1" strike="noStrike" u="sng">
                <a:solidFill>
                  <a:srgbClr val="2fb5df"/>
                </a:solidFill>
                <a:uFillTx/>
                <a:latin typeface="Comic Sans MS"/>
              </a:rPr>
              <a:t>　　　</a:t>
            </a:r>
            <a:r>
              <a:rPr b="0" lang="zh-CN" sz="6600" spc="-1" strike="noStrike">
                <a:solidFill>
                  <a:srgbClr val="2fb5df"/>
                </a:solidFill>
                <a:latin typeface="Comic Sans MS"/>
              </a:rPr>
              <a:t>的风筝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851280" y="1989000"/>
            <a:ext cx="86508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6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?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54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58560" y="1844280"/>
            <a:ext cx="727236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2fb5df"/>
                </a:solidFill>
                <a:latin typeface="Comic Sans MS"/>
              </a:rPr>
              <a:t>令我</a:t>
            </a:r>
            <a:r>
              <a:rPr b="0" lang="zh-CN" sz="6600" spc="-1" strike="noStrike" u="sng">
                <a:solidFill>
                  <a:srgbClr val="2fb5df"/>
                </a:solidFill>
                <a:uFillTx/>
                <a:latin typeface="Comic Sans MS"/>
              </a:rPr>
              <a:t>　　　</a:t>
            </a:r>
            <a:r>
              <a:rPr b="0" lang="zh-CN" sz="6600" spc="-1" strike="noStrike">
                <a:solidFill>
                  <a:srgbClr val="2fb5df"/>
                </a:solidFill>
                <a:latin typeface="Comic Sans MS"/>
              </a:rPr>
              <a:t>的风筝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41640" y="24922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cc"/>
                </a:solidFill>
                <a:latin typeface="Arial"/>
                <a:ea typeface="华文行楷"/>
              </a:rPr>
              <a:t>悲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3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3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1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2" dur="7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3" dur="75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4" dur="750" fill="hold">
                                          <p:stCondLst>
                                            <p:cond delay="22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 rot="5400000">
            <a:off x="1653840" y="9000"/>
            <a:ext cx="5977080" cy="6767640"/>
          </a:xfrm>
          <a:prstGeom prst="flowChartMultidocument">
            <a:avLst/>
          </a:prstGeom>
          <a:gradFill rotWithShape="0">
            <a:gsLst>
              <a:gs pos="0">
                <a:srgbClr val="ffffff">
                  <a:alpha val="52156"/>
                </a:srgbClr>
              </a:gs>
              <a:gs pos="100000">
                <a:srgbClr val="dfb26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5ff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92360" y="691920"/>
            <a:ext cx="6192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Comic Sans MS"/>
                <a:ea typeface="隶书"/>
              </a:rPr>
              <a:t>什么事情让“我”再见到风筝时如此“</a:t>
            </a:r>
            <a:r>
              <a:rPr b="0" lang="zh-CN" sz="4800" spc="-1" strike="noStrike">
                <a:solidFill>
                  <a:srgbClr val="ff33cc"/>
                </a:solidFill>
                <a:latin typeface="Comic Sans MS"/>
                <a:ea typeface="隶书"/>
              </a:rPr>
              <a:t>悲哀</a:t>
            </a:r>
            <a:r>
              <a:rPr b="0" lang="zh-CN" sz="4800" spc="-1" strike="noStrike">
                <a:solidFill>
                  <a:srgbClr val="0000ff"/>
                </a:solidFill>
                <a:latin typeface="Comic Sans MS"/>
                <a:ea typeface="隶书"/>
              </a:rPr>
              <a:t>”？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122560" y="3141720"/>
            <a:ext cx="59054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Comic Sans MS"/>
                <a:ea typeface="隶书"/>
              </a:rPr>
              <a:t>“</a:t>
            </a:r>
            <a:r>
              <a:rPr b="0" lang="zh-CN" sz="4800" spc="-1" strike="noStrike">
                <a:solidFill>
                  <a:srgbClr val="0000ff"/>
                </a:solidFill>
                <a:latin typeface="Comic Sans MS"/>
                <a:ea typeface="隶书"/>
              </a:rPr>
              <a:t>我”是否想过办法去摆脱这种“</a:t>
            </a:r>
            <a:r>
              <a:rPr b="0" lang="zh-CN" sz="4800" spc="-1" strike="noStrike">
                <a:solidFill>
                  <a:srgbClr val="ff33cc"/>
                </a:solidFill>
                <a:latin typeface="Comic Sans MS"/>
                <a:ea typeface="隶书"/>
              </a:rPr>
              <a:t>悲哀</a:t>
            </a:r>
            <a:r>
              <a:rPr b="0" lang="zh-CN" sz="4800" spc="-1" strike="noStrike">
                <a:solidFill>
                  <a:srgbClr val="0000ff"/>
                </a:solidFill>
                <a:latin typeface="Comic Sans MS"/>
                <a:ea typeface="隶书"/>
              </a:rPr>
              <a:t>”的境地呢？效果如何？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1297080" cy="10810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826920" y="3500280"/>
            <a:ext cx="1224000" cy="102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156040" y="1484280"/>
            <a:ext cx="84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隶书"/>
                <a:ea typeface="隶书"/>
              </a:rPr>
              <a:t>1</a:t>
            </a:r>
            <a:r>
              <a:rPr b="1" lang="zh-CN" sz="4000" spc="-1" strike="noStrike">
                <a:solidFill>
                  <a:srgbClr val="ff6600"/>
                </a:solidFill>
                <a:latin typeface="隶书"/>
                <a:ea typeface="隶书"/>
              </a:rPr>
              <a:t>、注音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77240" y="2517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Comic Sans MS"/>
              </a:rPr>
              <a:t>秃</a:t>
            </a:r>
            <a:r>
              <a:rPr b="1" lang="zh-CN" sz="2400" spc="-1" strike="noStrike">
                <a:solidFill>
                  <a:srgbClr val="00b200"/>
                </a:solidFill>
                <a:latin typeface="Comic Sans MS"/>
              </a:rPr>
              <a:t>树</a:t>
            </a:r>
            <a:r>
              <a:rPr b="1" lang="zh-CN" sz="2400" spc="-1" strike="noStrike">
                <a:solidFill>
                  <a:srgbClr val="ff00ff"/>
                </a:solidFill>
                <a:latin typeface="Comic Sans MS"/>
              </a:rPr>
              <a:t>丫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64920" y="3238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Comic Sans MS"/>
              </a:rPr>
              <a:t>嫌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99560" y="3962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200"/>
                </a:solidFill>
                <a:latin typeface="Comic Sans MS"/>
              </a:rPr>
              <a:t>苦心孤</a:t>
            </a:r>
            <a:r>
              <a:rPr b="1" lang="zh-CN" sz="2400" spc="-1" strike="noStrike">
                <a:solidFill>
                  <a:srgbClr val="ff00ff"/>
                </a:solidFill>
                <a:latin typeface="Comic Sans MS"/>
              </a:rPr>
              <a:t>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51080" y="25178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Comic Sans MS"/>
              </a:rPr>
              <a:t>憔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27440" y="321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Comic Sans MS"/>
              </a:rPr>
              <a:t>瑟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20440" y="3957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Comic Sans MS"/>
              </a:rPr>
              <a:t>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94000" y="3957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Comic Sans MS"/>
              </a:rPr>
              <a:t>虐</a:t>
            </a:r>
            <a:r>
              <a:rPr b="1" lang="zh-CN" sz="2400" spc="-1" strike="noStrike">
                <a:solidFill>
                  <a:srgbClr val="00b200"/>
                </a:solidFill>
                <a:latin typeface="Comic Sans MS"/>
              </a:rPr>
              <a:t>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23720" y="3213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Comic Sans MS"/>
              </a:rPr>
              <a:t>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700360" y="260280"/>
            <a:ext cx="3311640" cy="112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检查预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179" name=""/>
          <p:cNvSpPr/>
          <p:nvPr/>
        </p:nvSpPr>
        <p:spPr>
          <a:xfrm>
            <a:off x="3090960" y="251784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Comic Sans MS"/>
              </a:rPr>
              <a:t>tū   yā   ch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02040" y="251784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Comic Sans MS"/>
              </a:rPr>
              <a:t>qiáo   cu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45280" y="3238560"/>
            <a:ext cx="15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Comic Sans MS"/>
              </a:rPr>
              <a:t>xián   w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424280" y="3238560"/>
            <a:ext cx="7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Comic Sans MS"/>
              </a:rPr>
              <a:t>du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9920" y="3238560"/>
            <a:ext cx="12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Comic Sans MS"/>
              </a:rPr>
              <a:t>sè  su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38600" y="3957480"/>
            <a:ext cx="44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y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30840" y="3957480"/>
            <a:ext cx="7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n</a:t>
            </a: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ü</a:t>
            </a: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726240" y="3957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Comic Sans MS"/>
              </a:rPr>
              <a:t>zh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500720" y="4869000"/>
            <a:ext cx="124776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651320" y="1413000"/>
            <a:ext cx="84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隶书"/>
                <a:ea typeface="隶书"/>
              </a:rPr>
              <a:t>2</a:t>
            </a:r>
            <a:r>
              <a:rPr b="1" lang="zh-CN" sz="4000" spc="-1" strike="noStrike">
                <a:solidFill>
                  <a:srgbClr val="ff6600"/>
                </a:solidFill>
                <a:latin typeface="隶书"/>
                <a:ea typeface="隶书"/>
              </a:rPr>
              <a:t>、解词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37000" y="2852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Comic Sans MS"/>
              </a:rPr>
              <a:t>伶仃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737000" y="4724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Comic Sans MS"/>
              </a:rPr>
              <a:t>嫌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90640" y="4149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Comic Sans MS"/>
              </a:rPr>
              <a:t>苦心孤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37000" y="2205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Comic Sans MS"/>
              </a:rPr>
              <a:t>憔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313360" y="5373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Comic Sans MS"/>
              </a:rPr>
              <a:t>诀别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65720" y="3500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Comic Sans MS"/>
              </a:rPr>
              <a:t>肃杀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700360" y="260280"/>
            <a:ext cx="3311640" cy="112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检查预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196" name=""/>
          <p:cNvSpPr/>
          <p:nvPr/>
        </p:nvSpPr>
        <p:spPr>
          <a:xfrm>
            <a:off x="4303800" y="28526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Comic Sans MS"/>
              </a:rPr>
              <a:t>孤独，没有依靠；瘦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456080" y="22050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Comic Sans MS"/>
              </a:rPr>
              <a:t>形容人瘦弱，面色不好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52480" y="472428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Comic Sans MS"/>
              </a:rPr>
              <a:t>厌恶、反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290840" y="53737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Comic Sans MS"/>
              </a:rPr>
              <a:t>决绝，断绝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743360" y="41497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Comic Sans MS"/>
              </a:rPr>
              <a:t>煞费苦心，煞有介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82960" y="35002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Comic Sans MS"/>
              </a:rPr>
              <a:t>形容秋冬天气寒冷，草木枯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732720" y="4941720"/>
            <a:ext cx="1247760" cy="14097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1476360" y="260280"/>
            <a:ext cx="11336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95280" y="404280"/>
            <a:ext cx="5181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Comic Sans MS"/>
                <a:ea typeface="隶书"/>
              </a:rPr>
              <a:t>什么事情让“我”再见到风筝时如此“悲哀”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1019160" cy="10810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908000" y="2492280"/>
            <a:ext cx="60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66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ff9966"/>
                </a:solidFill>
                <a:latin typeface="Comic Sans MS"/>
              </a:rPr>
              <a:t>、默读课文第三、四段，准备复述故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6516720" y="4724280"/>
            <a:ext cx="1942920" cy="15098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95280" y="1628640"/>
            <a:ext cx="1655640" cy="3816360"/>
          </a:xfrm>
          <a:custGeom>
            <a:avLst/>
            <a:gdLst>
              <a:gd name="textAreaLeft" fmla="*/ 221760 w 1655640"/>
              <a:gd name="textAreaRight" fmla="*/ 1433880 w 1655640"/>
              <a:gd name="textAreaTop" fmla="*/ 745200 h 3816360"/>
              <a:gd name="textAreaBottom" fmla="*/ 26136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437" stAng="-5400000" swAng="-5400000"/>
                <a:lnTo>
                  <a:pt x="0" y="10574"/>
                </a:lnTo>
                <a:arcTo wR="21600" hR="8437" stAng="10800000" swAng="-2993142"/>
                <a:lnTo>
                  <a:pt x="14848" y="21177"/>
                </a:lnTo>
                <a:lnTo>
                  <a:pt x="21600" y="17943"/>
                </a:lnTo>
                <a:lnTo>
                  <a:pt x="14848" y="13862"/>
                </a:lnTo>
                <a:lnTo>
                  <a:pt x="14848" y="16451"/>
                </a:lnTo>
                <a:arcTo wR="21600" hR="8437" stAng="7806858" swAng="2821847"/>
                <a:lnTo>
                  <a:pt x="174" y="9506"/>
                </a:lnTo>
                <a:arcTo wR="21600" hR="8437" stAng="-10628704" swAng="5228704"/>
                <a:close/>
              </a:path>
              <a:path fill="darkenLess" w="21600" h="21600">
                <a:moveTo>
                  <a:pt x="21600" y="0"/>
                </a:moveTo>
                <a:arcTo wR="21600" hR="8437" stAng="-5400000" swAng="-5400000"/>
                <a:lnTo>
                  <a:pt x="0" y="8437"/>
                </a:lnTo>
                <a:arcTo wR="21600" hR="8437" stAng="10800000" swAng="-171296"/>
                <a:lnTo>
                  <a:pt x="174" y="9506"/>
                </a:lnTo>
                <a:arcTo wR="21600" hR="8437" stAng="-10628704" swAng="5228704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68360" y="3716280"/>
            <a:ext cx="48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Comic Sans MS"/>
              </a:rPr>
              <a:t>（</a:t>
            </a:r>
            <a:r>
              <a:rPr b="1" lang="zh-CN" sz="3600" spc="-1" strike="noStrike">
                <a:solidFill>
                  <a:srgbClr val="ff33cc"/>
                </a:solidFill>
                <a:latin typeface="Comic Sans MS"/>
              </a:rPr>
              <a:t>注意：记叙的六要素及对人物的细节描写</a:t>
            </a:r>
            <a:r>
              <a:rPr b="1" lang="zh-CN" sz="3600" spc="-1" strike="noStrike">
                <a:solidFill>
                  <a:srgbClr val="ff9966"/>
                </a:solidFill>
                <a:latin typeface="Comic Sans MS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9T00:34:49Z</dcterms:created>
  <dc:creator>wutao</dc:creator>
  <dc:description/>
  <dc:language>en-US</dc:language>
  <cp:lastModifiedBy>haha</cp:lastModifiedBy>
  <dcterms:modified xsi:type="dcterms:W3CDTF">2003-04-22T02:49:49Z</dcterms:modified>
  <cp:revision>100</cp:revision>
  <dc:subject/>
  <dc:title>幻灯片 1</dc:title>
</cp:coreProperties>
</file>