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23AF-87E4-4B22-A7C8-5C8D6B08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0FE0-DCB6-4DBB-BB6E-B001151F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3A1-C589-455C-8757-013B5088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5AB-9BAB-4325-9F3B-A4CC85F8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DA9-E584-4EDA-B370-54C45FB8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651D-32C5-449C-BB08-0B31284F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B4B-1C27-405C-AA07-F6C85CC4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3EEA-4DB7-49F7-B8AC-984FF59F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0BD8-A7B6-4E36-8F61-B0C636FF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ADC0-F34B-42DC-8CA0-C6B8F9DA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AE6F-3991-4DD9-8D96-12B5DD62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F58-0503-4222-997E-0FC94A19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F01D-A498-4910-9F2B-E7E8CE96D1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62320" y="22860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cc"/>
                </a:solidFill>
                <a:latin typeface="Times New Roman"/>
                <a:ea typeface="隶书"/>
              </a:rPr>
              <a:t>风　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600200"/>
            <a:ext cx="594360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Times New Roman"/>
                <a:ea typeface="隶书"/>
              </a:rPr>
              <a:t>高鼎（清</a:t>
            </a:r>
            <a:r>
              <a:rPr b="1" lang="zh-CN" sz="5400" spc="-1" strike="noStrike">
                <a:solidFill>
                  <a:srgbClr val="cc00cc"/>
                </a:solidFill>
                <a:latin typeface="Times New Roman"/>
                <a:ea typeface="隶书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Times New Roman"/>
                <a:ea typeface="隶书"/>
              </a:rPr>
              <a:t>    </a:t>
            </a:r>
            <a:r>
              <a:rPr b="1" lang="zh-CN" sz="5400" spc="-1" strike="noStrike">
                <a:solidFill>
                  <a:srgbClr val="cc00cc"/>
                </a:solidFill>
                <a:latin typeface="Times New Roman"/>
                <a:ea typeface="隶书"/>
              </a:rPr>
              <a:t>草长莺飞二月天，　拂堤杨柳醉春烟。</a:t>
            </a:r>
            <a:r>
              <a:rPr b="1" lang="zh-CN" sz="5400" spc="-1" strike="noStrike">
                <a:solidFill>
                  <a:srgbClr val="ffff66"/>
                </a:solidFill>
                <a:latin typeface="Times New Roman"/>
                <a:ea typeface="隶书"/>
              </a:rPr>
              <a:t>          　</a:t>
            </a:r>
            <a:r>
              <a:rPr b="1" lang="zh-CN" sz="5400" spc="-1" strike="noStrike">
                <a:solidFill>
                  <a:srgbClr val="cc00cc"/>
                </a:solidFill>
                <a:latin typeface="Times New Roman"/>
                <a:ea typeface="隶书"/>
              </a:rPr>
              <a:t>儿童放学归来早，</a:t>
            </a:r>
            <a:r>
              <a:rPr b="1" lang="zh-CN" sz="5400" spc="-1" strike="noStrike">
                <a:solidFill>
                  <a:srgbClr val="ffff66"/>
                </a:solidFill>
                <a:latin typeface="Times New Roman"/>
                <a:ea typeface="隶书"/>
              </a:rPr>
              <a:t>        　</a:t>
            </a:r>
            <a:r>
              <a:rPr b="1" lang="zh-CN" sz="5400" spc="-1" strike="noStrike">
                <a:solidFill>
                  <a:srgbClr val="cc00cc"/>
                </a:solidFill>
                <a:latin typeface="Times New Roman"/>
                <a:ea typeface="隶书"/>
              </a:rPr>
              <a:t>忙趁东风放纸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50000">
              <a:srgbClr val="66ccff"/>
            </a:gs>
            <a:gs pos="100000">
              <a:srgbClr val="2f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215000" y="228600"/>
            <a:ext cx="2618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反思体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175248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6600ff"/>
                </a:solidFill>
                <a:latin typeface="Times New Roman"/>
                <a:ea typeface="华文行楷"/>
              </a:rPr>
              <a:t>请同学们点击记忆的宝库，搜索一下，在你们的身边有没有类似的事例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50000">
              <a:srgbClr val="66ccff"/>
            </a:gs>
            <a:gs pos="100000">
              <a:srgbClr val="2f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280" y="15228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作业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2133720"/>
            <a:ext cx="8991720" cy="32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课外搜集鲁迅的有关材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鲁迅网站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ttp://eluxun . Vip . myrice . 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以“</a:t>
            </a:r>
            <a:r>
              <a:rPr b="1" i="1" lang="zh-CN" sz="4000" spc="-1" strike="noStrike">
                <a:solidFill>
                  <a:srgbClr val="ff0066"/>
                </a:solidFill>
                <a:latin typeface="Times New Roman"/>
              </a:rPr>
              <a:t>严加管教其实也是一种爱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” 为主题，写一篇不少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字的文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356000" y="2637000"/>
            <a:ext cx="394992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谢谢！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66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9240" y="152280"/>
            <a:ext cx="152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66"/>
                </a:solidFill>
                <a:latin typeface="Times New Roman"/>
                <a:ea typeface="方正舒体"/>
              </a:rPr>
              <a:t>说一说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26668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放风筝的感受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808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本课学习目标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209680"/>
            <a:ext cx="8458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感悟、理解误解、冲突中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手足之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培养自主、合作、探究的能力，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进一步深化主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257800" cy="3127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6000" y="37162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代表作：小说集《呐喊》《彷徨》，散文诗集《野草》，散文集《朝花夕拾》，杂文集若干。其中《狂人日记》是中国现代文学史上的第一篇白话小说。中篇小说《阿Ｑ正传》是中国现代文学史上的杰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80000" y="765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鲁迅（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1881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－－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1936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）　现代文学家、思想家、革命家。原名周树人，字豫才，浙江绍兴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50000">
              <a:srgbClr val="66ccff"/>
            </a:gs>
            <a:gs pos="100000">
              <a:srgbClr val="2f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304920"/>
            <a:ext cx="643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cc99"/>
                </a:solidFill>
                <a:latin typeface="Times New Roman"/>
                <a:ea typeface="华文彩云"/>
              </a:rPr>
              <a:t>整体感知</a:t>
            </a:r>
            <a:r>
              <a:rPr b="0" lang="zh-CN" sz="4800" spc="-1" strike="noStrike">
                <a:solidFill>
                  <a:srgbClr val="ffcc99"/>
                </a:solidFill>
                <a:latin typeface="Times New Roman"/>
                <a:ea typeface="华文彩云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09680"/>
            <a:ext cx="952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见风筝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人之常情是愉快的，为什么“在‘我’是一种惊异和悲哀”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343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0" lang="zh-CN" sz="36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方法指点</a:t>
            </a:r>
            <a:r>
              <a:rPr b="0" lang="zh-CN" sz="3600" spc="-1" strike="noStrike">
                <a:solidFill>
                  <a:srgbClr val="ff9900"/>
                </a:solidFill>
                <a:latin typeface="Times New Roman"/>
                <a:ea typeface="隶书"/>
              </a:rPr>
              <a:t>：要理解一句话的含义，可以通过阅读这句话所在文字的上文，同时联系下文来理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50000">
              <a:srgbClr val="66ccff"/>
            </a:gs>
            <a:gs pos="100000">
              <a:srgbClr val="2f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80880"/>
            <a:ext cx="80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cc99"/>
                </a:solidFill>
                <a:latin typeface="Times New Roman"/>
                <a:ea typeface="华文行楷"/>
              </a:rPr>
              <a:t>合作探究：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286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整体上感知文本内容后，请你谈谈对文中的“我”和小兄弟两个人物的看法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zyb</cp:lastModifiedBy>
  <dcterms:modified xsi:type="dcterms:W3CDTF">2004-12-02T06:57:34Z</dcterms:modified>
  <cp:revision>100</cp:revision>
  <dc:subject/>
  <dc:title>PowerPoint Presentation</dc:title>
</cp:coreProperties>
</file>