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6.jpeg" ContentType="image/jpeg"/>
  <Override PartName="/ppt/media/chimes.wav" ContentType="audio/x-wav"/>
  <Override PartName="/ppt/media/image8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FAD-32E5-4006-A1F2-1425ADC8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4A2-780C-41D0-8513-52AB4F3F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8BC-EC86-4CA2-8F0F-BE158F51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24D-E055-440B-97E4-1DE2447A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597-277E-494D-8AEA-7A5FD99D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01D-7B90-4C55-99E1-B1A48349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639-94F3-4D2C-9EB0-B20142C4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78F-8456-4542-A013-87990500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FCD-128B-45F0-916A-B010BD1E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362-276D-4145-B59E-D371BE62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23D-E2CB-42AD-824B-26C1393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1E5-D6A7-4746-9C59-EBAFE85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C711-CEE2-4D28-A6CC-790F85AE11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1527120"/>
            <a:ext cx="829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欢迎进入语文课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8392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33520"/>
            <a:ext cx="489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交流反思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860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文中说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游戏是儿童最正当的行为，玩具是儿童的天使”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小时候也做过许多游戏，玩过不少玩具吧？请你选一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最难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说给同学们听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89280" y="2666880"/>
            <a:ext cx="577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隶书"/>
              </a:rPr>
              <a:t>尊重、理解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034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14400" y="777960"/>
            <a:ext cx="18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5596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600200" y="838080"/>
            <a:ext cx="5486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风筝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48520" y="525780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鲁迅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997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9640" y="260280"/>
            <a:ext cx="547344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鲁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81-193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文学家、思想家和革命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原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周树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字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豫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浙江绍兴人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，首次用笔名“鲁迅”发表中国现代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文学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第一篇白话文小说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《狂人日记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奠定了新文化运动的基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221000"/>
            <a:ext cx="8353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主要作品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说集《呐喊》、《彷徨》、《故事新编》；散文集《朝花夕拾》；散文诗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《野草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杂文集《二心集》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39840" y="1995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844640"/>
            <a:ext cx="792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筝    秃     蟹     蕾     堕     丫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寂寞     憔悴     肃杀      </a:t>
            </a: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黑体"/>
              </a:rPr>
              <a:t>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别    荡漾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笑柄      可鄙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物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惊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缩     傲然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杀     宽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恕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189000"/>
            <a:ext cx="165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读一读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12682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3789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378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5013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013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ü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67640" y="501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5013360"/>
            <a:ext cx="8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04920" y="53352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整体感知：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125360"/>
            <a:ext cx="85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本文回忆的是什么事情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请你</a:t>
            </a:r>
            <a:r>
              <a:rPr b="1" lang="zh-CN" sz="3200" spc="-1" strike="noStrike">
                <a:solidFill>
                  <a:srgbClr val="9900cc"/>
                </a:solidFill>
                <a:latin typeface="隶书"/>
                <a:ea typeface="隶书"/>
              </a:rPr>
              <a:t>概述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一下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你读了本文以后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有哪些</a:t>
            </a:r>
            <a:r>
              <a:rPr b="1" lang="zh-CN" sz="3200" spc="-1" strike="noStrike">
                <a:solidFill>
                  <a:srgbClr val="00ccff"/>
                </a:solidFill>
                <a:latin typeface="隶书"/>
                <a:ea typeface="隶书"/>
              </a:rPr>
              <a:t>感受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92360" y="476280"/>
            <a:ext cx="590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自主质疑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2096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　以四人小组为单位，小组内互问互答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请把小组内意见分歧或不能解决的问题记在纸上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大家一起讨论解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1219320"/>
            <a:ext cx="831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听第四小节录音，思考哪些词语用得好。并说明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理由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２、“我”看到了一本外国的讲论儿童的书，为什么说是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不幸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３、“我”讨弟弟的宽恕，弟弟全然忘记了，为什么“我”的心情反而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沉重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４、末段为什么说“悲哀”是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无可把握的悲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？为什么说“我倒不如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躲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到肃杀的严冬中去吧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?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但是，四面又明明是严冬，正给我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非常的寒威和冷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中的“非常的寒威与冷气”除形容天气外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没有别的含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20755200">
            <a:off x="178920" y="333000"/>
            <a:ext cx="2040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问题探究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6858000"/>
            <a:ext cx="9144000" cy="74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59040" y="109584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毁风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13716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14520" y="608040"/>
            <a:ext cx="790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弟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40960" y="5731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愤怒、满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362320"/>
            <a:ext cx="32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悲痛、绝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1523880"/>
            <a:ext cx="55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抓断、掷、踏、傲然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8720" y="29718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惊惶、失色、瑟缩、绝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28600"/>
            <a:ext cx="549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380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cc00"/>
                </a:solidFill>
                <a:latin typeface="Arial"/>
                <a:ea typeface="楷体_GB2312"/>
              </a:rPr>
              <a:t>拓展延伸</a:t>
            </a:r>
            <a:r>
              <a:rPr b="0" lang="zh-CN" sz="8000" spc="-1" strike="noStrike">
                <a:solidFill>
                  <a:srgbClr val="ffcc00"/>
                </a:solidFill>
                <a:latin typeface="Arial"/>
              </a:rPr>
              <a:t>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438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9900cc"/>
                </a:solidFill>
                <a:latin typeface="Arial"/>
              </a:rPr>
              <a:t>用“从——句（段），我看到了一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9900cc"/>
                </a:solidFill>
                <a:latin typeface="Arial"/>
              </a:rPr>
              <a:t>的鲁迅”的句式说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1:50:11Z</dcterms:created>
  <dc:creator>wutao</dc:creator>
  <dc:description/>
  <dc:language>en-US</dc:language>
  <cp:lastModifiedBy>多媒体教室</cp:lastModifiedBy>
  <dcterms:modified xsi:type="dcterms:W3CDTF">2002-03-10T11:55:46Z</dcterms:modified>
  <cp:revision>100</cp:revision>
  <dc:subject/>
  <dc:title>没有幻灯片标题</dc:title>
</cp:coreProperties>
</file>