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11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3B0-7495-4A53-B06D-7674FE50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A95-6BEE-43AC-99ED-4CA32DAB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60F-A0EB-4021-BDE5-BC705C5A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A69-3644-4F50-9711-43E9FF7A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3A7-D608-49A5-94AE-C6A04D34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6B8D-040D-4305-AEDB-DB06BB0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1B3-7559-47C4-B5F0-805F11A9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1CF-54F9-40CD-806D-07BC9A8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24D-022F-4E10-9CA3-3E79F63F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05F-A71C-46BC-B725-D4D2E2B5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F229-D4B0-433F-9B1F-D9C2290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225-AEC7-4BA4-AE6C-B6C3B5C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394-5608-4833-AFC8-C9B5771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733-FE9F-4B32-A147-BD60FE4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6D69-9FE4-4754-951E-4487050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B2D-D53A-442C-A06F-0A34DE17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57BC-403A-4302-B29B-17DBA7C1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866-CC9F-4D1F-81AD-75CC15F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BEC-8DDA-4A10-BB0A-32EFDC7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415-6190-433A-86AB-95B4282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821-69C4-4736-9FD6-3D5BA53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D4C-61A3-4A62-B60C-13067F5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348-703C-4A26-87FE-58093DE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C85-6E95-4DDF-8F2F-9485232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51F-8D25-4035-8E85-DA546FB0389A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7D2-D243-416B-8D7B-7217C390B761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风筝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77320" y="609588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美术边框1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743200" y="228600"/>
            <a:ext cx="4419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关于文章的主题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124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儿童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114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批判封建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181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作者的自我解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兄弟手足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美术边框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38080" y="609480"/>
            <a:ext cx="3429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课外拓展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209680"/>
            <a:ext cx="8229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课外阅读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《朝花夕拾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728800" y="2695680"/>
            <a:ext cx="36864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再见！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61" name="gifbj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34" descr=""/>
          <p:cNvPicPr/>
          <p:nvPr/>
        </p:nvPicPr>
        <p:blipFill>
          <a:blip r:embed="rId1"/>
          <a:stretch/>
        </p:blipFill>
        <p:spPr>
          <a:xfrm>
            <a:off x="-838080" y="0"/>
            <a:ext cx="10820160" cy="7332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838080"/>
            <a:ext cx="40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童放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-185760"/>
          <a:ext cx="19354680" cy="70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85760"/>
                    <a:ext cx="1935468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666880" y="45720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风   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152388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鲁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原名周树人，浙江绍兴人。我国现代伟大的文学家、思想家、革命家</a:t>
            </a:r>
            <a:r>
              <a:rPr b="1" lang="zh-CN" sz="9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u036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12408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38088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0"/>
            <a:ext cx="40388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作者知多少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581280"/>
            <a:ext cx="563868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周氏三兄弟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树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周作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5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67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散文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建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888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8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生物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家、社会活动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美术边框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352680" y="304920"/>
            <a:ext cx="342900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整体感知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16765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听课文录音，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1240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作文回忆的是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791320"/>
            <a:ext cx="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7102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阅读一、二自然段，讨论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我”看到“远处有一二风筝浮动”时，是一种什么样的心情？为什么会有这种心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花" descr=""/>
          <p:cNvPicPr/>
          <p:nvPr/>
        </p:nvPicPr>
        <p:blipFill>
          <a:blip r:embed="rId2"/>
          <a:stretch/>
        </p:blipFill>
        <p:spPr>
          <a:xfrm>
            <a:off x="5627520" y="3276720"/>
            <a:ext cx="351648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228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阅读三、四自然段，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“我”对小兄弟放风筝是什么态度？为什么会有这样的态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小兄弟对待风筝又是什么态度？你从哪些地方看出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419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、“我”对小兄弟放风筝采取了哪些措施进行严厉管教？小兄弟自己认为放风筝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黄花" descr=""/>
          <p:cNvPicPr/>
          <p:nvPr/>
        </p:nvPicPr>
        <p:blipFill>
          <a:blip r:embed="rId2"/>
          <a:stretch/>
        </p:blipFill>
        <p:spPr>
          <a:xfrm>
            <a:off x="8515440" y="52578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黄花" descr=""/>
          <p:cNvPicPr/>
          <p:nvPr/>
        </p:nvPicPr>
        <p:blipFill>
          <a:blip r:embed="rId3"/>
          <a:stretch/>
        </p:blipFill>
        <p:spPr>
          <a:xfrm>
            <a:off x="7772400" y="6229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黄花" descr=""/>
          <p:cNvPicPr/>
          <p:nvPr/>
        </p:nvPicPr>
        <p:blipFill>
          <a:blip r:embed="rId4"/>
          <a:stretch/>
        </p:blipFill>
        <p:spPr>
          <a:xfrm>
            <a:off x="6553080" y="601992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背景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3808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阅读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5—12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段，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371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“我”后来如何知道自己做错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“我”知道错了应该改正，也渴望补过，结果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4343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、作者最后为什么说“悲哀”是“无可把握的悲哀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花" descr=""/>
          <p:cNvPicPr/>
          <p:nvPr/>
        </p:nvPicPr>
        <p:blipFill>
          <a:blip r:embed="rId2"/>
          <a:stretch/>
        </p:blipFill>
        <p:spPr>
          <a:xfrm>
            <a:off x="6980400" y="4191120"/>
            <a:ext cx="21636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背景1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09480" y="380880"/>
            <a:ext cx="46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讨论，探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666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隶书"/>
              </a:rPr>
              <a:t>你怎样评价文中的“我”和小兄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花" descr=""/>
          <p:cNvPicPr/>
          <p:nvPr/>
        </p:nvPicPr>
        <p:blipFill>
          <a:blip r:embed="rId2"/>
          <a:stretch/>
        </p:blipFill>
        <p:spPr>
          <a:xfrm>
            <a:off x="5784840" y="3657600"/>
            <a:ext cx="31417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34:48Z</dcterms:created>
  <dc:creator>wutao</dc:creator>
  <dc:description/>
  <dc:language>en-US</dc:language>
  <cp:lastModifiedBy>zyb</cp:lastModifiedBy>
  <dcterms:modified xsi:type="dcterms:W3CDTF">2004-12-02T06:58:31Z</dcterms:modified>
  <cp:revision>100</cp:revision>
  <dc:subject/>
  <dc:title>PowerPoint 演示文稿</dc:title>
</cp:coreProperties>
</file>