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5C5-DA9B-455E-9978-7DB8FC45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596-564C-4DC4-A4B2-3E3F7031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CDA-9E95-4F6B-8944-DAA3AA22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EED-96DC-4A97-B068-E670F89A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C21E-493C-46CF-953C-2491AD40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A502-B9B8-4A25-92CF-B688FF0C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3A7C-87B8-4C7A-9D2B-DD034BC9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23DC-CF8E-433C-8E6F-0D07C916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E007-85D9-4CB2-95F0-950530B8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0118-04BA-4EDE-B3E3-EAAF537B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A943-2F46-45B5-AB66-A4A0889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9AE-AE6D-4AC0-B4EC-0BB5B7D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A61C-B4A7-4D99-8E41-2F6CB2E9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80F5-D1E2-4FF0-A3FD-3702512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C70F-9473-47BA-BE10-552AEA95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F7B2-D737-4A3F-90AC-0696BB3A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1173-75EE-463B-9D7E-E4442E20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F56-050F-4BDD-95B0-BAD44FA1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730-E4DE-48E5-827E-13277DF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97C-D7F5-4B04-AF61-CA0E39CF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343-15DD-4C4C-ADCE-FA87544F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BA2-8BF9-4776-9E8D-866B98E3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04B-534E-479A-A8D8-671C484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6C4-3350-4B7D-BD0B-EC4D321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BDC1-B91B-42B6-9717-52F2EA24490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0CD6-D7D6-4539-B1D2-20CED843B35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38480" y="15998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隶书"/>
              </a:rPr>
              <a:t>风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隶书"/>
              </a:rPr>
              <a:t>筝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105520" y="5067360"/>
            <a:ext cx="640080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38040" y="-2427120"/>
            <a:ext cx="8469360" cy="360"/>
            <a:chOff x="338040" y="-2427120"/>
            <a:chExt cx="8469360" cy="360"/>
          </a:xfrm>
        </p:grpSpPr>
        <p:sp>
          <p:nvSpPr>
            <p:cNvPr id="91" name=""/>
            <p:cNvSpPr/>
            <p:nvPr/>
          </p:nvSpPr>
          <p:spPr>
            <a:xfrm>
              <a:off x="338040" y="-2427120"/>
              <a:ext cx="8469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38040" y="-2427120"/>
              <a:ext cx="8469360" cy="360"/>
              <a:chOff x="338040" y="-2427120"/>
              <a:chExt cx="8469360" cy="360"/>
            </a:xfrm>
          </p:grpSpPr>
          <p:sp>
            <p:nvSpPr>
              <p:cNvPr id="93" name=""/>
              <p:cNvSpPr/>
              <p:nvPr/>
            </p:nvSpPr>
            <p:spPr>
              <a:xfrm>
                <a:off x="338040" y="-2427120"/>
                <a:ext cx="8469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8040" y="-2427120"/>
                <a:ext cx="8469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5" name="zhan-cp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47676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中国现代文学之父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-----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鲁迅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问题：根据你调查的资料，你对鲁迅有多少认识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lu001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0560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作 者 简 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鲁迅  原名周树人，文学家，思想家和革命家，字豫才，浙江绍兴人，出身于破落的封建家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91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月，发表了中国第一篇白话小说《狂人日记》，大胆揭露了封建礼教的人吃人现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基 础 知 识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憔悴     荡漾     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瑟缩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堕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诀别      苦心孤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诣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恍然大悟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丫杈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嫩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自主合作探究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课文主要回忆的是什么事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读了这篇课文，你自己有什么感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自己从课文中找出最喜欢的一个句子，并说明理由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多角度探讨本文的主题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  <a:ea typeface="隶书"/>
              </a:rPr>
              <a:t>提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从封建儿童教育和陈腐观念的角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从自我解剖的角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从亲情的角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4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从追求美好事物的角度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探讨主题的答案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批判了一些人对儿童教育的不正确的态度和教育方法，对封建教育思想和陈腐的观念给予了强烈的抨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赞扬了鲁迅敢于自我批评，自我解剖的精神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当年不许兄弟放风筝，是为希望他有出息，是恨铁不成钢。一点知道自己错了，希望兄弟宽恕自己，手足之情溢于言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风筝是故乡春天的象征，是美好青春的象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语 言 训 练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憔悴可怜的模样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恍然大悟似的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论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论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他都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4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的一幕，忽然在眼前展开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7:49:24Z</dcterms:created>
  <dc:creator>wutao</dc:creator>
  <dc:description/>
  <dc:language>en-US</dc:language>
  <cp:lastModifiedBy>a</cp:lastModifiedBy>
  <dcterms:modified xsi:type="dcterms:W3CDTF">2004-12-16T05:55:07Z</dcterms:modified>
  <cp:revision>100</cp:revision>
  <dc:subject/>
  <dc:title>风 筝</dc:title>
</cp:coreProperties>
</file>