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2.jpeg" ContentType="image/jpeg"/>
  <Override PartName="/ppt/media/image11.png" ContentType="image/png"/>
  <Override PartName="/ppt/media/image7.jpeg" ContentType="image/jpeg"/>
  <Override PartName="/ppt/media/image15.gif" ContentType="image/gif"/>
  <Override PartName="/ppt/media/chimes.wav" ContentType="audio/x-wav"/>
  <Override PartName="/ppt/media/image16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8.gif" ContentType="image/gif"/>
  <Override PartName="/ppt/media/image18.jpeg" ContentType="image/jpeg"/>
  <Override PartName="/ppt/media/image24.jpeg" ContentType="image/jpeg"/>
  <Override PartName="/ppt/media/image19.gif" ContentType="image/gif"/>
  <Override PartName="/ppt/media/image1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3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909-B039-4E91-A474-B6E8720E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F54-135F-4FA5-8DC5-7D86B2D7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8B9-B962-4503-8793-EBE17D08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72D-DBE8-498A-81FE-15FAAED1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86B-056E-4A24-AD96-74AB4E43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D0F-AFC5-4EAF-AEB6-78D96EE9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3C9-7CE8-49BE-A93B-829824E9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971-1388-43DB-B25D-98BF5B5E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A39-AFB1-4495-8C0D-180C421B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1A9-BAE3-44DC-A1EB-E87FF242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B2E-CF28-41CF-A2D2-BFE59625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A35-F1E0-48C4-88CD-08098114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D346-1451-4CEB-9224-500CFB9C01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lingshan.org/content/huimo/open5.htm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15400" cy="6477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152280"/>
            <a:ext cx="9067680" cy="6629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3.gif (2415 字节)"/>
          <p:cNvPicPr/>
          <p:nvPr/>
        </p:nvPicPr>
        <p:blipFill>
          <a:blip r:embed="rId3"/>
          <a:stretch/>
        </p:blipFill>
        <p:spPr>
          <a:xfrm>
            <a:off x="3429000" y="380880"/>
            <a:ext cx="1787400" cy="213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3.gif (2415 字节)"/>
          <p:cNvPicPr/>
          <p:nvPr/>
        </p:nvPicPr>
        <p:blipFill>
          <a:blip r:embed="rId4"/>
          <a:stretch/>
        </p:blipFill>
        <p:spPr>
          <a:xfrm>
            <a:off x="4952880" y="-304920"/>
            <a:ext cx="178776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3.gif (2415 字节)"/>
          <p:cNvPicPr/>
          <p:nvPr/>
        </p:nvPicPr>
        <p:blipFill>
          <a:blip r:embed="rId5"/>
          <a:stretch/>
        </p:blipFill>
        <p:spPr>
          <a:xfrm>
            <a:off x="6289560" y="152280"/>
            <a:ext cx="1787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果你是哥哥，当弟弟说不记得风筝被毁坏的事时，你的反应是怎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像文中的作者一样，心情依旧沉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立即高兴地大喊：“真的吗？太好了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给弟弟一个热情的拥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再三追问弟弟是否真的忘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553080" y="3862440"/>
            <a:ext cx="1389240" cy="253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228600"/>
            <a:ext cx="8610480" cy="6248520"/>
          </a:xfrm>
          <a:custGeom>
            <a:avLst/>
            <a:gdLst>
              <a:gd name="textAreaLeft" fmla="*/ 736200 w 8610480"/>
              <a:gd name="textAreaRight" fmla="*/ 7874280 w 8610480"/>
              <a:gd name="textAreaTop" fmla="*/ 736200 h 6248520"/>
              <a:gd name="textAreaBottom" fmla="*/ 5512320 h 6248520"/>
            </a:gdLst>
            <a:ahLst/>
            <a:rect l="textAreaLeft" t="textAreaTop" r="textAreaRight" b="textAreaBottom"/>
            <a:pathLst>
              <a:path w="2976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64" y="21600"/>
                </a:lnTo>
                <a:arcTo wR="3600" hR="3600" stAng="10800000" swAng="5400000"/>
                <a:lnTo>
                  <a:pt x="29764" y="3600"/>
                </a:lnTo>
                <a:arcTo wR="3600" hR="3600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作者认识到自己的错误后，深切自责，却又无可挽救，所以消极地表示“倒不如躲到肃杀的严冬中去吧”，希望逃避不愉快的回忆和自责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作者始终逃不过内疚和自责，本文最后说“四面又明明是严冬，正给我非常的寒威和冷气”，暗示作者心情沉重，感到有如处身于肃杀的严冬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666520" y="76176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描写景物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A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营造气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B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暗示情节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C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烘托心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D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结构文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759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33"/>
                </a:solidFill>
                <a:latin typeface="Times New Roman"/>
              </a:rPr>
              <a:t>课文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文章开篇触景生情，由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北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冬天的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风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想起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故乡的风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时节，想起那件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伤心难过的往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为全文笼罩上了一种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悲哀、悲凉的感情基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然后，作者用一种冷俊的笔调叙述了他的一种心路历程，表现了他的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痛悔与自责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作者想要赎罪而不得，心情只得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沉重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文章末尾又从回忆中走到现实，走到严冬中，四面仍是逃避不掉的寒威和冷气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04920"/>
            <a:ext cx="8305920" cy="6172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flipH="1">
            <a:off x="6826320" y="5104800"/>
            <a:ext cx="13269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019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读写结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352680"/>
          </a:xfrm>
          <a:prstGeom prst="rect">
            <a:avLst/>
          </a:prstGeom>
          <a:solidFill>
            <a:srgbClr val="33cc33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创新题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课文在写“我”对小兄弟精神虐杀的一幕时，写到“留他绝望地站在小屋里。后来他怎样，我不知道，也没有留心”。请发挥合理的想像，结合小兄弟的性格特点，续写一段小兄弟留在屋里的情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　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细黑"/>
              </a:rPr>
              <a:t>创新题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想一下，二十年后你可能会为现在做的一件什么事情而后悔自责呢？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04920"/>
            <a:ext cx="8534160" cy="6095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6629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743200" y="457200"/>
            <a:ext cx="3657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《村居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高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草长莺飞二月天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拂堤杨柳醉春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儿童放学归来早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忙趁东风放纸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5893920" y="4876920"/>
              <a:ext cx="45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6654240" y="304920"/>
              <a:ext cx="2471400" cy="91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162920" y="1295280"/>
            <a:ext cx="1538280" cy="536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82400" y="762120"/>
            <a:ext cx="66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华文楷体"/>
              </a:rPr>
              <a:t>情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惊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悲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792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华文楷体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280" y="129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600200"/>
            <a:ext cx="358164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28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往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76520" y="2209680"/>
            <a:ext cx="990000" cy="304920"/>
            <a:chOff x="1676520" y="2209680"/>
            <a:chExt cx="990000" cy="304920"/>
          </a:xfrm>
        </p:grpSpPr>
        <p:sp>
          <p:nvSpPr>
            <p:cNvPr id="106" name=""/>
            <p:cNvSpPr/>
            <p:nvPr/>
          </p:nvSpPr>
          <p:spPr>
            <a:xfrm>
              <a:off x="2666520" y="2209680"/>
              <a:ext cx="0" cy="3049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76520" y="2209680"/>
              <a:ext cx="9900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936000" y="2743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没出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304812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17080" y="2743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不许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4000" y="327672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折断 掷 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327672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5960" y="304812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满足 愤怒 傲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3733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正当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403848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58720" y="3733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悔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4267080"/>
            <a:ext cx="0" cy="30492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98560" y="434340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补过  讨宽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876920"/>
            <a:ext cx="0" cy="30456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3160" y="5105520"/>
            <a:ext cx="29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（小兄弟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全忘却  无怨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541008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1000" y="5105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沉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4038480"/>
            <a:ext cx="152280" cy="1371600"/>
          </a:xfrm>
          <a:custGeom>
            <a:avLst/>
            <a:gdLst>
              <a:gd name="textAreaLeft" fmla="*/ 0 w 152280"/>
              <a:gd name="textAreaRight" fmla="*/ 10692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07040" y="41911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3352680"/>
            <a:ext cx="152280" cy="1371600"/>
          </a:xfrm>
          <a:custGeom>
            <a:avLst/>
            <a:gdLst>
              <a:gd name="textAreaLeft" fmla="*/ 0 w 152280"/>
              <a:gd name="textAreaRight" fmla="*/ 10692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21080" y="2121840"/>
            <a:ext cx="1523520" cy="1846440"/>
            <a:chOff x="7021080" y="2121840"/>
            <a:chExt cx="1523520" cy="1846440"/>
          </a:xfrm>
        </p:grpSpPr>
        <p:sp>
          <p:nvSpPr>
            <p:cNvPr id="127" name=""/>
            <p:cNvSpPr/>
            <p:nvPr/>
          </p:nvSpPr>
          <p:spPr>
            <a:xfrm flipV="1">
              <a:off x="8523000" y="2139840"/>
              <a:ext cx="21600" cy="18284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7021080" y="2121840"/>
              <a:ext cx="1523520" cy="180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7675560" y="3958200"/>
              <a:ext cx="847080" cy="100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 rot="5433000">
            <a:off x="2366640" y="1671480"/>
            <a:ext cx="226800" cy="2065320"/>
          </a:xfrm>
          <a:custGeom>
            <a:avLst/>
            <a:gdLst>
              <a:gd name="textAreaLeft" fmla="*/ 66600 w 226800"/>
              <a:gd name="textAreaRight" fmla="*/ 227160 w 226800"/>
              <a:gd name="textAreaTop" fmla="*/ 86040 h 2065320"/>
              <a:gd name="textAreaBottom" fmla="*/ 1979280 h 206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35720" y="0"/>
            <a:ext cx="31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为什么“在我是一种惊异和悲哀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8240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悲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057400"/>
            <a:ext cx="358164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152280"/>
            <a:ext cx="4800600" cy="6629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只凭风力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不假羽毛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红线凌空去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青云有路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33"/>
                </a:solidFill>
                <a:latin typeface="隶书"/>
                <a:ea typeface="隶书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3840"/>
            <a:ext cx="91440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2563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556000" y="333360"/>
            <a:ext cx="45892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933720" cy="5486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356000" y="628560"/>
            <a:ext cx="442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ff99"/>
                </a:solidFill>
                <a:latin typeface="Times New Roman"/>
                <a:ea typeface="华文新魏"/>
              </a:rPr>
              <a:t>我不幸偶而看了一本外国的讲论儿童的书，才知道游戏是儿童最正当的行为，玩具是儿童的天使。于是二十年来毫不忆及的幼小时候对于精神的虐杀的这一幕，忽地在眼前展开，而我的心也彷佛同时变了铅块，很重很重地堕下去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1447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风  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2437920"/>
            <a:ext cx="762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鲁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6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说出与下列意思相对应的本课中的词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、形容秋冬天气寒冷，草木枯落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、虐待人致死。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、费尽心思钻研或经营。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、忽然醒悟、明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97720" y="1965240"/>
            <a:ext cx="24382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肃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虐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苦心孤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恍然大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5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但我是向来不爱放风筝的，不但不爱，并且嫌恶它，因为我以为这是没出息孩子所做的玩艺。和我相反的是我的小兄弟，他那时大概</a:t>
            </a:r>
            <a:r>
              <a:rPr b="1" lang="zh-CN" sz="3200" spc="-1" strike="noStrike">
                <a:solidFill>
                  <a:srgbClr val="66ff66"/>
                </a:solidFill>
                <a:latin typeface="Times New Roman"/>
              </a:rPr>
              <a:t>十岁内外罢，多病，瘦得不堪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然而最喜欢风筝，自己买不起，我又不许放，他只得</a:t>
            </a:r>
            <a:r>
              <a:rPr b="1" lang="zh-CN" sz="3200" spc="-1" strike="noStrike">
                <a:solidFill>
                  <a:srgbClr val="66ff66"/>
                </a:solidFill>
                <a:latin typeface="Times New Roman"/>
              </a:rPr>
              <a:t>张着小嘴，呆看着空中出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有时竟至于小半日。远处的蟹风筝突然落下来了，他</a:t>
            </a:r>
            <a:r>
              <a:rPr b="1" lang="zh-CN" sz="3200" spc="-1" strike="noStrike">
                <a:solidFill>
                  <a:srgbClr val="66ff66"/>
                </a:solidFill>
                <a:latin typeface="Times New Roman"/>
              </a:rPr>
              <a:t>惊呼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；两个瓦片风筝的缠绕解开了，他</a:t>
            </a:r>
            <a:r>
              <a:rPr b="1" lang="zh-CN" sz="3200" spc="-1" strike="noStrike">
                <a:solidFill>
                  <a:srgbClr val="66ff66"/>
                </a:solidFill>
                <a:latin typeface="Times New Roman"/>
              </a:rPr>
              <a:t>高兴得跳跃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的这些，在我看来都是笑柄，可鄙的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010280" y="380880"/>
            <a:ext cx="153828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280" y="304920"/>
            <a:ext cx="8915400" cy="6248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1943280" cy="1360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有一天，我忽然想起，似乎多日不很看见他了，但记得曾见他在后园拾枯竹。我恍然大悟似的，便跑向少有人去的一间堆积杂物的小屋去，推开门，果然就在尘封的什物堆中发现了他。他向着大方凳，</a:t>
            </a: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坐在小凳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便很</a:t>
            </a: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惊惶地站了起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失了色瑟缩着。大方凳旁靠着一个蝴蝶风筝的竹骨，还没有糊上纸，凳上是一对做眼睛用的小风轮，正用红纸条装饰着，将要完工了。我在破获秘密的满足中，又很愤怒他的瞒了我的眼睛，这样苦心孤诣地来偷做没出息孩子的玩艺。我即刻</a:t>
            </a: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伸手折断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蝴蝶的一支翅骨，又将风轮</a:t>
            </a: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掷在地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踏扁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论长幼，论力气，他是都敌不过我的，我当然得到完全的胜利，于是</a:t>
            </a: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傲然走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留他</a:t>
            </a: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绝望地站在小屋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后来他怎样，我不知道，也没有留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果你是弟弟，当哥哥将风筝毁坏时，你的反应是怎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像文中的弟弟一样，绝望地站在小屋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马上哭哭啼啼跑到爸妈那里去告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冲上去奋力阻挡，不让哥哥为所欲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对哥哥大声地说：“这样做并没有什么好处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04920"/>
            <a:ext cx="8610480" cy="6172200"/>
          </a:xfrm>
          <a:custGeom>
            <a:avLst/>
            <a:gdLst>
              <a:gd name="textAreaLeft" fmla="*/ 727200 w 8610480"/>
              <a:gd name="textAreaRight" fmla="*/ 7883280 w 8610480"/>
              <a:gd name="textAreaTop" fmla="*/ 727200 h 6172200"/>
              <a:gd name="textAreaBottom" fmla="*/ 5445000 h 6172200"/>
            </a:gdLst>
            <a:ahLst/>
            <a:rect l="textAreaLeft" t="textAreaTop" r="textAreaRight" b="textAreaBottom"/>
            <a:pathLst>
              <a:path w="3013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532" y="21600"/>
                </a:lnTo>
                <a:arcTo wR="3600" hR="3600" stAng="10800000" swAng="5400000"/>
                <a:lnTo>
                  <a:pt x="30132" y="3600"/>
                </a:lnTo>
                <a:arcTo wR="3600" hR="3600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7162560" cy="380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时间：作者步入中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原因：看到一本讲论儿童的外国书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觉悟：游戏是儿童最正当行为，玩 具是儿童天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反应：童年对弟弟的精神虐杀事件 再现 眼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感受：心变了铅块，重重堕下，永不停止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01000" y="1901880"/>
            <a:ext cx="60948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觉悟前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1295280"/>
            <a:ext cx="838080" cy="3581640"/>
          </a:xfrm>
          <a:custGeom>
            <a:avLst/>
            <a:gdLst>
              <a:gd name="textAreaLeft" fmla="*/ 0 w 838080"/>
              <a:gd name="textAreaRight" fmla="*/ 302760 w 83808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52280"/>
            <a:ext cx="8686800" cy="655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2000" y="549360"/>
            <a:ext cx="8567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我也知道补过的方法的：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送他风筝，赞成他放，劝他放，我和他一同放。我们嚷着，跑着，笑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然而他其时已经和我一样，早已有了胡子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    我也知道还有一个补过的方法的：去讨他的宽恕，等他说， 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“我可是毫不怪你呵。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那么，我的心一定就轻松了，这确是一个可行的方法。有一回，我们会面的时候，是脸上都已添刻了许多“ 生”的辛苦的条纹，而我的心很沉重。我们渐渐谈起儿时的旧事来，我便叙述到这一节，自说少年时代的糊涂。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“我可是毫不怪你呵。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我想，他要说了，我即刻便受了宽恕，我的心从此也宽松了罢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        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“有过这样的事么？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他惊异地笑着说，就象旁听着别人的故事一样。他什么也记不得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全然忘却，毫无怨恨，又有什么宽恕可言呢？无怨的恕，说谎罢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        我还能希求什么呢？我的心只得沉重着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60280"/>
            <a:ext cx="8424720" cy="6121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7:38:07Z</dcterms:created>
  <dc:creator>wutao</dc:creator>
  <dc:description/>
  <dc:language>en-US</dc:language>
  <cp:lastModifiedBy>a</cp:lastModifiedBy>
  <dcterms:modified xsi:type="dcterms:W3CDTF">2004-12-16T05:55:41Z</dcterms:modified>
  <cp:revision>100</cp:revision>
  <dc:subject/>
  <dc:title>风  筝</dc:title>
</cp:coreProperties>
</file>