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B35-3629-4038-8810-346660E9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6A3-FC52-424C-A9F5-3AF267A2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C69-7E4A-406F-954C-06BDC23E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1C1-B52E-48E4-A5A7-852E55BC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AFD4-4F3F-4769-A01D-6EC5902D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A83E-C9AF-487F-BE19-0B34F22F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4648-643F-472F-A914-08D47E34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7875-0269-4687-A258-2488C0A5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4B43-E1CF-4AB3-803E-78F1EDF2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F872-5D02-46CF-88BF-CEADF801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D57F-0C7E-440F-AB43-808ADAE7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E93-6473-411D-A419-F3AA4EB1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320D-7991-4673-ADCB-C90A2B35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1DBE-AFC1-4344-88D9-D0DB6B97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A066-294B-4F28-BB17-5E8ED867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83FA-CFBD-4C4B-A75B-2456A108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666B-BC2E-4697-A6A3-C7ECAD32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E67-767B-4F0D-BAA6-6381BF14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0B3-84EA-48B1-B133-3317C185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F8A-8B34-46C1-AA5D-A14A0BA5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9FB-932E-4816-90BD-AC7509DE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5B0-BAD1-47A0-AD1E-BDF6509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78C-5345-4A3A-A8A9-205A477D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8ED-434A-4748-A563-11B2E08D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2F10-F812-4592-848C-D02EB55E3C4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CDF4-B657-471F-BAD7-BBFFB458D33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c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10666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Times New Roman"/>
                <a:ea typeface="隶书"/>
              </a:rPr>
              <a:t>        </a:t>
            </a:r>
            <a:r>
              <a:rPr b="0" lang="zh-CN" sz="4400" spc="-1" strike="noStrike">
                <a:solidFill>
                  <a:srgbClr val="99ffcc"/>
                </a:solidFill>
                <a:latin typeface="Times New Roman"/>
                <a:ea typeface="隶书"/>
              </a:rPr>
              <a:t>小时候鲁迅不许弟弟放风筝、做风筝且行为十分粗暴。待到明白游戏对于儿童的意义之后，认识到自己当年的行径是对弟弟“精神的虐杀”，一心想补过，然而兄弟全然忘却，鲁迅的心只得一直沉重下去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17524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这篇课文的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意蕴丰富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：有手足情；游戏对于儿童的意义；“我”的自省精神；小兄弟无怨恨的思想内容。又集中表达了“我”的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惊异、悔恨、补过、悲哀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的情感变化。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4680" y="4572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小结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90720" y="6858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讨论探究：（</a:t>
            </a: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1—2</a:t>
            </a: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）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21337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见风筝，人之常情是愉快的，为什么“在我是一种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惊异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悲哀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”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11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41640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2.“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四面都还是严冬的肃杀，久经诀别的故乡的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久经逝去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的春天，却就在这天空中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荡漾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了”，这句话怎么理解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457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1.“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惊异”于北京竟在</a:t>
            </a:r>
            <a:r>
              <a:rPr b="0" lang="zh-CN" sz="4000" spc="-1" strike="noStrike">
                <a:solidFill>
                  <a:srgbClr val="99ffcc"/>
                </a:solidFill>
                <a:latin typeface="Times New Roman"/>
                <a:ea typeface="隶书"/>
              </a:rPr>
              <a:t>肃杀的严冬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季节放风筝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981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“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悲哀”，是因为想起小时候“精神的虐杀”的一幕，而且这一幕永远无法补过，心头不禁悲哀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8862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99ffcc"/>
                </a:solidFill>
                <a:latin typeface="Times New Roman"/>
                <a:ea typeface="隶书"/>
              </a:rPr>
              <a:t>说“惊异和悲哀”，从结构上说，是为了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引出下文</a:t>
            </a:r>
            <a:r>
              <a:rPr b="0" lang="zh-CN" sz="4000" spc="-1" strike="noStrike">
                <a:solidFill>
                  <a:srgbClr val="99ffcc"/>
                </a:solidFill>
                <a:latin typeface="Times New Roman"/>
                <a:ea typeface="隶书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334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作者把风筝看作春天的象征。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作者在北京的冬季看到天空中的风筝所引发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惊异和悲哀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，在“春光明媚”的画面里展开了对往事的回忆，使现实中严冬的“寒威”与回想中春日的“温和”互相映衬，既增添了回忆往事哀婉动人的力量，又使文章带上几分明丽的色彩。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4680" y="4572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小结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0720" y="5335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讨论探究：（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3—4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）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1752480"/>
            <a:ext cx="754380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932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从语段中找出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描写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小兄弟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观望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他人放风筝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语句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，他为我们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勾画了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一个什么样的儿童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形象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对小兄弟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流露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出什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感情</a:t>
            </a:r>
            <a:r>
              <a:rPr b="0" lang="zh-CN" sz="3600" spc="-1" strike="noStrike" u="sng">
                <a:solidFill>
                  <a:srgbClr val="6666ff"/>
                </a:solidFill>
                <a:uFillTx/>
                <a:latin typeface="隶书"/>
                <a:ea typeface="隶书"/>
                <a:hlinkClick r:id="rId1" action="ppaction://hlinksldjump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038480"/>
            <a:ext cx="777240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文中所说的“对于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精神虐杀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的这一幕”，具体指什么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说说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作者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在文中是什么样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形象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对“我”的描写，流露出了怎样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感情</a:t>
            </a:r>
            <a:r>
              <a:rPr b="0" lang="zh-CN" sz="3600" spc="-1" strike="noStrike" u="sng">
                <a:solidFill>
                  <a:srgbClr val="6666ff"/>
                </a:solidFill>
                <a:uFillTx/>
                <a:latin typeface="隶书"/>
                <a:ea typeface="隶书"/>
                <a:hlinkClick r:id="rId2" action="ppaction://hlinksldjump"/>
              </a:rPr>
              <a:t>?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msotw9_temp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风筝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38680" y="63036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精神虐杀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2133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这一幕，是指“我”不许小兄弟放风筝，发现他偷做风筝，气得我把他快要完工的风筝抓断踏扁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838080"/>
            <a:ext cx="6934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瘦 弱、天 真、活 泼、聪 明</a:t>
            </a:r>
            <a:r>
              <a:rPr b="1" lang="zh-CN" sz="3600" spc="-1" strike="noStrike" u="sng">
                <a:solidFill>
                  <a:srgbClr val="6666ff"/>
                </a:solidFill>
                <a:uFillTx/>
                <a:latin typeface="隶书"/>
                <a:ea typeface="隶书"/>
                <a:hlinkClick r:id="rId1" action="ppaction://hlinksldjump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9625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我”是一个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野蛮粗暴的“虐杀者”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，文中隐含着对小兄弟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可怜、同情和痛楚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的手足之情，也隐含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后悔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和深深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自责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114300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这部分一些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动词和形容词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用得很贴切传神，找出来，说说为什么用得好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4.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通过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4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段的学习，你进一步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感悟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到了什么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c1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rc3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19320" y="17524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这部分为我们刻画了一个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天真、活泼、聪明、瘦弱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的小兄弟形象，而“我”是一个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野蛮粗暴的“虐杀者”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，被糟蹋的虽是一支风筝，可是受到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伤害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的却是一颗本该受到爱抚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稚嫩的心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。文中隐含着对小兄弟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可怜、同情和痛楚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的手足之情，也隐含着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后悔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和深深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自责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。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6094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小结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95280" y="2209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看到一本外国的讲论儿童的行为的书，为什么说是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不幸”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6858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讨论探究：（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5—8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）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35053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“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我”一向以为自己关小兄弟管得对，当看到这本书上的道理，心情一下子沉重起来，受到惩罚了，对“我”来说，良心受到谴责，可谓“不幸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4572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2.“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我”懂得游戏意义后，对待早年的过错，鲁迅先生的心情如此沉重，总想补过，这说明什么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你从鲁迅先生身上学到一种什么样的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精神品质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2666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作者一接触科学思想，就认识错误，设法补过，并不因为自己当初的动机是好的就原谅自己，不因为当初的想法是受了传统的影响而宽恕自己，也不因为时间相隔久远就不了了之。他的心情是那么沉重，可见他是多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严厉地解剖自己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，他的为人是多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严肃认真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，他的精神正是我们学习的榜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90720" y="6094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讨论探究：（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9—12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）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待到小兄弟惊异地笑着说：“有过这样的事吗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”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为什么“我不觉得宽松反而觉得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沉重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”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从中你又感悟到了什么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733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为什么说“悲哀”是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无可把握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的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为什么说“我倒不如躲到肃杀的严冬中去吧，但四面又明明是严冬，正给我非常的寒威和冷气”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95280" y="10666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1.“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我”讨弟弟的宽恕，弟弟却全然忘却，毫无怨恨，使我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无法补过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，“我”的心因而不得轻松，只得沉重着，这又翻出一层意思。被虐杀者并不认为被虐杀，把兄长的行径视为合情合理，做风筝要偷着做，正说明自己也不认为游戏是“正当”的，一旦被兄长发现，自认该罚。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被虐杀者的麻木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使虐杀者可以恣意妄为，这是尤其令人悲哀的。所以鲁迅只觉得这世界一片肃杀和寒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190512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2.“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我”要讨弟弟的宽恕，抚平他精神的创伤，而弟弟却全然忘却，毫无怨恨，精神被虐杀而不自知，“我”沉重的心情因无法补过而只能一直沉重下去，这是怎样的悲哀啊。而这种悲哀是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意想不到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的，所以说“无可把握的悲哀”，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想摆脱也不可能了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3.“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躲到肃杀的严冬中去”，就是不要望见春天，不要望见风筝，这才能忘却，才能摆脱悲哀。我只感觉到“非常的寒威和冷气”，不仅指当时的天气，而且指心头的悲凉。当年虐杀者与被虐杀者都被愚昧观念所支配，彼此都不以为有什么错，现在虐杀者有了觉悟而后悔痛苦，而被虐杀者已经全然忘却。觉悟者永远无法补过，这是尤其悲哀的，使人不寒而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2362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作者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沉重和悲哀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，不仅表现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个人的悔恨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，而是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对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这种普遍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精神麻木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状态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忧虑和痛惜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的感情。即使在今天，我们仍然可以从中得到极大的教育意义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685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小结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981080" y="22860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亲情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：兄弟情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68580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主题探讨：（多角度）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3200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儿童教育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：不要扼杀儿童天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4038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我”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：自省精神，责任意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952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社会意义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：与愚昧的封建思想斗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2590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文中说“游戏是儿童最正当的行为，玩具是儿童的天使”，你小时候也做过许多游戏，玩过不少玩具吧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请你选一个最难忘的说给同学们听听。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68580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体验拓展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c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66680" y="1752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《风筝》不仅是表现了人内心美好的感情，而且给人以深沉的思想力量。深刻的主题，无论从哪个角度阅读，都有意在言外的收获。通过学习课文，你感悟最深的是什么呢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反复思索以后并用在今后的学习生活中，让自己的感情更真挚、美好，思想更丰富、深刻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6094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总结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风筝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14800" y="1066680"/>
            <a:ext cx="5029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隶书"/>
              </a:rPr>
              <a:t>　　　　　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隶书"/>
              </a:rPr>
              <a:t>高鼎（清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隶书"/>
              </a:rPr>
              <a:t>草长莺飞二月天，　拂堤杨柳醉春烟。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隶书"/>
              </a:rPr>
              <a:t>          　</a:t>
            </a: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隶书"/>
              </a:rPr>
              <a:t>儿童放学归来早，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隶书"/>
              </a:rPr>
              <a:t>        　</a:t>
            </a: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隶书"/>
              </a:rPr>
              <a:t>忙趁东风放纸鸢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0"/>
            <a:ext cx="248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  <a:ea typeface="隶书"/>
              </a:rPr>
              <a:t>风　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kite2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4264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715000" y="441972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ffcc"/>
                </a:solidFill>
                <a:latin typeface="Times New Roman"/>
                <a:ea typeface="华文彩云"/>
              </a:rPr>
              <a:t>鲁迅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62320" y="2590920"/>
            <a:ext cx="52578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整体感知课文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讨论探究</a:t>
            </a: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1</a:t>
            </a: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－</a:t>
            </a: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2</a:t>
            </a: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段</a:t>
            </a:r>
            <a:r>
              <a:rPr b="0" lang="zh-CN" sz="6000" spc="-1" strike="noStrike">
                <a:solidFill>
                  <a:srgbClr val="99ffcc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68580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教学内容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3962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鲁迅（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1881—1936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），文学家、思想家和革命家。原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周树人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，字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豫才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浙江绍兴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人。二十世纪的中国作家，没有谁能像鲁迅这样给后世造成这样大的影响，留下无穷的话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鲁迅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4000680" cy="3733920"/>
          </a:xfrm>
          <a:prstGeom prst="rect">
            <a:avLst/>
          </a:prstGeom>
          <a:ln w="0">
            <a:noFill/>
          </a:ln>
        </p:spPr>
      </p:pic>
      <p:pic>
        <p:nvPicPr>
          <p:cNvPr id="143" name="鲁迅2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6416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505320" y="0"/>
            <a:ext cx="54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1918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年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月，首次用笔名“鲁迅”发表《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狂人日记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》，是中国现代文学史上第一篇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白话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小说，奠定了新文学运动的基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鲁迅3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2590920" cy="3505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90720" y="51055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ffcc"/>
                </a:solidFill>
                <a:latin typeface="楷体_GB2312"/>
                <a:ea typeface="楷体_GB2312"/>
              </a:rPr>
              <a:t>《野草》散文诗集，以曲折幽晦的象征表达了</a:t>
            </a:r>
            <a:r>
              <a:rPr b="1" lang="zh-CN" sz="2800" spc="-1" strike="noStrike">
                <a:solidFill>
                  <a:srgbClr val="99ffcc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99ffcc"/>
                </a:solidFill>
                <a:latin typeface="楷体_GB2312"/>
                <a:ea typeface="楷体_GB2312"/>
              </a:rPr>
              <a:t>年代中期作者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内心世界的苦闷和对现实社会的抗争</a:t>
            </a:r>
            <a:r>
              <a:rPr b="1" lang="zh-CN" sz="2800" spc="-1" strike="noStrike">
                <a:solidFill>
                  <a:srgbClr val="99ffcc"/>
                </a:solidFill>
                <a:latin typeface="楷体_GB2312"/>
                <a:ea typeface="楷体_GB2312"/>
              </a:rPr>
              <a:t>。语言俏奇瑰丽，意象玄妙奇美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19051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此后出版了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小说集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《呐喊》《彷徨》《故事新编》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散文集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《朝花夕拾》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散文诗集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《野草》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杂文集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《坟》《而已集》《南腔北调集》《且介亭杂文》等专集，表现出爱国主义和彻底革命民主主义的思想特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2438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这篇课文回忆的是一件什么事情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请你概述一下。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   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2.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听读课文以后，你有哪些感受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2680" y="68580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朗读课文，思考问题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08:19:36Z</dcterms:created>
  <dc:creator>wutao</dc:creator>
  <dc:description/>
  <dc:language>en-US</dc:language>
  <cp:lastModifiedBy>a</cp:lastModifiedBy>
  <dcterms:modified xsi:type="dcterms:W3CDTF">2001-01-03T16:08:10Z</dcterms:modified>
  <cp:revision>100</cp:revision>
  <dc:subject/>
  <dc:title>PowerPoint 演示文稿</dc:title>
</cp:coreProperties>
</file>