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0BE3-FAD8-4995-AE31-D171D5A23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9A06-362E-4953-85FF-419AFD31C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87FF-36C4-4661-BA92-E8976F762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1980-430D-4B76-A7C8-AAA9FD19D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91EE9-D20B-4B2A-BDCE-8EDE07394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CAE00-05F7-4D87-B887-C6244F101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1CEBF-85EA-485C-9D38-A2A8D2879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9391B-5E47-4C5E-9756-325941366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D5873-84AA-4C1D-98A4-8132B3B2A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5522D-8055-4DD4-BF57-F002AC06F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E6B98-E9DE-4D87-B6F8-98F413A7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7F62-AEF1-4085-8C31-F736542B9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DFB8F-FF98-4011-B09D-787B03B1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D8950-07C1-44B0-A236-8D1A6EF3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85F60-5EFD-4F61-8B09-C56E4B3AF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03D05-367A-4808-99C7-354A0BA10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C16E7-CDEC-40E7-A069-53EBED379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BA9A-C4FE-4737-B85D-CD226E6A0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3B2B-AAAF-436C-9B77-955285FB5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C8BB-1A1D-48C7-83DB-5C8FA3893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CDEC-1B36-4C9F-BF56-1018ADEF3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0516-8DE9-46A7-A868-025B2438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2132-9536-4C52-B3FC-E5E999F1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390E-3126-426E-B89B-EF11FA4A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7685B-54C3-45FD-911B-878170502B66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6043F-399D-4053-9DFD-4B15E225D1BA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风    筝   </a:t>
            </a:r>
            <a:r>
              <a:rPr b="0" lang="zh-CN" sz="2000" spc="-1" strike="noStrike">
                <a:solidFill>
                  <a:srgbClr val="ffff66"/>
                </a:solidFill>
                <a:latin typeface="Arial"/>
              </a:rPr>
              <a:t>清朝  高鼎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5406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210000"/>
              </a:lnSpc>
              <a:spcBef>
                <a:spcPts val="10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草长莺飞二月天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210000"/>
              </a:lnSpc>
              <a:spcBef>
                <a:spcPts val="10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拂堤杨柳醉轻烟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210000"/>
              </a:lnSpc>
              <a:spcBef>
                <a:spcPts val="10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儿童放学归来早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210000"/>
              </a:lnSpc>
              <a:spcBef>
                <a:spcPts val="10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忙趁东风放纸鸢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140000" y="0"/>
            <a:ext cx="7189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真</a:t>
            </a:r>
            <a:br>
              <a:rPr sz="4400"/>
            </a:br>
            <a:br>
              <a:rPr sz="4400"/>
            </a:b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人</a:t>
            </a:r>
            <a:br>
              <a:rPr sz="4400"/>
            </a:br>
            <a:br>
              <a:rPr sz="4400"/>
            </a:b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版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06224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913280" y="0"/>
            <a:ext cx="423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248160" y="685800"/>
            <a:ext cx="11379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</a:rPr>
              <a:t>鲁迅先生的私塾老师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-396720" y="0"/>
            <a:ext cx="4916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风                      筝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习目标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感知课文内容，理解作者思想感情，感受至爱真情，获得思想启迪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多角度有创意地阅读和比较阅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运用自主合作的方式探讨疑难问题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读读一下字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堕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duo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去声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憔悴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qiaocui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阳平 去声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荡漾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dangyang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去声 去声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瑟缩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sesuo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去声 阴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什物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shi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 阳平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虐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nve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去声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嫌恶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xianwu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阳平 去声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苦心孤诣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yi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去声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恍然大悟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huang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 上声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蕾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lei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 上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97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97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7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97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97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97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思考题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什么小时侯会把放风筝看成没出息孩子做的事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什么说不许小兄弟放风筝是“对于精神的虐杀”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鲁迅对待自己错误的态度与一般人有什么不同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讨论题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为什么“在我是一种惊异和悲哀”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为什么说悲哀是“无可把握的悲哀”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为什么说“我倒不如躲到肃杀的严冬中去吧，——但是，四面又明明是严冬，正给我非常的威寒和冷气”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为什么“在我是一种惊异和悲哀”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比较北京与故乡放风筝的时令，阅读文章中“精神虐杀的一幕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为什么说悲哀是“无可把握的悲哀”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强调“悲哀”是意想不到的，无法补过，心情一直沉重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为什么说“我倒不如躲到肃杀的严冬中去吧，——但是，四面又明明是严冬，正给我非常的威寒和冷气”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仅说天气，还说内心深处的悲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01680" y="0"/>
            <a:ext cx="85406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怎么看鲁迅小时候的行为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看了一本外国讲论儿童的书后鲁迅怎么想，你对这时的鲁迅又有何看法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时侯的“我的小兄弟”为什么会喜欢风筝，甚至敢偷偷的做风筝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被鲁迅摧残了自己做的风筝以后，你认为小兄弟会想了些什么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什么鲁迅的弟弟对小时侯这事忘却了，且毫无怨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fz1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65964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162560" y="1295280"/>
            <a:ext cx="14475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俯横首眉甘冷为对孺千子夫牛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336840" y="0"/>
            <a:ext cx="580716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0"/>
            <a:ext cx="3276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鲁迅介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鲁迅〔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188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年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月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25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日～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1936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年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月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19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日〕，中国文学家、思想家和革命家。原 名周树人，字豫才，浙江绍兴人。小说集《呐喊》、《彷徨》、散文诗集《野草》、散文集《朝花夕拾》、杂文集《热风》等等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5T13:44:23Z</dcterms:created>
  <dc:creator>wutao</dc:creator>
  <dc:description/>
  <dc:language>en-US</dc:language>
  <cp:lastModifiedBy>虹桥镇一小</cp:lastModifiedBy>
  <dcterms:modified xsi:type="dcterms:W3CDTF">2003-11-18T00:37:54Z</dcterms:modified>
  <cp:revision>100</cp:revision>
  <dc:subject/>
  <dc:title>幻灯片 1</dc:title>
</cp:coreProperties>
</file>