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15.jpeg" ContentType="image/jpeg"/>
  <Override PartName="/ppt/media/image14.png" ContentType="image/png"/>
  <Override PartName="/ppt/media/projctor.wav" ContentType="audio/x-wav"/>
  <Override PartName="/ppt/media/image13.png" ContentType="image/png"/>
  <Override PartName="/ppt/media/chimes.wav" ContentType="audio/x-wav"/>
  <Override PartName="/ppt/media/image8.png" ContentType="image/png"/>
  <Override PartName="/ppt/media/image12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gif" ContentType="image/gif"/>
  <Override PartName="/ppt/media/image10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8E72-E78F-43DB-AADD-80CCE541B39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？‘链接到〈你知道吗〉进行法律知识渗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回家练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C1C8-B62E-4B1A-9350-FFDFD09E1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14D0-82A3-400D-8FEF-F5BA2748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C86A-A75F-4814-A140-32F4D3A52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CB3A-21D1-447E-BF2F-83EEC8BA2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39EA-BE6E-4B75-8B7E-7847B2B7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F2FD-CF37-47C6-A918-69F2EB3B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A177-C222-4347-8D9C-60959170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AE34-05BC-42CA-A716-A473D030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CD11-14FF-40FD-887C-6BFA3FEE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A982-8574-4C77-823D-D923D90A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9CB4-26D6-4807-AB3E-A12067D3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2D3E-B0EF-444B-AD61-A14E8C18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E066-5BC8-413A-BAD4-3AAFF078E2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71600" y="1415880"/>
            <a:ext cx="5867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羚  羊  木  雕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35956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张之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  <p:sndAc>
      <p:stSnd>
        <p:snd r:embed="rId2" name="projcto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80880" y="1676520"/>
            <a:ext cx="6705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爸爸送我羚羊木雕，我把它送给了好朋友。我这么做对吗？并告诉我你的理由，好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爸爸妈妈执意让我要回羚羊木雕，而奶奶却说“这不太好”。他们谁有道理呢？我好想听听你们的想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假如你是我，会因为有万芳这个朋友而庆幸吗？为什么？假如你是万芳，还会做我的好朋友吗？为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762120"/>
            <a:ext cx="7772400" cy="642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请讨论下列问题（以四人小组为单位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69880" y="528480"/>
            <a:ext cx="3032280" cy="702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1292400"/>
            <a:ext cx="678168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国的《民法通则》对于自然人的民事权利能力和民事行为能力有明确的规定。《民法通则》第十一条规定：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以上的公民是成年人，具有完全的民事行为能力，可以独立进行民事活动。第十六条则规定未成年人的父母是未成年人的监护人。根据课文内容，“我”的年龄应该是在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以下，因此“我”的行为应该得到法定监护人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即家长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同意。</a:t>
            </a:r>
            <a:br>
              <a:rPr sz="32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11360" y="457200"/>
            <a:ext cx="281916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0000cc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华文新魏"/>
              </a:rPr>
              <a:t>你知道吗？</a:t>
            </a:r>
            <a:endParaRPr b="1" lang="en-US" sz="2400" spc="1" strike="noStrike">
              <a:ln w="0">
                <a:noFill/>
              </a:ln>
              <a:solidFill>
                <a:srgbClr val="0000cc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34960" y="1219320"/>
            <a:ext cx="69325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99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你遇到过类似的伤心事吗？是怎样处理的？能让我分享你的想法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1035720"/>
            <a:ext cx="762012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要学会思考，有主见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做事情要跟大人商量了再做，自以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，自作主张是不对的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推而广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遇是多商量，就可以避免 许多矛盾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会沟通，让父母、他人理解自己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己也努力去理解父母、他人，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样也可以避免许多矛盾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609480"/>
            <a:ext cx="4952880" cy="703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华文新魏"/>
              </a:rPr>
              <a:t>作为中学生的我们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28600" y="1295280"/>
            <a:ext cx="7704000" cy="24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马克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：“真正的友谊——十分理智的友谊，是人生最好的无价之宝，你能够对自己的朋友守信，永远无愧于他，那将是对你的性格、灵魂以及道德的最高的考验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希罗多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：“世界上没有比一个既真诚又聪明的朋友更可贵的了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斯托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：“财富不是朋友，而朋友却是财富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457200"/>
            <a:ext cx="2311200" cy="703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朋友赠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46040" y="2060640"/>
            <a:ext cx="72500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父母一起欣赏这篇小说，学会与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母、他人沟通，快乐生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父母一起探讨后，记下父母的处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2760" y="990720"/>
            <a:ext cx="2887560" cy="703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“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家庭”作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145040" y="4363920"/>
            <a:ext cx="2170080" cy="89388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霹雳贝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49800" y="4363920"/>
            <a:ext cx="2103480" cy="89388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疯狂的兔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1219320"/>
            <a:ext cx="678168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之路，是我国八九十年代以来国内最有影响的少儿小说作家之一。中国儿童电影制片厂编剧。短篇小说集</a:t>
            </a:r>
            <a:r>
              <a:rPr b="1" lang="zh-CN" sz="26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&lt;&lt;</a:t>
            </a:r>
            <a:r>
              <a:rPr b="1" lang="zh-CN" sz="26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题王</a:t>
            </a:r>
            <a:r>
              <a:rPr b="1" lang="zh-CN" sz="26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&gt;&gt;</a:t>
            </a:r>
            <a:r>
              <a:rPr b="1" lang="zh-CN" sz="26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、</a:t>
            </a:r>
            <a:r>
              <a:rPr b="1" lang="zh-CN" sz="26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&lt;&lt;</a:t>
            </a:r>
            <a:r>
              <a:rPr b="1" lang="zh-CN" sz="26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空箱子</a:t>
            </a:r>
            <a:r>
              <a:rPr b="1" lang="zh-CN" sz="26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&gt;&gt;</a:t>
            </a:r>
            <a:r>
              <a:rPr b="1" lang="zh-CN" sz="26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、</a:t>
            </a:r>
            <a:r>
              <a:rPr b="1" lang="zh-CN" sz="26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&lt;&lt;</a:t>
            </a:r>
            <a:r>
              <a:rPr b="1" lang="zh-CN" sz="26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铃羊木雕</a:t>
            </a:r>
            <a:r>
              <a:rPr b="1" lang="zh-CN" sz="26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&gt;&gt;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作品曾获：中国图书奖一等奖、宋庆龄文学奖、全国优秀儿童文学奖、冰心文学奖、陈伯吹儿童文学奖、国际青少年读物联盟优秀作家奖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国际安徒生奖提名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导的电影有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-239400" y="533520"/>
            <a:ext cx="1277640" cy="1600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张之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35200" y="213372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怦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33600" y="21430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树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26160" y="21430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3320" y="363708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逮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86160" y="36370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寒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216080" y="2971800"/>
            <a:ext cx="228600" cy="122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070520" y="3030480"/>
            <a:ext cx="193680" cy="103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016680" y="3021120"/>
            <a:ext cx="212760" cy="90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5102280" y="4419720"/>
            <a:ext cx="228600" cy="104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987480" y="4419720"/>
            <a:ext cx="237960" cy="109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33320" y="478944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逮着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86160" y="478944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颤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4568760" y="5638680"/>
            <a:ext cx="176400" cy="84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941400" y="5638680"/>
            <a:ext cx="198360" cy="939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80880" y="3924360"/>
            <a:ext cx="304920" cy="14479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81600" y="3924360"/>
            <a:ext cx="304560" cy="14479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7080" y="1547640"/>
            <a:ext cx="17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pē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10160" y="154764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ch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81800" y="154764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zuà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97440" y="363708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zhà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97440" y="478944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chà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7440" y="363708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dà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57440" y="478944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dǎ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3960" y="533520"/>
            <a:ext cx="6477120" cy="703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给加点字注音，并注意字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  <p:sndAc>
      <p:stSnd>
        <p:snd r:embed="rId9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980640"/>
            <a:ext cx="4249440" cy="647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速读课文并思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0360" y="2178000"/>
            <a:ext cx="7488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课文写了哪几个人物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你能用简要的语言概括课文情节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围绕羚羊木雕发生了什么事情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揣摩人物说话的语气、语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木雕1" descr=""/>
          <p:cNvPicPr/>
          <p:nvPr/>
        </p:nvPicPr>
        <p:blipFill>
          <a:blip r:embed="rId2"/>
          <a:stretch/>
        </p:blipFill>
        <p:spPr>
          <a:xfrm>
            <a:off x="6324480" y="609480"/>
            <a:ext cx="2057400" cy="19051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92440" y="2736720"/>
            <a:ext cx="1034280" cy="520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木雕贵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63800" y="2789280"/>
            <a:ext cx="1460880" cy="520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我俩是好朋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51080" y="155592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97560" y="155592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2080" y="1212840"/>
            <a:ext cx="13716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11440" y="4572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冲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78000" y="4633920"/>
            <a:ext cx="1970280" cy="1143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5200" y="4260960"/>
            <a:ext cx="1033560" cy="17269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重财轻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89520" y="4346640"/>
            <a:ext cx="1033560" cy="1584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重情重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51080" y="3554280"/>
            <a:ext cx="0" cy="5335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73880" y="35542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95320" y="5210280"/>
            <a:ext cx="10670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187960" y="5210280"/>
            <a:ext cx="9144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41520" y="2546280"/>
            <a:ext cx="1033560" cy="1320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应商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86360" y="1249200"/>
            <a:ext cx="0" cy="1143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86360" y="3986280"/>
            <a:ext cx="0" cy="5331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8000" y="984240"/>
            <a:ext cx="3200400" cy="520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父母逼我要回木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5080" y="984240"/>
            <a:ext cx="2822400" cy="520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我送木雕给万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057400" y="822240"/>
            <a:ext cx="2311560" cy="703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课文主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20574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文围绕羚羊木雕，写了一场家庭矛盾，赞美真诚无私的友爱，批评重财轻义的思想，呼吁父母要理解尊重孩子纯真的感情；同时也说明我们做事应与人商量，考虑周全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905120" y="1981080"/>
            <a:ext cx="6400800" cy="30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妈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爸爸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奶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”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万芳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19810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态度生硬固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38862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重情、软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19520" y="312408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19520" y="327672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明白事理，同情理解却无能为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19520" y="3809880"/>
            <a:ext cx="2286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仗义、明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91440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91440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9907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838080"/>
            <a:ext cx="3581280" cy="703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人物分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0014" descr=""/>
          <p:cNvPicPr/>
          <p:nvPr/>
        </p:nvPicPr>
        <p:blipFill>
          <a:blip r:embed="rId2">
            <a:lum contrast="-18000"/>
          </a:blip>
          <a:stretch/>
        </p:blipFill>
        <p:spPr>
          <a:xfrm>
            <a:off x="609480" y="4114800"/>
            <a:ext cx="1219320" cy="1447920"/>
          </a:xfrm>
          <a:prstGeom prst="rect">
            <a:avLst/>
          </a:prstGeom>
          <a:ln w="0">
            <a:noFill/>
          </a:ln>
        </p:spPr>
      </p:pic>
      <p:pic>
        <p:nvPicPr>
          <p:cNvPr id="112" name="0020" descr=""/>
          <p:cNvPicPr/>
          <p:nvPr/>
        </p:nvPicPr>
        <p:blipFill>
          <a:blip r:embed="rId3">
            <a:lum contrast="-18000"/>
          </a:blip>
          <a:stretch/>
        </p:blipFill>
        <p:spPr>
          <a:xfrm>
            <a:off x="609480" y="685800"/>
            <a:ext cx="137160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0011" descr=""/>
          <p:cNvPicPr/>
          <p:nvPr/>
        </p:nvPicPr>
        <p:blipFill>
          <a:blip r:embed="rId4">
            <a:lum contrast="-18000"/>
          </a:blip>
          <a:stretch/>
        </p:blipFill>
        <p:spPr>
          <a:xfrm>
            <a:off x="685800" y="2438280"/>
            <a:ext cx="1219320" cy="16002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89880" y="259092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婉转、持重沉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52280" y="1600200"/>
            <a:ext cx="7467840" cy="38862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3505320" cy="990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 Black"/>
                <a:ea typeface="华文新魏"/>
              </a:rPr>
              <a:t>分角色朗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4648320" cy="43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人扮演—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、妈妈、爸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叙述部分—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余同学齐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30600" y="2971800"/>
            <a:ext cx="3851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准语气、语调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摹拟表情动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2133720"/>
            <a:ext cx="533160" cy="2808000"/>
          </a:xfrm>
          <a:custGeom>
            <a:avLst/>
            <a:gdLst>
              <a:gd name="textAreaLeft" fmla="*/ 0 w 533160"/>
              <a:gd name="textAreaRight" fmla="*/ 192600 w 533160"/>
              <a:gd name="textAreaTop" fmla="*/ 73080 h 2808000"/>
              <a:gd name="textAreaBottom" fmla="*/ 2734920 h 28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914400"/>
            <a:ext cx="2819160" cy="703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 </a:t>
            </a:r>
            <a:r>
              <a:rPr b="1" lang="zh-CN" sz="4000" spc="-1" strike="noStrike">
                <a:solidFill>
                  <a:srgbClr val="0000cc"/>
                </a:solidFill>
                <a:latin typeface="华文新魏"/>
                <a:ea typeface="华文新魏"/>
              </a:rPr>
              <a:t>朗 读 要 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822960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7543800" cy="4876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562720" y="2971800"/>
            <a:ext cx="14475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a44d3"/>
                </a:solidFill>
                <a:latin typeface="Times New Roman"/>
                <a:ea typeface="华文新魏"/>
              </a:rPr>
              <a:t>？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380880"/>
            <a:ext cx="2463840" cy="703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讨论交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1219320"/>
            <a:ext cx="75326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亲爱的同学们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们好！终于盼到了能向你们求助的这一刻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有多烦恼、多痛苦，我不再赘述。我现在急需你们帮我解开思想上的疙瘩，我把它列成了几个小问题，附在下一页。我热切地盼望着你们为我出主意，帮我走出困境。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祝你们学习愉快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你们的新朋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                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003.12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219320"/>
            <a:ext cx="7543800" cy="4800600"/>
          </a:xfrm>
          <a:prstGeom prst="foldedCorner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8T10:21:40Z</dcterms:created>
  <dc:creator>wutao</dc:creator>
  <dc:description/>
  <dc:language>en-US</dc:language>
  <cp:lastModifiedBy>zyb</cp:lastModifiedBy>
  <dcterms:modified xsi:type="dcterms:W3CDTF">2004-12-03T01:55:01Z</dcterms:modified>
  <cp:revision>100</cp:revision>
  <dc:subject/>
  <dc:title>PowerPoint 演示文稿</dc:title>
</cp:coreProperties>
</file>